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31.gif" ContentType="image/gif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3456-299B-4D98-B5BA-7ED605AB2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 завершение, мне бы хотелось еще раз остановиться на принципах цивилизованного маркетинга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а. Главная идея – откажитесь от спама. Он вреден и не-эффектив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е разрешение у получателей Ваших писем (или используйте корректный список рассыл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ите адресата о том, откуда у Вас его адрес и почему Вы пишите 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ьте возможность отказаться от рас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скрывайте свои координаты (адрес отправителя и контак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житесь от слепых массовых рассылок, действуйте ад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ите за заголовком Вашего письма (избегайте кричащих симво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ите ЗАКОН О РЕКЛАМ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водите пользователя в заблуж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0036-BA5D-4EBC-8AB5-B2C7CFF06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лияние на взаимоотношения с клиентами оказывают 3 ключевых фактора маркетинговых коммуникаций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астота брендированного контакта (сколько раз в неделю клиент получает сообщение от бренд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ип содержания (специальные предложения или просто информац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ункциональность (насколько просто найти информацию на сайт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Эти коммуникации могут и должны быть максимально персонализированы: в зависимости от профиля клиента, компания может доносить до них разные сообщения и использовать для этого различные каналы. Кроме того, интернет и электронная почта позволяют сделать эти коммуникации интерактивными, то есть предоставить покупателю возможность поиска информации, составлять запросы, делиться комментариями и еще много путей взаимодействия с компанией или с другими покупателя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езные Интернет-сервисы позволяют кардинально улучшить взаимоотношения с покупателями. Польза может быть самая разнообразна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экономленное врем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экономленные деньг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езная информ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обство обслуж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влеч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128E-8E19-4A7E-B6D2-1A43C256A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D3ED-290B-4C71-9027-C89A94133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CBEF-A36F-411E-9407-7CF06F0C0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9810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9810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41306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41306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91404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840" y="6400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FE76-069F-4F42-B271-32892B6C47F9}" type="slidenum">
              <a:rPr b="1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ni.ru/news/sport/2002/1/25/4950.html" TargetMode="Externa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9280" y="2276640"/>
            <a:ext cx="8702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800000"/>
                </a:solidFill>
                <a:latin typeface="Arial"/>
              </a:rPr>
              <a:t>ДМ в интернет-технологиях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" y="358920"/>
            <a:ext cx="30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е. 16.09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6520" y="5589720"/>
            <a:ext cx="24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рилл Ч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s@subscrib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48000" y="3429000"/>
            <a:ext cx="193356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Дайте больше информации!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нформация нужна людям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 не только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До заказа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«изобразите» на сайте вашего лучшего продавц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тветы на вопрос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лезные сове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кции и событ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овости и новин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бзоры и аналити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Юмор и интеракти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осле заказа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«изобразите» на сайте самого внимательного менеджера клиентской служб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ерсональное вним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чета / Напомин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грузки / Возвра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копительные программ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554960" y="2781360"/>
            <a:ext cx="76212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402240" y="2852640"/>
            <a:ext cx="762120" cy="7146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322960" y="2781360"/>
            <a:ext cx="676080" cy="809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221000" y="2984400"/>
            <a:ext cx="762120" cy="457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5867280" y="4941720"/>
            <a:ext cx="1714680" cy="10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Создайте общество лояльности!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Чтобы научиться слушать?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брать анке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ценить реакцию на «контент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лучить новые идеи (вскрыть новые проблемы?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Чтобы научиться говорить (когда есть, что сказать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ссыл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ог на сайт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стинг 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@-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нференци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ткройте «сарафанное радио» (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iral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vibrant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нлайн-дискуссия (форум,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@-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рупп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граммы «Отправь коллег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Ядро аудитории сайта – наиболее лояльные и активные потребители (чаще всего клиенты, партнеры, сотрудники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здайте «Виртуальную экспертную группу»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ольнонаемн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одерируем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ощряем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885080" y="19162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812000" y="2997360"/>
            <a:ext cx="762120" cy="7333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6804000" y="1916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7308720" y="4005360"/>
            <a:ext cx="762120" cy="514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7308720" y="5157720"/>
            <a:ext cx="989280" cy="1008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6732720" y="3068640"/>
            <a:ext cx="76176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Соблюдайте </a:t>
            </a: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Privacy</a:t>
            </a: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!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713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СОГЛАСИЕ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ДОВЕРИЕ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ОТНОШЕНИЯ </a:t>
            </a:r>
            <a:r>
              <a:rPr b="1" lang="ru-RU" sz="20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ВЫСОКИЙ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RO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Действуйте адресно и персональн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Рассылайте только тем, кто подписался (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Double Opt-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Рассылайте им только то, на что они подписалис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Не ставьте незнакомых людей в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“To:”</a:t>
            </a: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“CC:” </a:t>
            </a: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(и в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“BCC: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Только реальное имя отправителя (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никаких </a:t>
            </a:r>
            <a:r>
              <a:rPr b="1" lang="en-US" sz="2000" spc="-1" strike="noStrike" u="sng">
                <a:solidFill>
                  <a:srgbClr val="99cc00"/>
                </a:solidFill>
                <a:uFillTx/>
                <a:latin typeface="Arial"/>
              </a:rPr>
              <a:t>fsdhjh@free.net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Дайте возможность отказаться от рассылки (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unsubscribe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Арендуйте внимательно! (проверьте процесс подписки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Никогда не покупайте базы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e-mail </a:t>
            </a: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адресов для рассылки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0"/>
            <a:ext cx="2494080" cy="15382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50920" y="1628640"/>
            <a:ext cx="648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ЗАКОН ПЕРЕХОДА КАЧЕСТВА В КОЛИЧЕ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Тестируйте кампании перед стартом!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Тестирование помогает планировать и оптимизировать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Что тестировать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головки (Слоганы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дложения (УТП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изуальные элемен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кламные площад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кламные позиции, ключевые слова, параметры выбор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кламные форма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ханизм обратной связи (промо-страница, БД,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ll-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цент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лиентский серви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бработка купонов, жалобы клиентов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читывайте тестовый период при медиапланировании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ам понадобится время, чтобы внести корректив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169040" y="2133720"/>
            <a:ext cx="1454400" cy="1726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236000" y="3860640"/>
            <a:ext cx="1152360" cy="11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Собирайте статистику с умом!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7201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клама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раффик (Источник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сетители («Сезонность», увеличение «ядра»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лючевые слова, которые привлекают посетител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величение БД клиентов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раффик (Целевые страницы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нкет /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сетител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нкет / Рекламная площад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Электронная коммерция /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купатели (Источники, пути, время на страницах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нверсия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#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зов /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сетителей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тери (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зов /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явок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Клиентский сервис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(CRM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етители (Новые vs. Старые vs. Странн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аффик (Точки входа и точки вых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948360" y="2781360"/>
            <a:ext cx="1621080" cy="1260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4920" y="1700280"/>
            <a:ext cx="1727280" cy="720720"/>
          </a:xfrm>
          <a:custGeom>
            <a:avLst/>
            <a:gdLst>
              <a:gd name="textAreaLeft" fmla="*/ 250200 w 1727280"/>
              <a:gd name="textAreaRight" fmla="*/ 1477080 w 1727280"/>
              <a:gd name="textAreaTop" fmla="*/ 104400 h 720720"/>
              <a:gd name="textAreaBottom" fmla="*/ 616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118" y="21600"/>
                </a:lnTo>
                <a:lnTo>
                  <a:pt x="2482" y="21600"/>
                </a:lnTo>
                <a:close/>
              </a:path>
            </a:pathLst>
          </a:cu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4000" y="2781360"/>
            <a:ext cx="1295280" cy="576360"/>
          </a:xfrm>
          <a:custGeom>
            <a:avLst/>
            <a:gdLst>
              <a:gd name="textAreaLeft" fmla="*/ 190440 w 1295280"/>
              <a:gd name="textAreaRight" fmla="*/ 1104840 w 1295280"/>
              <a:gd name="textAreaTop" fmla="*/ 84600 h 576360"/>
              <a:gd name="textAreaBottom" fmla="*/ 491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032" y="21600"/>
                </a:lnTo>
                <a:lnTo>
                  <a:pt x="2568" y="21600"/>
                </a:lnTo>
                <a:close/>
              </a:path>
            </a:pathLst>
          </a:cu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8360" y="3789360"/>
            <a:ext cx="1008000" cy="576360"/>
          </a:xfrm>
          <a:custGeom>
            <a:avLst/>
            <a:gdLst>
              <a:gd name="textAreaLeft" fmla="*/ 195480 w 1008000"/>
              <a:gd name="textAreaRight" fmla="*/ 812520 w 1008000"/>
              <a:gd name="textAreaTop" fmla="*/ 111600 h 576360"/>
              <a:gd name="textAreaBottom" fmla="*/ 46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212" y="21600"/>
                </a:lnTo>
                <a:lnTo>
                  <a:pt x="4388" y="21600"/>
                </a:lnTo>
                <a:close/>
              </a:path>
            </a:pathLst>
          </a:cu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4797360"/>
            <a:ext cx="574560" cy="576360"/>
          </a:xfrm>
          <a:custGeom>
            <a:avLst/>
            <a:gdLst>
              <a:gd name="textAreaLeft" fmla="*/ 111240 w 574560"/>
              <a:gd name="textAreaRight" fmla="*/ 463320 w 574560"/>
              <a:gd name="textAreaTop" fmla="*/ 111600 h 576360"/>
              <a:gd name="textAreaBottom" fmla="*/ 46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212" y="21600"/>
                </a:lnTo>
                <a:lnTo>
                  <a:pt x="4388" y="21600"/>
                </a:lnTo>
                <a:close/>
              </a:path>
            </a:pathLst>
          </a:cu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9280" y="1484280"/>
            <a:ext cx="720720" cy="4105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042920" y="1484280"/>
            <a:ext cx="720720" cy="4105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8360" y="1484280"/>
            <a:ext cx="503280" cy="4105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971640" y="1484280"/>
            <a:ext cx="504720" cy="4105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5160" y="1484280"/>
            <a:ext cx="997200" cy="115272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4000" y="1484280"/>
            <a:ext cx="863280" cy="223200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00000" y="1484280"/>
            <a:ext cx="432000" cy="324000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24000" y="1557360"/>
            <a:ext cx="863280" cy="295128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95280" y="1484280"/>
            <a:ext cx="1008000" cy="367344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26920" y="1484280"/>
            <a:ext cx="432000" cy="388944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11280" y="5661000"/>
            <a:ext cx="720720" cy="5270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1763640" y="1628640"/>
            <a:ext cx="295200" cy="360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1763640" y="2708280"/>
            <a:ext cx="295200" cy="360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1763640" y="3789360"/>
            <a:ext cx="295200" cy="360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1763640" y="4869000"/>
            <a:ext cx="29520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Оптимизируйте</a:t>
            </a: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и выращивайте </a:t>
            </a: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ROI</a:t>
            </a: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!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819440" y="1773360"/>
            <a:ext cx="7648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еклама,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1000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целевых контакт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1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целевой откли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1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целевое действие на сайт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Увеличение БД клиентов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авильная анке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бновление анкет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одписка (согласие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M |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аяв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аказ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плаченный закааз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лиентский сервис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CRM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величение лояльност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позитивное отношение при проведении опро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оянный заказч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величение частоты / суммы заказо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$Cross-, Up-Sa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влечение «знакомых» (вирусный маркетин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796000" y="1916280"/>
          <a:ext cx="3095640" cy="1699920"/>
        </p:xfrm>
        <a:graphic>
          <a:graphicData uri="http://schemas.openxmlformats.org/drawingml/2006/table">
            <a:tbl>
              <a:tblPr/>
              <a:tblGrid>
                <a:gridCol w="1871640"/>
                <a:gridCol w="1224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ламный ка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$ / L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н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а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179280" y="1700280"/>
            <a:ext cx="1582920" cy="720720"/>
          </a:xfrm>
          <a:custGeom>
            <a:avLst/>
            <a:gdLst>
              <a:gd name="textAreaLeft" fmla="*/ 229320 w 1582920"/>
              <a:gd name="textAreaRight" fmla="*/ 1353600 w 1582920"/>
              <a:gd name="textAreaTop" fmla="*/ 104400 h 720720"/>
              <a:gd name="textAreaBottom" fmla="*/ 616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118" y="21600"/>
                </a:lnTo>
                <a:lnTo>
                  <a:pt x="2482" y="21600"/>
                </a:lnTo>
                <a:close/>
              </a:path>
            </a:pathLst>
          </a:cu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5280" y="2781360"/>
            <a:ext cx="1152360" cy="576360"/>
          </a:xfrm>
          <a:custGeom>
            <a:avLst/>
            <a:gdLst>
              <a:gd name="textAreaLeft" fmla="*/ 169200 w 1152360"/>
              <a:gd name="textAreaRight" fmla="*/ 983160 w 1152360"/>
              <a:gd name="textAreaTop" fmla="*/ 84600 h 576360"/>
              <a:gd name="textAreaBottom" fmla="*/ 491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032" y="21600"/>
                </a:lnTo>
                <a:lnTo>
                  <a:pt x="2568" y="21600"/>
                </a:lnTo>
                <a:close/>
              </a:path>
            </a:pathLst>
          </a:cu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3789360"/>
            <a:ext cx="1008000" cy="576360"/>
          </a:xfrm>
          <a:custGeom>
            <a:avLst/>
            <a:gdLst>
              <a:gd name="textAreaLeft" fmla="*/ 195480 w 1008000"/>
              <a:gd name="textAreaRight" fmla="*/ 812520 w 1008000"/>
              <a:gd name="textAreaTop" fmla="*/ 111600 h 576360"/>
              <a:gd name="textAreaBottom" fmla="*/ 46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212" y="21600"/>
                </a:lnTo>
                <a:lnTo>
                  <a:pt x="4388" y="21600"/>
                </a:lnTo>
                <a:close/>
              </a:path>
            </a:pathLst>
          </a:cu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4360" y="4797360"/>
            <a:ext cx="574560" cy="576360"/>
          </a:xfrm>
          <a:custGeom>
            <a:avLst/>
            <a:gdLst>
              <a:gd name="textAreaLeft" fmla="*/ 111240 w 574560"/>
              <a:gd name="textAreaRight" fmla="*/ 463320 w 574560"/>
              <a:gd name="textAreaTop" fmla="*/ 111600 h 576360"/>
              <a:gd name="textAreaBottom" fmla="*/ 46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212" y="21600"/>
                </a:lnTo>
                <a:lnTo>
                  <a:pt x="4388" y="21600"/>
                </a:lnTo>
                <a:close/>
              </a:path>
            </a:pathLst>
          </a:cu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484280"/>
            <a:ext cx="649080" cy="4105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042920" y="1484280"/>
            <a:ext cx="720720" cy="4105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8360" y="1484280"/>
            <a:ext cx="503280" cy="4105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971640" y="1484280"/>
            <a:ext cx="504720" cy="4105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5160" y="1484280"/>
            <a:ext cx="997200" cy="115272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24000" y="1484280"/>
            <a:ext cx="863280" cy="223200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00000" y="1484280"/>
            <a:ext cx="432000" cy="324000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24000" y="1557360"/>
            <a:ext cx="863280" cy="295128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5280" y="1484280"/>
            <a:ext cx="1008000" cy="367344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26920" y="1484280"/>
            <a:ext cx="432000" cy="388944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2560" y="5661000"/>
            <a:ext cx="720720" cy="5270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900080" y="1773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900080" y="2781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1900080" y="371808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1893960" y="4724280"/>
            <a:ext cx="295200" cy="3603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0" y="2421000"/>
            <a:ext cx="1979640" cy="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357720"/>
            <a:ext cx="1978200" cy="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365720"/>
            <a:ext cx="1908000" cy="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373720"/>
            <a:ext cx="1908000" cy="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2421000"/>
            <a:ext cx="0" cy="936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19280" y="2421000"/>
            <a:ext cx="0" cy="936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4000" y="3429000"/>
            <a:ext cx="0" cy="936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19280" y="3429000"/>
            <a:ext cx="0" cy="936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4437000"/>
            <a:ext cx="0" cy="15130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19280" y="4437000"/>
            <a:ext cx="0" cy="15130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6"/>
          <a:stretch/>
        </p:blipFill>
        <p:spPr>
          <a:xfrm>
            <a:off x="0" y="5661000"/>
            <a:ext cx="720720" cy="5270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7"/>
          <a:stretch/>
        </p:blipFill>
        <p:spPr>
          <a:xfrm>
            <a:off x="1258920" y="5661000"/>
            <a:ext cx="720720" cy="5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Сколько вы платите за результат?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79280" y="2147760"/>
            <a:ext cx="8856720" cy="27655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Заведите себе </a:t>
            </a: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ROI</a:t>
            </a: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 - калькулятор!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042920" y="1773360"/>
          <a:ext cx="7201080" cy="3035160"/>
        </p:xfrm>
        <a:graphic>
          <a:graphicData uri="http://schemas.openxmlformats.org/drawingml/2006/table">
            <a:tbl>
              <a:tblPr/>
              <a:tblGrid>
                <a:gridCol w="4235400"/>
                <a:gridCol w="296568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кламный ка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$ / </a:t>
                      </a: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Потенц. кли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t 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9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l-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б-сай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исковые ма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-in E-Mail рассы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кетин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,50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50920" y="5013360"/>
            <a:ext cx="856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Горяча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линия поддержки и консультаци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экспресс-аудит Вашего сайта: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events@subscribe.ru?subject=DMXX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5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Arial Black"/>
              </a:rPr>
              <a:t>Спасибо за внимание!!!</a:t>
            </a:r>
            <a:endParaRPr b="0" lang="en-US" sz="38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83" name=""/>
          <p:cNvSpPr/>
          <p:nvPr/>
        </p:nvSpPr>
        <p:spPr>
          <a:xfrm>
            <a:off x="539640" y="1700280"/>
            <a:ext cx="655344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www.marketingpro.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www.subscribe.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www.optimization.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Arial"/>
              </a:rPr>
              <a:t>http://direct.yandex.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www.clickz.c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www.marketinsherpa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www.marketingvox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89000"/>
            <a:ext cx="8763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 Black"/>
              </a:rPr>
              <a:t>Интегрированный маркетинг.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3654360" y="1557360"/>
            <a:ext cx="1854360" cy="641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здание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азы д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алго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720" y="2265480"/>
            <a:ext cx="2087640" cy="2241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ренд-со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Последовательное позиционирование бренда, большая красивая идея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бота со С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бота с коммьюнит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терактивный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Творческий подход к оформлению обстоятельств контакта с брендом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7080" y="4797360"/>
            <a:ext cx="1871640" cy="459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истем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ношений с брен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041560"/>
            <a:ext cx="2087640" cy="733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WOT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анализ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определение функций МК, независящих от канала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129200"/>
            <a:ext cx="2087640" cy="733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ждепартаметная оптим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Мониторинг и оценка качества взаимоотношений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брендом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5734080"/>
            <a:ext cx="1871640" cy="459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дажи, Прибыль,  Капит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360" y="2565360"/>
            <a:ext cx="2159280" cy="16167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Рекла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лиентский серви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irect 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Упак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Личные продаж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ublic Rel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ромо-а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Спонсор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ыставки и т.д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96360" y="2924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6" idx="0"/>
          </p:cNvCxnSpPr>
          <p:nvPr/>
        </p:nvCxnSpPr>
        <p:spPr>
          <a:xfrm>
            <a:off x="5508720" y="1882440"/>
            <a:ext cx="2053080" cy="3834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6" idx="2"/>
            <a:endCxn id="57" idx="3"/>
          </p:cNvCxnSpPr>
          <p:nvPr/>
        </p:nvCxnSpPr>
        <p:spPr>
          <a:xfrm rot="5400000">
            <a:off x="6227640" y="3789360"/>
            <a:ext cx="614880" cy="20530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1"/>
            <a:endCxn id="60" idx="1"/>
          </p:cNvCxnSpPr>
          <p:nvPr/>
        </p:nvCxnSpPr>
        <p:spPr>
          <a:xfrm flipV="1" rot="10800000">
            <a:off x="3563280" y="5122440"/>
            <a:ext cx="73800" cy="845280"/>
          </a:xfrm>
          <a:prstGeom prst="curvedConnector5">
            <a:avLst>
              <a:gd name="adj1" fmla="val 1203921"/>
              <a:gd name="adj2" fmla="val 49978"/>
              <a:gd name="adj3" fmla="val 120392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7" idx="1"/>
            <a:endCxn id="59" idx="2"/>
          </p:cNvCxnSpPr>
          <p:nvPr/>
        </p:nvCxnSpPr>
        <p:spPr>
          <a:xfrm rot="10800000">
            <a:off x="1512000" y="4868280"/>
            <a:ext cx="2125080" cy="254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9" idx="0"/>
            <a:endCxn id="58" idx="2"/>
          </p:cNvCxnSpPr>
          <p:nvPr/>
        </p:nvCxnSpPr>
        <p:spPr>
          <a:xfrm flipV="1">
            <a:off x="1512360" y="2781000"/>
            <a:ext cx="1080" cy="13485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8" idx="0"/>
            <a:endCxn id="55" idx="1"/>
          </p:cNvCxnSpPr>
          <p:nvPr/>
        </p:nvCxnSpPr>
        <p:spPr>
          <a:xfrm flipH="1" flipV="1" rot="5400000">
            <a:off x="2503800" y="890640"/>
            <a:ext cx="159480" cy="2142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5" idx="2"/>
            <a:endCxn id="61" idx="0"/>
          </p:cNvCxnSpPr>
          <p:nvPr/>
        </p:nvCxnSpPr>
        <p:spPr>
          <a:xfrm flipH="1">
            <a:off x="4571640" y="2206800"/>
            <a:ext cx="10080" cy="358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>
            <a:stCxn id="61" idx="2"/>
            <a:endCxn id="57" idx="0"/>
          </p:cNvCxnSpPr>
          <p:nvPr/>
        </p:nvCxnSpPr>
        <p:spPr>
          <a:xfrm>
            <a:off x="4572000" y="4191120"/>
            <a:ext cx="2160" cy="606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1" idx="3"/>
            <a:endCxn id="56" idx="1"/>
          </p:cNvCxnSpPr>
          <p:nvPr/>
        </p:nvCxnSpPr>
        <p:spPr>
          <a:xfrm>
            <a:off x="5651280" y="3378240"/>
            <a:ext cx="8658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" name=""/>
          <p:cNvCxnSpPr>
            <a:stCxn id="58" idx="3"/>
            <a:endCxn id="61" idx="1"/>
          </p:cNvCxnSpPr>
          <p:nvPr/>
        </p:nvCxnSpPr>
        <p:spPr>
          <a:xfrm>
            <a:off x="2555640" y="2411280"/>
            <a:ext cx="937080" cy="967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" name=""/>
          <p:cNvCxnSpPr>
            <a:stCxn id="59" idx="3"/>
            <a:endCxn id="61" idx="1"/>
          </p:cNvCxnSpPr>
          <p:nvPr/>
        </p:nvCxnSpPr>
        <p:spPr>
          <a:xfrm flipV="1">
            <a:off x="2555640" y="3377520"/>
            <a:ext cx="937080" cy="1121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468360" y="2997360"/>
            <a:ext cx="2087640" cy="962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earch</a:t>
            </a:r>
            <a:br>
              <a:rPr sz="12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Offline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опрос /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Анализ посещаемости сай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Конкурентный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анализ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Поисковый анализ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Online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опрос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РАБОТА С КЛИЕНТАМИ В 21 ВЕКЕ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4002120" y="1628640"/>
            <a:ext cx="1131840" cy="4343400"/>
          </a:xfrm>
          <a:prstGeom prst="downArrow">
            <a:avLst>
              <a:gd name="adj1" fmla="val 46556"/>
              <a:gd name="adj2" fmla="val 70957"/>
            </a:avLst>
          </a:prstGeom>
          <a:gradFill rotWithShape="0">
            <a:gsLst>
              <a:gs pos="0">
                <a:srgbClr val="99cc00">
                  <a:alpha val="80392"/>
                </a:srgbClr>
              </a:gs>
              <a:gs pos="50000">
                <a:srgbClr val="dfff85">
                  <a:alpha val="80392"/>
                </a:srgbClr>
              </a:gs>
              <a:gs pos="100000">
                <a:srgbClr val="99cc00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9160" y="2085840"/>
            <a:ext cx="2438280" cy="2362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44280">
            <a:solidFill>
              <a:srgbClr val="70a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45040" y="2938320"/>
            <a:ext cx="866520" cy="1800"/>
          </a:xfrm>
          <a:prstGeom prst="line">
            <a:avLst/>
          </a:prstGeom>
          <a:ln w="38160">
            <a:solidFill>
              <a:srgbClr val="70a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09960" y="3463920"/>
            <a:ext cx="1336680" cy="1440"/>
          </a:xfrm>
          <a:prstGeom prst="line">
            <a:avLst/>
          </a:prstGeom>
          <a:ln w="38160">
            <a:solidFill>
              <a:srgbClr val="70a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73440" y="3922560"/>
            <a:ext cx="1809720" cy="1800"/>
          </a:xfrm>
          <a:prstGeom prst="line">
            <a:avLst/>
          </a:prstGeom>
          <a:ln w="38160">
            <a:solidFill>
              <a:srgbClr val="70a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35520" y="3533760"/>
            <a:ext cx="153720" cy="33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167360" y="3533760"/>
            <a:ext cx="153720" cy="33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397400" y="3533760"/>
            <a:ext cx="154080" cy="333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630680" y="3533760"/>
            <a:ext cx="154080" cy="333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862520" y="3533760"/>
            <a:ext cx="154080" cy="333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5092560" y="3533760"/>
            <a:ext cx="154080" cy="333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755880" y="4010040"/>
            <a:ext cx="154080" cy="324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3938760" y="4010040"/>
            <a:ext cx="155520" cy="324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4125960" y="4010040"/>
            <a:ext cx="155520" cy="324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4314960" y="4010040"/>
            <a:ext cx="153720" cy="324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>
            <a:off x="4500720" y="4010040"/>
            <a:ext cx="155520" cy="324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4687920" y="4010040"/>
            <a:ext cx="154080" cy="32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3"/>
          <a:stretch/>
        </p:blipFill>
        <p:spPr>
          <a:xfrm>
            <a:off x="4875120" y="4010040"/>
            <a:ext cx="155520" cy="324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4"/>
          <a:stretch/>
        </p:blipFill>
        <p:spPr>
          <a:xfrm>
            <a:off x="5062680" y="4010040"/>
            <a:ext cx="155520" cy="324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5"/>
          <a:stretch/>
        </p:blipFill>
        <p:spPr>
          <a:xfrm>
            <a:off x="5249880" y="4010040"/>
            <a:ext cx="154080" cy="32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6"/>
          <a:stretch/>
        </p:blipFill>
        <p:spPr>
          <a:xfrm>
            <a:off x="4402080" y="3030480"/>
            <a:ext cx="157320" cy="341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7"/>
          <a:stretch/>
        </p:blipFill>
        <p:spPr>
          <a:xfrm>
            <a:off x="4627440" y="3030480"/>
            <a:ext cx="157320" cy="341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8"/>
          <a:stretch/>
        </p:blipFill>
        <p:spPr>
          <a:xfrm>
            <a:off x="4853160" y="3030480"/>
            <a:ext cx="158400" cy="341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9"/>
          <a:stretch/>
        </p:blipFill>
        <p:spPr>
          <a:xfrm>
            <a:off x="4172040" y="3030480"/>
            <a:ext cx="156960" cy="341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94120" y="148428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Информация </a:t>
            </a:r>
            <a:br>
              <a:rPr sz="1400"/>
            </a:b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и серв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89520" y="5435640"/>
            <a:ext cx="116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Откл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отно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325680" y="4456080"/>
            <a:ext cx="960480" cy="1676520"/>
            <a:chOff x="3325680" y="4456080"/>
            <a:chExt cx="960480" cy="1676520"/>
          </a:xfrm>
        </p:grpSpPr>
        <p:sp>
          <p:nvSpPr>
            <p:cNvPr id="103" name=""/>
            <p:cNvSpPr/>
            <p:nvPr/>
          </p:nvSpPr>
          <p:spPr>
            <a:xfrm>
              <a:off x="3651480" y="4623840"/>
              <a:ext cx="293400" cy="219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5680" y="4456080"/>
              <a:ext cx="960480" cy="1676520"/>
            </a:xfrm>
            <a:custGeom>
              <a:avLst/>
              <a:gdLst/>
              <a:ahLst/>
              <a:rect l="l" t="t" r="r" b="b"/>
              <a:pathLst>
                <a:path w="1315" h="2294">
                  <a:moveTo>
                    <a:pt x="407" y="887"/>
                  </a:moveTo>
                  <a:cubicBezTo>
                    <a:pt x="412" y="1140"/>
                    <a:pt x="405" y="1979"/>
                    <a:pt x="402" y="2202"/>
                  </a:cubicBezTo>
                  <a:cubicBezTo>
                    <a:pt x="423" y="2294"/>
                    <a:pt x="632" y="2280"/>
                    <a:pt x="625" y="2204"/>
                  </a:cubicBezTo>
                  <a:cubicBezTo>
                    <a:pt x="625" y="1761"/>
                    <a:pt x="618" y="1464"/>
                    <a:pt x="625" y="1317"/>
                  </a:cubicBezTo>
                  <a:cubicBezTo>
                    <a:pt x="630" y="1283"/>
                    <a:pt x="667" y="1294"/>
                    <a:pt x="667" y="1317"/>
                  </a:cubicBezTo>
                  <a:cubicBezTo>
                    <a:pt x="674" y="1788"/>
                    <a:pt x="669" y="2039"/>
                    <a:pt x="674" y="2200"/>
                  </a:cubicBezTo>
                  <a:cubicBezTo>
                    <a:pt x="674" y="2289"/>
                    <a:pt x="892" y="2289"/>
                    <a:pt x="892" y="2200"/>
                  </a:cubicBezTo>
                  <a:cubicBezTo>
                    <a:pt x="890" y="1542"/>
                    <a:pt x="890" y="887"/>
                    <a:pt x="890" y="887"/>
                  </a:cubicBezTo>
                  <a:cubicBezTo>
                    <a:pt x="1032" y="892"/>
                    <a:pt x="1098" y="872"/>
                    <a:pt x="1113" y="807"/>
                  </a:cubicBezTo>
                  <a:cubicBezTo>
                    <a:pt x="1193" y="467"/>
                    <a:pt x="1246" y="315"/>
                    <a:pt x="1299" y="122"/>
                  </a:cubicBezTo>
                  <a:cubicBezTo>
                    <a:pt x="1315" y="62"/>
                    <a:pt x="1161" y="0"/>
                    <a:pt x="1113" y="113"/>
                  </a:cubicBezTo>
                  <a:cubicBezTo>
                    <a:pt x="989" y="542"/>
                    <a:pt x="1010" y="482"/>
                    <a:pt x="989" y="542"/>
                  </a:cubicBezTo>
                  <a:cubicBezTo>
                    <a:pt x="968" y="602"/>
                    <a:pt x="944" y="594"/>
                    <a:pt x="893" y="595"/>
                  </a:cubicBezTo>
                  <a:cubicBezTo>
                    <a:pt x="794" y="598"/>
                    <a:pt x="644" y="593"/>
                    <a:pt x="400" y="593"/>
                  </a:cubicBezTo>
                  <a:cubicBezTo>
                    <a:pt x="359" y="586"/>
                    <a:pt x="342" y="589"/>
                    <a:pt x="324" y="552"/>
                  </a:cubicBezTo>
                  <a:cubicBezTo>
                    <a:pt x="306" y="515"/>
                    <a:pt x="315" y="536"/>
                    <a:pt x="193" y="115"/>
                  </a:cubicBezTo>
                  <a:cubicBezTo>
                    <a:pt x="172" y="28"/>
                    <a:pt x="5" y="37"/>
                    <a:pt x="0" y="117"/>
                  </a:cubicBezTo>
                  <a:cubicBezTo>
                    <a:pt x="99" y="457"/>
                    <a:pt x="198" y="798"/>
                    <a:pt x="198" y="798"/>
                  </a:cubicBezTo>
                  <a:cubicBezTo>
                    <a:pt x="236" y="919"/>
                    <a:pt x="363" y="871"/>
                    <a:pt x="407" y="887"/>
                  </a:cubicBez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910040" y="4457880"/>
            <a:ext cx="960480" cy="1676160"/>
            <a:chOff x="4910040" y="4457880"/>
            <a:chExt cx="960480" cy="1676160"/>
          </a:xfrm>
        </p:grpSpPr>
        <p:sp>
          <p:nvSpPr>
            <p:cNvPr id="106" name=""/>
            <p:cNvSpPr/>
            <p:nvPr/>
          </p:nvSpPr>
          <p:spPr>
            <a:xfrm>
              <a:off x="5235840" y="4625640"/>
              <a:ext cx="293400" cy="219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10040" y="4457880"/>
              <a:ext cx="960480" cy="1676160"/>
            </a:xfrm>
            <a:custGeom>
              <a:avLst/>
              <a:gdLst/>
              <a:ahLst/>
              <a:rect l="l" t="t" r="r" b="b"/>
              <a:pathLst>
                <a:path w="1315" h="2294">
                  <a:moveTo>
                    <a:pt x="407" y="887"/>
                  </a:moveTo>
                  <a:cubicBezTo>
                    <a:pt x="412" y="1140"/>
                    <a:pt x="405" y="1979"/>
                    <a:pt x="402" y="2202"/>
                  </a:cubicBezTo>
                  <a:cubicBezTo>
                    <a:pt x="423" y="2294"/>
                    <a:pt x="632" y="2280"/>
                    <a:pt x="625" y="2204"/>
                  </a:cubicBezTo>
                  <a:cubicBezTo>
                    <a:pt x="625" y="1761"/>
                    <a:pt x="618" y="1464"/>
                    <a:pt x="625" y="1317"/>
                  </a:cubicBezTo>
                  <a:cubicBezTo>
                    <a:pt x="630" y="1283"/>
                    <a:pt x="667" y="1294"/>
                    <a:pt x="667" y="1317"/>
                  </a:cubicBezTo>
                  <a:cubicBezTo>
                    <a:pt x="674" y="1788"/>
                    <a:pt x="669" y="2039"/>
                    <a:pt x="674" y="2200"/>
                  </a:cubicBezTo>
                  <a:cubicBezTo>
                    <a:pt x="674" y="2289"/>
                    <a:pt x="892" y="2289"/>
                    <a:pt x="892" y="2200"/>
                  </a:cubicBezTo>
                  <a:cubicBezTo>
                    <a:pt x="890" y="1542"/>
                    <a:pt x="890" y="887"/>
                    <a:pt x="890" y="887"/>
                  </a:cubicBezTo>
                  <a:cubicBezTo>
                    <a:pt x="1032" y="892"/>
                    <a:pt x="1098" y="872"/>
                    <a:pt x="1113" y="807"/>
                  </a:cubicBezTo>
                  <a:cubicBezTo>
                    <a:pt x="1193" y="467"/>
                    <a:pt x="1246" y="315"/>
                    <a:pt x="1299" y="122"/>
                  </a:cubicBezTo>
                  <a:cubicBezTo>
                    <a:pt x="1315" y="62"/>
                    <a:pt x="1161" y="0"/>
                    <a:pt x="1113" y="113"/>
                  </a:cubicBezTo>
                  <a:cubicBezTo>
                    <a:pt x="989" y="542"/>
                    <a:pt x="1010" y="482"/>
                    <a:pt x="989" y="542"/>
                  </a:cubicBezTo>
                  <a:cubicBezTo>
                    <a:pt x="968" y="602"/>
                    <a:pt x="944" y="594"/>
                    <a:pt x="893" y="595"/>
                  </a:cubicBezTo>
                  <a:cubicBezTo>
                    <a:pt x="794" y="598"/>
                    <a:pt x="644" y="593"/>
                    <a:pt x="400" y="593"/>
                  </a:cubicBezTo>
                  <a:cubicBezTo>
                    <a:pt x="359" y="586"/>
                    <a:pt x="342" y="589"/>
                    <a:pt x="324" y="552"/>
                  </a:cubicBezTo>
                  <a:cubicBezTo>
                    <a:pt x="306" y="515"/>
                    <a:pt x="315" y="536"/>
                    <a:pt x="193" y="115"/>
                  </a:cubicBezTo>
                  <a:cubicBezTo>
                    <a:pt x="172" y="28"/>
                    <a:pt x="5" y="37"/>
                    <a:pt x="0" y="117"/>
                  </a:cubicBezTo>
                  <a:cubicBezTo>
                    <a:pt x="99" y="457"/>
                    <a:pt x="198" y="798"/>
                    <a:pt x="198" y="798"/>
                  </a:cubicBezTo>
                  <a:cubicBezTo>
                    <a:pt x="236" y="919"/>
                    <a:pt x="363" y="871"/>
                    <a:pt x="407" y="887"/>
                  </a:cubicBez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419720" y="2546280"/>
            <a:ext cx="142920" cy="311400"/>
            <a:chOff x="4419720" y="2546280"/>
            <a:chExt cx="142920" cy="311400"/>
          </a:xfrm>
        </p:grpSpPr>
        <p:sp>
          <p:nvSpPr>
            <p:cNvPr id="109" name=""/>
            <p:cNvSpPr/>
            <p:nvPr/>
          </p:nvSpPr>
          <p:spPr>
            <a:xfrm>
              <a:off x="4464720" y="2546280"/>
              <a:ext cx="50760" cy="43920"/>
            </a:xfrm>
            <a:prstGeom prst="ellipse">
              <a:avLst/>
            </a:prstGeom>
            <a:noFill/>
            <a:ln cap="rnd" w="648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2597040"/>
              <a:ext cx="142920" cy="260640"/>
            </a:xfrm>
            <a:custGeom>
              <a:avLst/>
              <a:gdLst/>
              <a:ahLst/>
              <a:rect l="l" t="t" r="r" b="b"/>
              <a:pathLst>
                <a:path w="552" h="971">
                  <a:moveTo>
                    <a:pt x="155" y="171"/>
                  </a:moveTo>
                  <a:cubicBezTo>
                    <a:pt x="158" y="315"/>
                    <a:pt x="154" y="792"/>
                    <a:pt x="153" y="919"/>
                  </a:cubicBezTo>
                  <a:cubicBezTo>
                    <a:pt x="163" y="971"/>
                    <a:pt x="267" y="963"/>
                    <a:pt x="264" y="920"/>
                  </a:cubicBezTo>
                  <a:cubicBezTo>
                    <a:pt x="264" y="668"/>
                    <a:pt x="260" y="499"/>
                    <a:pt x="264" y="416"/>
                  </a:cubicBezTo>
                  <a:cubicBezTo>
                    <a:pt x="266" y="396"/>
                    <a:pt x="285" y="403"/>
                    <a:pt x="285" y="416"/>
                  </a:cubicBezTo>
                  <a:cubicBezTo>
                    <a:pt x="288" y="683"/>
                    <a:pt x="286" y="826"/>
                    <a:pt x="288" y="918"/>
                  </a:cubicBezTo>
                  <a:cubicBezTo>
                    <a:pt x="288" y="968"/>
                    <a:pt x="397" y="968"/>
                    <a:pt x="397" y="918"/>
                  </a:cubicBezTo>
                  <a:cubicBezTo>
                    <a:pt x="396" y="544"/>
                    <a:pt x="395" y="183"/>
                    <a:pt x="395" y="183"/>
                  </a:cubicBezTo>
                  <a:cubicBezTo>
                    <a:pt x="414" y="164"/>
                    <a:pt x="435" y="173"/>
                    <a:pt x="444" y="182"/>
                  </a:cubicBezTo>
                  <a:cubicBezTo>
                    <a:pt x="440" y="488"/>
                    <a:pt x="443" y="354"/>
                    <a:pt x="440" y="491"/>
                  </a:cubicBezTo>
                  <a:cubicBezTo>
                    <a:pt x="444" y="521"/>
                    <a:pt x="516" y="549"/>
                    <a:pt x="545" y="491"/>
                  </a:cubicBezTo>
                  <a:cubicBezTo>
                    <a:pt x="552" y="128"/>
                    <a:pt x="545" y="489"/>
                    <a:pt x="551" y="123"/>
                  </a:cubicBezTo>
                  <a:cubicBezTo>
                    <a:pt x="552" y="6"/>
                    <a:pt x="414" y="3"/>
                    <a:pt x="397" y="5"/>
                  </a:cubicBezTo>
                  <a:cubicBezTo>
                    <a:pt x="348" y="7"/>
                    <a:pt x="273" y="4"/>
                    <a:pt x="152" y="4"/>
                  </a:cubicBezTo>
                  <a:cubicBezTo>
                    <a:pt x="131" y="0"/>
                    <a:pt x="6" y="3"/>
                    <a:pt x="3" y="111"/>
                  </a:cubicBezTo>
                  <a:cubicBezTo>
                    <a:pt x="0" y="219"/>
                    <a:pt x="3" y="111"/>
                    <a:pt x="0" y="489"/>
                  </a:cubicBezTo>
                  <a:cubicBezTo>
                    <a:pt x="21" y="548"/>
                    <a:pt x="110" y="527"/>
                    <a:pt x="108" y="483"/>
                  </a:cubicBezTo>
                  <a:cubicBezTo>
                    <a:pt x="108" y="174"/>
                    <a:pt x="108" y="171"/>
                    <a:pt x="108" y="171"/>
                  </a:cubicBezTo>
                  <a:cubicBezTo>
                    <a:pt x="125" y="159"/>
                    <a:pt x="137" y="158"/>
                    <a:pt x="155" y="171"/>
                  </a:cubicBezTo>
                  <a:close/>
                </a:path>
              </a:pathLst>
            </a:custGeom>
            <a:noFill/>
            <a:ln cap="rnd" w="6480">
              <a:solidFill>
                <a:srgbClr val="7777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600440" y="2546280"/>
            <a:ext cx="142920" cy="311400"/>
            <a:chOff x="4600440" y="2546280"/>
            <a:chExt cx="142920" cy="311400"/>
          </a:xfrm>
        </p:grpSpPr>
        <p:sp>
          <p:nvSpPr>
            <p:cNvPr id="112" name=""/>
            <p:cNvSpPr/>
            <p:nvPr/>
          </p:nvSpPr>
          <p:spPr>
            <a:xfrm>
              <a:off x="4645440" y="2546280"/>
              <a:ext cx="50760" cy="43920"/>
            </a:xfrm>
            <a:prstGeom prst="ellipse">
              <a:avLst/>
            </a:prstGeom>
            <a:noFill/>
            <a:ln cap="rnd" w="648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00440" y="2597040"/>
              <a:ext cx="142920" cy="260640"/>
            </a:xfrm>
            <a:custGeom>
              <a:avLst/>
              <a:gdLst/>
              <a:ahLst/>
              <a:rect l="l" t="t" r="r" b="b"/>
              <a:pathLst>
                <a:path w="552" h="971">
                  <a:moveTo>
                    <a:pt x="155" y="171"/>
                  </a:moveTo>
                  <a:cubicBezTo>
                    <a:pt x="158" y="315"/>
                    <a:pt x="154" y="792"/>
                    <a:pt x="153" y="919"/>
                  </a:cubicBezTo>
                  <a:cubicBezTo>
                    <a:pt x="163" y="971"/>
                    <a:pt x="267" y="963"/>
                    <a:pt x="264" y="920"/>
                  </a:cubicBezTo>
                  <a:cubicBezTo>
                    <a:pt x="264" y="668"/>
                    <a:pt x="260" y="499"/>
                    <a:pt x="264" y="416"/>
                  </a:cubicBezTo>
                  <a:cubicBezTo>
                    <a:pt x="266" y="396"/>
                    <a:pt x="285" y="403"/>
                    <a:pt x="285" y="416"/>
                  </a:cubicBezTo>
                  <a:cubicBezTo>
                    <a:pt x="288" y="683"/>
                    <a:pt x="286" y="826"/>
                    <a:pt x="288" y="918"/>
                  </a:cubicBezTo>
                  <a:cubicBezTo>
                    <a:pt x="288" y="968"/>
                    <a:pt x="397" y="968"/>
                    <a:pt x="397" y="918"/>
                  </a:cubicBezTo>
                  <a:cubicBezTo>
                    <a:pt x="396" y="544"/>
                    <a:pt x="395" y="183"/>
                    <a:pt x="395" y="183"/>
                  </a:cubicBezTo>
                  <a:cubicBezTo>
                    <a:pt x="414" y="164"/>
                    <a:pt x="435" y="173"/>
                    <a:pt x="444" y="182"/>
                  </a:cubicBezTo>
                  <a:cubicBezTo>
                    <a:pt x="440" y="488"/>
                    <a:pt x="443" y="354"/>
                    <a:pt x="440" y="491"/>
                  </a:cubicBezTo>
                  <a:cubicBezTo>
                    <a:pt x="444" y="521"/>
                    <a:pt x="516" y="549"/>
                    <a:pt x="545" y="491"/>
                  </a:cubicBezTo>
                  <a:cubicBezTo>
                    <a:pt x="552" y="128"/>
                    <a:pt x="545" y="489"/>
                    <a:pt x="551" y="123"/>
                  </a:cubicBezTo>
                  <a:cubicBezTo>
                    <a:pt x="552" y="6"/>
                    <a:pt x="414" y="3"/>
                    <a:pt x="397" y="5"/>
                  </a:cubicBezTo>
                  <a:cubicBezTo>
                    <a:pt x="348" y="7"/>
                    <a:pt x="273" y="4"/>
                    <a:pt x="152" y="4"/>
                  </a:cubicBezTo>
                  <a:cubicBezTo>
                    <a:pt x="131" y="0"/>
                    <a:pt x="6" y="3"/>
                    <a:pt x="3" y="111"/>
                  </a:cubicBezTo>
                  <a:cubicBezTo>
                    <a:pt x="0" y="219"/>
                    <a:pt x="3" y="111"/>
                    <a:pt x="0" y="489"/>
                  </a:cubicBezTo>
                  <a:cubicBezTo>
                    <a:pt x="21" y="548"/>
                    <a:pt x="110" y="527"/>
                    <a:pt x="108" y="483"/>
                  </a:cubicBezTo>
                  <a:cubicBezTo>
                    <a:pt x="108" y="174"/>
                    <a:pt x="108" y="171"/>
                    <a:pt x="108" y="171"/>
                  </a:cubicBezTo>
                  <a:cubicBezTo>
                    <a:pt x="125" y="159"/>
                    <a:pt x="137" y="158"/>
                    <a:pt x="155" y="171"/>
                  </a:cubicBezTo>
                  <a:close/>
                </a:path>
              </a:pathLst>
            </a:custGeom>
            <a:noFill/>
            <a:ln cap="rnd" w="6480">
              <a:solidFill>
                <a:srgbClr val="7777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843280" y="2695680"/>
            <a:ext cx="1604880" cy="2309760"/>
          </a:xfrm>
          <a:custGeom>
            <a:avLst/>
            <a:gdLst/>
            <a:ahLst/>
            <a:rect l="l" t="t" r="r" b="b"/>
            <a:pathLst>
              <a:path w="1011" h="1455">
                <a:moveTo>
                  <a:pt x="1011" y="0"/>
                </a:moveTo>
                <a:cubicBezTo>
                  <a:pt x="875" y="142"/>
                  <a:pt x="386" y="414"/>
                  <a:pt x="192" y="851"/>
                </a:cubicBezTo>
                <a:cubicBezTo>
                  <a:pt x="0" y="1347"/>
                  <a:pt x="308" y="1329"/>
                  <a:pt x="338" y="1455"/>
                </a:cubicBezTo>
              </a:path>
            </a:pathLst>
          </a:custGeom>
          <a:noFill/>
          <a:ln w="763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723560" y="2695680"/>
            <a:ext cx="1605240" cy="2309760"/>
          </a:xfrm>
          <a:custGeom>
            <a:avLst/>
            <a:gdLst/>
            <a:ahLst/>
            <a:rect l="l" t="t" r="r" b="b"/>
            <a:pathLst>
              <a:path w="1011" h="1455">
                <a:moveTo>
                  <a:pt x="1011" y="0"/>
                </a:moveTo>
                <a:cubicBezTo>
                  <a:pt x="875" y="142"/>
                  <a:pt x="386" y="414"/>
                  <a:pt x="192" y="851"/>
                </a:cubicBezTo>
                <a:cubicBezTo>
                  <a:pt x="0" y="1347"/>
                  <a:pt x="308" y="1329"/>
                  <a:pt x="338" y="1455"/>
                </a:cubicBezTo>
              </a:path>
            </a:pathLst>
          </a:custGeom>
          <a:noFill/>
          <a:ln w="763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840" y="1916280"/>
            <a:ext cx="2735280" cy="1368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ренд-коммуник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56360" y="1916280"/>
            <a:ext cx="2735280" cy="1368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рвис 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ценность для клиента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ффе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3284640"/>
            <a:ext cx="2592360" cy="8650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сон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3284640"/>
            <a:ext cx="2592360" cy="8650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149720"/>
            <a:ext cx="2735280" cy="1368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ли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аффик на сай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р базы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версия (заказы / визи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4149720"/>
            <a:ext cx="2735280" cy="1368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ш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яльность и вовлеч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ота и сумма покуп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ты знаком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ЦИКЛ ОТНОШЕНИЙ С КЛИЕНТОМ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014560"/>
            <a:ext cx="4876560" cy="35812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317af"/>
                </a:solidFill>
                <a:latin typeface="FranklinGothic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163368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знава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88000" y="4005360"/>
            <a:ext cx="25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бор данных перед зак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 с возраж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56721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аз 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5157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тгруз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3429000"/>
            <a:ext cx="19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302200">
            <a:off x="6019560" y="4833720"/>
            <a:ext cx="533160" cy="533160"/>
          </a:xfrm>
          <a:prstGeom prst="downArrow">
            <a:avLst>
              <a:gd name="adj1" fmla="val 43750"/>
              <a:gd name="adj2" fmla="val 46727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9822600">
            <a:off x="1980720" y="3995280"/>
            <a:ext cx="533520" cy="533520"/>
          </a:xfrm>
          <a:prstGeom prst="downArrow">
            <a:avLst>
              <a:gd name="adj1" fmla="val 43750"/>
              <a:gd name="adj2" fmla="val 46727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8519600">
            <a:off x="6400800" y="2547360"/>
            <a:ext cx="533160" cy="533520"/>
          </a:xfrm>
          <a:prstGeom prst="downArrow">
            <a:avLst>
              <a:gd name="adj1" fmla="val 43750"/>
              <a:gd name="adj2" fmla="val 46758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6964800">
            <a:off x="3124080" y="5062320"/>
            <a:ext cx="533160" cy="533520"/>
          </a:xfrm>
          <a:prstGeom prst="downArrow">
            <a:avLst>
              <a:gd name="adj1" fmla="val 43750"/>
              <a:gd name="adj2" fmla="val 46758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77336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едпочт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2828600">
            <a:off x="2209680" y="2700360"/>
            <a:ext cx="533520" cy="533520"/>
          </a:xfrm>
          <a:prstGeom prst="downArrow">
            <a:avLst>
              <a:gd name="adj1" fmla="val 43750"/>
              <a:gd name="adj2" fmla="val 46727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1557360"/>
            <a:ext cx="4114800" cy="609480"/>
          </a:xfrm>
          <a:prstGeom prst="ellipse">
            <a:avLst/>
          </a:prstGeom>
          <a:noFill/>
          <a:ln w="38160">
            <a:solidFill>
              <a:srgbClr val="131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254808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интер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280" y="1557360"/>
            <a:ext cx="2916360" cy="3456000"/>
          </a:xfrm>
          <a:prstGeom prst="ellipse">
            <a:avLst/>
          </a:prstGeom>
          <a:noFill/>
          <a:ln w="38160">
            <a:solidFill>
              <a:srgbClr val="131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276640"/>
            <a:ext cx="3168720" cy="3744720"/>
          </a:xfrm>
          <a:prstGeom prst="ellipse">
            <a:avLst/>
          </a:prstGeom>
          <a:noFill/>
          <a:ln w="38160">
            <a:solidFill>
              <a:srgbClr val="131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4941720"/>
            <a:ext cx="6193080" cy="1366920"/>
          </a:xfrm>
          <a:prstGeom prst="ellipse">
            <a:avLst/>
          </a:prstGeom>
          <a:noFill/>
          <a:ln w="38160">
            <a:solidFill>
              <a:srgbClr val="131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3400" y="18900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Q&amp;A</a:t>
            </a:r>
            <a:r>
              <a:rPr b="0" lang="ru-RU" sz="3600" spc="-1" strike="noStrike">
                <a:solidFill>
                  <a:srgbClr val="800000"/>
                </a:solidFill>
                <a:latin typeface="Arial Black"/>
              </a:rPr>
              <a:t>: 1) Как лучше?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1905120"/>
            <a:ext cx="2057400" cy="18288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17" y="0"/>
                </a:lnTo>
                <a:lnTo>
                  <a:pt x="21600" y="10800"/>
                </a:lnTo>
                <a:lnTo>
                  <a:pt x="541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9bf2d"/>
              </a:gs>
              <a:gs pos="100000">
                <a:srgbClr val="bee7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63400" y="4114800"/>
            <a:ext cx="14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ходные стра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мо-а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ец. стра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E-mai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пи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200840" y="2296080"/>
            <a:ext cx="969840" cy="969840"/>
            <a:chOff x="4200840" y="2296080"/>
            <a:chExt cx="969840" cy="969840"/>
          </a:xfrm>
        </p:grpSpPr>
        <p:sp>
          <p:nvSpPr>
            <p:cNvPr id="144" name=""/>
            <p:cNvSpPr/>
            <p:nvPr/>
          </p:nvSpPr>
          <p:spPr>
            <a:xfrm rot="18900000">
              <a:off x="4344120" y="2439000"/>
              <a:ext cx="684360" cy="68472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684720"/>
                <a:gd name="textAreaBottom" fmla="*/ 685080 h 68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108608"/>
                  <a:lnTo>
                    <a:pt x="3144" y="3182"/>
                  </a:lnTo>
                  <a:arcTo wR="10800" hR="10800" stAng="-8108608" swAng="810860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787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8100000">
              <a:off x="4342680" y="2437920"/>
              <a:ext cx="685800" cy="6858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87422"/>
                  <a:lnTo>
                    <a:pt x="3417" y="2917"/>
                  </a:lnTo>
                  <a:arcTo wR="10800" hR="10800" stAng="-7987422" swAng="7987422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787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32560" y="4114800"/>
            <a:ext cx="151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аркетинг Мик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исковые маши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артнерские ссыл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аннерная рекла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Email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рассыл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Direct Ma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дио рекла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ыставки и фору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лерекла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15289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виг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15289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74440" y="4114800"/>
            <a:ext cx="1351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ка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E-mai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пи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прос доп. инф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57200" y="4114800"/>
            <a:ext cx="149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ерви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тал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рошюры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по продукт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ой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лькулят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- Сравн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- Вызов консультан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15289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очки вхо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89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силия по привлечен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43800" y="1828800"/>
            <a:ext cx="1295280" cy="20574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933" y="0"/>
                </a:lnTo>
                <a:lnTo>
                  <a:pt x="21600" y="10800"/>
                </a:lnTo>
                <a:lnTo>
                  <a:pt x="1393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9bf2d"/>
              </a:gs>
              <a:gs pos="100000">
                <a:srgbClr val="bee7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1752480"/>
            <a:ext cx="0" cy="2057400"/>
          </a:xfrm>
          <a:prstGeom prst="line">
            <a:avLst/>
          </a:prstGeom>
          <a:ln w="57240">
            <a:solidFill>
              <a:srgbClr val="e1d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1143000"/>
            <a:ext cx="4157640" cy="304920"/>
          </a:xfrm>
          <a:prstGeom prst="rect">
            <a:avLst/>
          </a:prstGeom>
          <a:solidFill>
            <a:srgbClr val="70a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интересовать и удерж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59640" y="1143000"/>
            <a:ext cx="2255760" cy="304920"/>
          </a:xfrm>
          <a:prstGeom prst="rect">
            <a:avLst/>
          </a:prstGeom>
          <a:solidFill>
            <a:srgbClr val="70a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помнить и верну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67480" y="1528920"/>
            <a:ext cx="12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сле зака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21600" y="3949560"/>
            <a:ext cx="2152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сле зака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п. проду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звраты и обме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х. серви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прос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пи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143000"/>
            <a:ext cx="1676520" cy="304920"/>
          </a:xfrm>
          <a:prstGeom prst="rect">
            <a:avLst/>
          </a:prstGeom>
          <a:solidFill>
            <a:srgbClr val="70a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вле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828800"/>
            <a:ext cx="2438280" cy="22096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765" y="0"/>
                </a:lnTo>
                <a:lnTo>
                  <a:pt x="21600" y="10800"/>
                </a:lnTo>
                <a:lnTo>
                  <a:pt x="976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9bf2d"/>
              </a:gs>
              <a:gs pos="100000">
                <a:srgbClr val="bee7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21040" y="1828800"/>
            <a:ext cx="0" cy="2057400"/>
          </a:xfrm>
          <a:prstGeom prst="line">
            <a:avLst/>
          </a:prstGeom>
          <a:ln w="57240">
            <a:solidFill>
              <a:srgbClr val="e1d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914400" cy="773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71560" cy="70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268360" y="2205000"/>
            <a:ext cx="1872000" cy="1403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219640" y="220500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7667640" y="2060640"/>
            <a:ext cx="914400" cy="772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7596360" y="2997360"/>
            <a:ext cx="871200" cy="70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rot="5400000">
            <a:off x="1866240" y="2751840"/>
            <a:ext cx="576000" cy="1067040"/>
          </a:xfrm>
          <a:custGeom>
            <a:avLst/>
            <a:gdLst/>
            <a:ahLst/>
            <a:rect l="l" t="t" r="r" b="b"/>
            <a:pathLst>
              <a:path w="4168" h="1128">
                <a:moveTo>
                  <a:pt x="0" y="0"/>
                </a:moveTo>
                <a:cubicBezTo>
                  <a:pt x="0" y="563"/>
                  <a:pt x="0" y="1128"/>
                  <a:pt x="0" y="1128"/>
                </a:cubicBezTo>
                <a:cubicBezTo>
                  <a:pt x="2113" y="442"/>
                  <a:pt x="3088" y="872"/>
                  <a:pt x="4168" y="976"/>
                </a:cubicBezTo>
                <a:cubicBezTo>
                  <a:pt x="4168" y="976"/>
                  <a:pt x="4168" y="520"/>
                  <a:pt x="4168" y="104"/>
                </a:cubicBezTo>
                <a:cubicBezTo>
                  <a:pt x="1376" y="592"/>
                  <a:pt x="632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99cc00">
                  <a:alpha val="80392"/>
                </a:srgbClr>
              </a:gs>
              <a:gs pos="50000">
                <a:srgbClr val="dfff85">
                  <a:alpha val="80392"/>
                </a:srgbClr>
              </a:gs>
              <a:gs pos="100000">
                <a:srgbClr val="99cc00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Q&amp;A</a:t>
            </a:r>
            <a:r>
              <a:rPr b="0" lang="ru-RU" sz="3600" spc="-1" strike="noStrike">
                <a:solidFill>
                  <a:srgbClr val="800000"/>
                </a:solidFill>
                <a:latin typeface="Arial Black"/>
              </a:rPr>
              <a:t>: </a:t>
            </a: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2</a:t>
            </a:r>
            <a:r>
              <a:rPr b="0" lang="ru-RU" sz="3600" spc="-1" strike="noStrike">
                <a:solidFill>
                  <a:srgbClr val="800000"/>
                </a:solidFill>
                <a:latin typeface="Arial Black"/>
              </a:rPr>
              <a:t>) Как считать </a:t>
            </a: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ROI?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0" name=""/>
          <p:cNvSpPr/>
          <p:nvPr/>
        </p:nvSpPr>
        <p:spPr>
          <a:xfrm rot="10660200">
            <a:off x="5824080" y="1522080"/>
            <a:ext cx="1752840" cy="722160"/>
          </a:xfrm>
          <a:custGeom>
            <a:avLst/>
            <a:gdLst/>
            <a:ahLst/>
            <a:rect l="l" t="t" r="r" b="b"/>
            <a:pathLst>
              <a:path w="4168" h="1128">
                <a:moveTo>
                  <a:pt x="0" y="0"/>
                </a:moveTo>
                <a:cubicBezTo>
                  <a:pt x="0" y="563"/>
                  <a:pt x="0" y="1128"/>
                  <a:pt x="0" y="1128"/>
                </a:cubicBezTo>
                <a:cubicBezTo>
                  <a:pt x="2113" y="442"/>
                  <a:pt x="3088" y="872"/>
                  <a:pt x="4168" y="976"/>
                </a:cubicBezTo>
                <a:cubicBezTo>
                  <a:pt x="4168" y="976"/>
                  <a:pt x="4168" y="520"/>
                  <a:pt x="4168" y="104"/>
                </a:cubicBezTo>
                <a:cubicBezTo>
                  <a:pt x="1376" y="592"/>
                  <a:pt x="632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99cc00">
                  <a:alpha val="80392"/>
                </a:srgbClr>
              </a:gs>
              <a:gs pos="50000">
                <a:srgbClr val="dfff85">
                  <a:alpha val="80392"/>
                </a:srgbClr>
              </a:gs>
              <a:gs pos="100000">
                <a:srgbClr val="99cc00">
                  <a:alpha val="80392"/>
                </a:srgbClr>
              </a:gs>
            </a:gsLst>
            <a:lin ang="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4870080" y="2171880"/>
            <a:ext cx="1143000" cy="1066680"/>
          </a:xfrm>
          <a:custGeom>
            <a:avLst/>
            <a:gdLst/>
            <a:ahLst/>
            <a:rect l="l" t="t" r="r" b="b"/>
            <a:pathLst>
              <a:path w="4168" h="1128">
                <a:moveTo>
                  <a:pt x="0" y="0"/>
                </a:moveTo>
                <a:cubicBezTo>
                  <a:pt x="0" y="563"/>
                  <a:pt x="0" y="1128"/>
                  <a:pt x="0" y="1128"/>
                </a:cubicBezTo>
                <a:cubicBezTo>
                  <a:pt x="2113" y="442"/>
                  <a:pt x="3088" y="872"/>
                  <a:pt x="4168" y="976"/>
                </a:cubicBezTo>
                <a:cubicBezTo>
                  <a:pt x="4168" y="976"/>
                  <a:pt x="4168" y="520"/>
                  <a:pt x="4168" y="104"/>
                </a:cubicBezTo>
                <a:cubicBezTo>
                  <a:pt x="1376" y="592"/>
                  <a:pt x="632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99cc00">
                  <a:alpha val="80392"/>
                </a:srgbClr>
              </a:gs>
              <a:gs pos="50000">
                <a:srgbClr val="dfff85">
                  <a:alpha val="80392"/>
                </a:srgbClr>
              </a:gs>
              <a:gs pos="100000">
                <a:srgbClr val="99cc00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254800">
            <a:off x="5284800" y="2798640"/>
            <a:ext cx="381240" cy="117360"/>
          </a:xfrm>
          <a:prstGeom prst="rightArrow">
            <a:avLst>
              <a:gd name="adj1" fmla="val 34722"/>
              <a:gd name="adj2" fmla="val 114869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1523880"/>
            <a:ext cx="3497400" cy="993960"/>
          </a:xfrm>
          <a:custGeom>
            <a:avLst/>
            <a:gdLst/>
            <a:ahLst/>
            <a:rect l="l" t="t" r="r" b="b"/>
            <a:pathLst>
              <a:path w="4168" h="1128">
                <a:moveTo>
                  <a:pt x="0" y="0"/>
                </a:moveTo>
                <a:cubicBezTo>
                  <a:pt x="0" y="563"/>
                  <a:pt x="0" y="1128"/>
                  <a:pt x="0" y="1128"/>
                </a:cubicBezTo>
                <a:cubicBezTo>
                  <a:pt x="2113" y="442"/>
                  <a:pt x="3088" y="872"/>
                  <a:pt x="4168" y="976"/>
                </a:cubicBezTo>
                <a:cubicBezTo>
                  <a:pt x="4168" y="976"/>
                  <a:pt x="4168" y="520"/>
                  <a:pt x="4168" y="104"/>
                </a:cubicBezTo>
                <a:cubicBezTo>
                  <a:pt x="1376" y="592"/>
                  <a:pt x="632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99cc00">
                  <a:alpha val="80392"/>
                </a:srgbClr>
              </a:gs>
              <a:gs pos="50000">
                <a:srgbClr val="dfff85">
                  <a:alpha val="80392"/>
                </a:srgbClr>
              </a:gs>
              <a:gs pos="100000">
                <a:srgbClr val="99cc00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3124080"/>
            <a:ext cx="1174680" cy="12193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08600" y="1447920"/>
            <a:ext cx="1101600" cy="1143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1905120"/>
            <a:ext cx="466560" cy="163440"/>
          </a:xfrm>
          <a:prstGeom prst="rightArrow">
            <a:avLst>
              <a:gd name="adj1" fmla="val 34722"/>
              <a:gd name="adj2" fmla="val 100943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227240" y="4648320"/>
            <a:ext cx="1790640" cy="228600"/>
            <a:chOff x="1227240" y="4648320"/>
            <a:chExt cx="1790640" cy="228600"/>
          </a:xfrm>
        </p:grpSpPr>
        <p:sp>
          <p:nvSpPr>
            <p:cNvPr id="178" name=""/>
            <p:cNvSpPr/>
            <p:nvPr/>
          </p:nvSpPr>
          <p:spPr>
            <a:xfrm>
              <a:off x="1245960" y="4648320"/>
              <a:ext cx="0" cy="228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98800" y="4648320"/>
              <a:ext cx="0" cy="228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27240" y="4648320"/>
              <a:ext cx="17906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965840" y="4641840"/>
            <a:ext cx="11048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1600" y="4648320"/>
            <a:ext cx="0" cy="228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84920" y="4648320"/>
            <a:ext cx="0" cy="228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42120" y="4343400"/>
            <a:ext cx="0" cy="304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1628640"/>
            <a:ext cx="304560" cy="45720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1773360"/>
            <a:ext cx="304560" cy="45720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9440" y="1341360"/>
            <a:ext cx="304560" cy="45720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9440" y="2637000"/>
            <a:ext cx="304560" cy="45720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167160" y="1905120"/>
            <a:ext cx="493560" cy="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7080" y="3284640"/>
            <a:ext cx="304560" cy="45720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35240" y="2997360"/>
            <a:ext cx="0" cy="1638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35240" y="4648320"/>
            <a:ext cx="0" cy="228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16191" t="52288" r="3882" b="29715"/>
          <a:stretch/>
        </p:blipFill>
        <p:spPr>
          <a:xfrm>
            <a:off x="144360" y="4869000"/>
            <a:ext cx="7812360" cy="1319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984920" y="1844640"/>
            <a:ext cx="100944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84920" y="3573360"/>
            <a:ext cx="100944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98520" y="155736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804000" y="1484280"/>
            <a:ext cx="1692360" cy="1270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227240" y="1844640"/>
            <a:ext cx="1655640" cy="1443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3213000"/>
            <a:ext cx="1175040" cy="12193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916000" y="3860640"/>
            <a:ext cx="1871640" cy="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627200" y="2868480"/>
            <a:ext cx="1755720" cy="5112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1240" y="3006720"/>
            <a:ext cx="1285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09840" y="1730520"/>
            <a:ext cx="2035080" cy="1116000"/>
            <a:chOff x="1509840" y="1730520"/>
            <a:chExt cx="2035080" cy="1116000"/>
          </a:xfrm>
        </p:grpSpPr>
        <p:sp>
          <p:nvSpPr>
            <p:cNvPr id="204" name=""/>
            <p:cNvSpPr/>
            <p:nvPr/>
          </p:nvSpPr>
          <p:spPr>
            <a:xfrm>
              <a:off x="1509840" y="1730520"/>
              <a:ext cx="2035080" cy="111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08240" y="2117880"/>
              <a:ext cx="627120" cy="4158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40240" y="1816200"/>
              <a:ext cx="14468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ЗАКАЗЧ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544760" y="3454560"/>
            <a:ext cx="600120" cy="15984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1247400" y="4044240"/>
            <a:ext cx="12823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M / C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7080" y="3889440"/>
            <a:ext cx="598680" cy="121428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1896840" y="4338000"/>
            <a:ext cx="1212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7080" y="5167440"/>
            <a:ext cx="598680" cy="1476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97080" y="5403960"/>
            <a:ext cx="598680" cy="1458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97080" y="3654360"/>
            <a:ext cx="598680" cy="1476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67040" y="3975120"/>
            <a:ext cx="596880" cy="15987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972880" y="4860360"/>
            <a:ext cx="4669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28640" y="5608800"/>
            <a:ext cx="1787760" cy="38088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20600" y="5661000"/>
            <a:ext cx="12196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97080" y="3443400"/>
            <a:ext cx="598680" cy="1476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157800" y="1730520"/>
            <a:ext cx="2158920" cy="4279680"/>
            <a:chOff x="6157800" y="1730520"/>
            <a:chExt cx="2158920" cy="4279680"/>
          </a:xfrm>
        </p:grpSpPr>
        <p:sp>
          <p:nvSpPr>
            <p:cNvPr id="220" name=""/>
            <p:cNvSpPr/>
            <p:nvPr/>
          </p:nvSpPr>
          <p:spPr>
            <a:xfrm>
              <a:off x="6157800" y="1730520"/>
              <a:ext cx="2158920" cy="1415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99040" y="2219400"/>
              <a:ext cx="665280" cy="4381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88040" y="2379600"/>
              <a:ext cx="2046240" cy="1173240"/>
            </a:xfrm>
            <a:prstGeom prst="triangle">
              <a:avLst>
                <a:gd name="adj" fmla="val 50495"/>
              </a:avLst>
            </a:prstGeom>
            <a:solidFill>
              <a:srgbClr val="b2b2b2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78880" y="3027240"/>
              <a:ext cx="6847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2000" y="1855800"/>
              <a:ext cx="14468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ЗАКАЗЧ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83000" y="5419800"/>
              <a:ext cx="2055960" cy="590400"/>
            </a:xfrm>
            <a:custGeom>
              <a:avLst/>
              <a:gdLst/>
              <a:ahLst/>
              <a:rect l="l" t="t" r="r" b="b"/>
              <a:pathLst>
                <a:path w="1554" h="397">
                  <a:moveTo>
                    <a:pt x="199" y="0"/>
                  </a:moveTo>
                  <a:lnTo>
                    <a:pt x="0" y="0"/>
                  </a:lnTo>
                  <a:lnTo>
                    <a:pt x="0" y="396"/>
                  </a:lnTo>
                  <a:lnTo>
                    <a:pt x="1553" y="396"/>
                  </a:lnTo>
                  <a:lnTo>
                    <a:pt x="1553" y="0"/>
                  </a:lnTo>
                  <a:lnTo>
                    <a:pt x="1354" y="0"/>
                  </a:lnTo>
                  <a:lnTo>
                    <a:pt x="1354" y="72"/>
                  </a:lnTo>
                  <a:lnTo>
                    <a:pt x="1234" y="72"/>
                  </a:lnTo>
                  <a:lnTo>
                    <a:pt x="1234" y="0"/>
                  </a:lnTo>
                  <a:lnTo>
                    <a:pt x="836" y="0"/>
                  </a:lnTo>
                  <a:lnTo>
                    <a:pt x="836" y="72"/>
                  </a:lnTo>
                  <a:lnTo>
                    <a:pt x="717" y="72"/>
                  </a:lnTo>
                  <a:lnTo>
                    <a:pt x="717" y="0"/>
                  </a:lnTo>
                  <a:lnTo>
                    <a:pt x="319" y="0"/>
                  </a:lnTo>
                  <a:lnTo>
                    <a:pt x="319" y="72"/>
                  </a:lnTo>
                  <a:lnTo>
                    <a:pt x="199" y="72"/>
                  </a:lnTo>
                  <a:lnTo>
                    <a:pt x="199" y="0"/>
                  </a:lnTo>
                </a:path>
              </a:pathLst>
            </a:custGeom>
            <a:solidFill>
              <a:srgbClr val="b2b2b2"/>
            </a:solidFill>
            <a:ln cap="rnd"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3000" y="3457800"/>
              <a:ext cx="817560" cy="2089080"/>
            </a:xfrm>
            <a:custGeom>
              <a:avLst/>
              <a:gdLst/>
              <a:ahLst/>
              <a:rect l="l" t="t" r="r" b="b"/>
              <a:pathLst>
                <a:path w="617" h="1403">
                  <a:moveTo>
                    <a:pt x="0" y="72"/>
                  </a:moveTo>
                  <a:lnTo>
                    <a:pt x="0" y="1330"/>
                  </a:lnTo>
                  <a:lnTo>
                    <a:pt x="205" y="1330"/>
                  </a:lnTo>
                  <a:lnTo>
                    <a:pt x="205" y="1402"/>
                  </a:lnTo>
                  <a:lnTo>
                    <a:pt x="329" y="1402"/>
                  </a:lnTo>
                  <a:lnTo>
                    <a:pt x="329" y="1330"/>
                  </a:lnTo>
                  <a:lnTo>
                    <a:pt x="534" y="1330"/>
                  </a:lnTo>
                  <a:lnTo>
                    <a:pt x="534" y="1078"/>
                  </a:lnTo>
                  <a:lnTo>
                    <a:pt x="616" y="1078"/>
                  </a:lnTo>
                  <a:lnTo>
                    <a:pt x="616" y="971"/>
                  </a:lnTo>
                  <a:lnTo>
                    <a:pt x="534" y="971"/>
                  </a:lnTo>
                  <a:lnTo>
                    <a:pt x="534" y="791"/>
                  </a:lnTo>
                  <a:lnTo>
                    <a:pt x="534" y="755"/>
                  </a:lnTo>
                  <a:lnTo>
                    <a:pt x="452" y="755"/>
                  </a:lnTo>
                  <a:lnTo>
                    <a:pt x="452" y="647"/>
                  </a:lnTo>
                  <a:lnTo>
                    <a:pt x="534" y="647"/>
                  </a:lnTo>
                  <a:lnTo>
                    <a:pt x="534" y="395"/>
                  </a:lnTo>
                  <a:lnTo>
                    <a:pt x="616" y="395"/>
                  </a:lnTo>
                  <a:lnTo>
                    <a:pt x="616" y="288"/>
                  </a:lnTo>
                  <a:lnTo>
                    <a:pt x="534" y="288"/>
                  </a:lnTo>
                  <a:lnTo>
                    <a:pt x="534" y="72"/>
                  </a:lnTo>
                  <a:lnTo>
                    <a:pt x="370" y="72"/>
                  </a:lnTo>
                  <a:lnTo>
                    <a:pt x="370" y="0"/>
                  </a:lnTo>
                  <a:lnTo>
                    <a:pt x="246" y="0"/>
                  </a:lnTo>
                  <a:lnTo>
                    <a:pt x="246" y="72"/>
                  </a:lnTo>
                  <a:lnTo>
                    <a:pt x="0" y="72"/>
                  </a:lnTo>
                </a:path>
              </a:pathLst>
            </a:custGeom>
            <a:solidFill>
              <a:srgbClr val="b2b2b2"/>
            </a:solidFill>
            <a:ln cap="rnd"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29320" y="3457800"/>
              <a:ext cx="816120" cy="2089080"/>
            </a:xfrm>
            <a:custGeom>
              <a:avLst/>
              <a:gdLst/>
              <a:ahLst/>
              <a:rect l="l" t="t" r="r" b="b"/>
              <a:pathLst>
                <a:path w="617" h="1403">
                  <a:moveTo>
                    <a:pt x="616" y="72"/>
                  </a:moveTo>
                  <a:lnTo>
                    <a:pt x="616" y="1330"/>
                  </a:lnTo>
                  <a:lnTo>
                    <a:pt x="411" y="1330"/>
                  </a:lnTo>
                  <a:lnTo>
                    <a:pt x="411" y="1402"/>
                  </a:lnTo>
                  <a:lnTo>
                    <a:pt x="287" y="1402"/>
                  </a:lnTo>
                  <a:lnTo>
                    <a:pt x="287" y="1330"/>
                  </a:lnTo>
                  <a:lnTo>
                    <a:pt x="82" y="1330"/>
                  </a:lnTo>
                  <a:lnTo>
                    <a:pt x="82" y="1078"/>
                  </a:lnTo>
                  <a:lnTo>
                    <a:pt x="0" y="1078"/>
                  </a:lnTo>
                  <a:lnTo>
                    <a:pt x="0" y="971"/>
                  </a:lnTo>
                  <a:lnTo>
                    <a:pt x="82" y="971"/>
                  </a:lnTo>
                  <a:lnTo>
                    <a:pt x="82" y="791"/>
                  </a:lnTo>
                  <a:lnTo>
                    <a:pt x="82" y="755"/>
                  </a:lnTo>
                  <a:lnTo>
                    <a:pt x="164" y="755"/>
                  </a:lnTo>
                  <a:lnTo>
                    <a:pt x="164" y="647"/>
                  </a:lnTo>
                  <a:lnTo>
                    <a:pt x="82" y="647"/>
                  </a:lnTo>
                  <a:lnTo>
                    <a:pt x="82" y="395"/>
                  </a:lnTo>
                  <a:lnTo>
                    <a:pt x="0" y="395"/>
                  </a:lnTo>
                  <a:lnTo>
                    <a:pt x="0" y="288"/>
                  </a:lnTo>
                  <a:lnTo>
                    <a:pt x="82" y="288"/>
                  </a:lnTo>
                  <a:lnTo>
                    <a:pt x="82" y="72"/>
                  </a:lnTo>
                  <a:lnTo>
                    <a:pt x="246" y="72"/>
                  </a:lnTo>
                  <a:lnTo>
                    <a:pt x="246" y="0"/>
                  </a:lnTo>
                  <a:lnTo>
                    <a:pt x="370" y="0"/>
                  </a:lnTo>
                  <a:lnTo>
                    <a:pt x="370" y="72"/>
                  </a:lnTo>
                  <a:lnTo>
                    <a:pt x="616" y="72"/>
                  </a:lnTo>
                </a:path>
              </a:pathLst>
            </a:custGeom>
            <a:solidFill>
              <a:srgbClr val="b2b2b2"/>
            </a:solidFill>
            <a:ln cap="rnd"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43520" y="3457800"/>
              <a:ext cx="923760" cy="2089080"/>
            </a:xfrm>
            <a:custGeom>
              <a:avLst/>
              <a:gdLst/>
              <a:ahLst/>
              <a:rect l="l" t="t" r="r" b="b"/>
              <a:pathLst>
                <a:path w="699" h="1403">
                  <a:moveTo>
                    <a:pt x="616" y="72"/>
                  </a:moveTo>
                  <a:lnTo>
                    <a:pt x="411" y="72"/>
                  </a:lnTo>
                  <a:lnTo>
                    <a:pt x="411" y="0"/>
                  </a:lnTo>
                  <a:lnTo>
                    <a:pt x="287" y="0"/>
                  </a:lnTo>
                  <a:lnTo>
                    <a:pt x="287" y="72"/>
                  </a:lnTo>
                  <a:lnTo>
                    <a:pt x="82" y="72"/>
                  </a:lnTo>
                  <a:lnTo>
                    <a:pt x="82" y="288"/>
                  </a:lnTo>
                  <a:lnTo>
                    <a:pt x="164" y="288"/>
                  </a:lnTo>
                  <a:lnTo>
                    <a:pt x="164" y="395"/>
                  </a:lnTo>
                  <a:lnTo>
                    <a:pt x="82" y="395"/>
                  </a:lnTo>
                  <a:lnTo>
                    <a:pt x="82" y="647"/>
                  </a:lnTo>
                  <a:lnTo>
                    <a:pt x="0" y="647"/>
                  </a:lnTo>
                  <a:lnTo>
                    <a:pt x="0" y="755"/>
                  </a:lnTo>
                  <a:lnTo>
                    <a:pt x="82" y="755"/>
                  </a:lnTo>
                  <a:lnTo>
                    <a:pt x="82" y="971"/>
                  </a:lnTo>
                  <a:lnTo>
                    <a:pt x="164" y="971"/>
                  </a:lnTo>
                  <a:lnTo>
                    <a:pt x="164" y="1078"/>
                  </a:lnTo>
                  <a:lnTo>
                    <a:pt x="82" y="1078"/>
                  </a:lnTo>
                  <a:lnTo>
                    <a:pt x="82" y="1330"/>
                  </a:lnTo>
                  <a:lnTo>
                    <a:pt x="287" y="1330"/>
                  </a:lnTo>
                  <a:lnTo>
                    <a:pt x="287" y="1402"/>
                  </a:lnTo>
                  <a:lnTo>
                    <a:pt x="411" y="1402"/>
                  </a:lnTo>
                  <a:lnTo>
                    <a:pt x="411" y="1330"/>
                  </a:lnTo>
                  <a:lnTo>
                    <a:pt x="616" y="1330"/>
                  </a:lnTo>
                  <a:lnTo>
                    <a:pt x="616" y="1078"/>
                  </a:lnTo>
                  <a:lnTo>
                    <a:pt x="534" y="1078"/>
                  </a:lnTo>
                  <a:lnTo>
                    <a:pt x="534" y="971"/>
                  </a:lnTo>
                  <a:lnTo>
                    <a:pt x="616" y="971"/>
                  </a:lnTo>
                  <a:lnTo>
                    <a:pt x="616" y="755"/>
                  </a:lnTo>
                  <a:lnTo>
                    <a:pt x="698" y="755"/>
                  </a:lnTo>
                  <a:lnTo>
                    <a:pt x="698" y="647"/>
                  </a:lnTo>
                  <a:lnTo>
                    <a:pt x="616" y="647"/>
                  </a:lnTo>
                  <a:lnTo>
                    <a:pt x="616" y="395"/>
                  </a:lnTo>
                  <a:lnTo>
                    <a:pt x="534" y="395"/>
                  </a:lnTo>
                  <a:lnTo>
                    <a:pt x="534" y="288"/>
                  </a:lnTo>
                  <a:lnTo>
                    <a:pt x="616" y="288"/>
                  </a:lnTo>
                  <a:lnTo>
                    <a:pt x="616" y="72"/>
                  </a:lnTo>
                </a:path>
              </a:pathLst>
            </a:custGeom>
            <a:solidFill>
              <a:srgbClr val="b2b2b2"/>
            </a:solidFill>
            <a:ln cap="rnd"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6250680" y="4577760"/>
              <a:ext cx="4669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6607080" y="4341240"/>
              <a:ext cx="12121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Рекла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6200000">
              <a:off x="7656840" y="4522320"/>
              <a:ext cx="5569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51120" y="5634000"/>
              <a:ext cx="121968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Re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98680" y="260280"/>
            <a:ext cx="72050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Q&amp;A</a:t>
            </a: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: </a:t>
            </a: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3</a:t>
            </a: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) Как интегрировать усил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51280" y="3500280"/>
            <a:ext cx="1944720" cy="1657440"/>
          </a:xfrm>
          <a:custGeom>
            <a:avLst/>
            <a:gdLst>
              <a:gd name="textAreaLeft" fmla="*/ 303840 w 1944720"/>
              <a:gd name="textAreaRight" fmla="*/ 1701720 w 1944720"/>
              <a:gd name="textAreaTop" fmla="*/ 414360 h 1657440"/>
              <a:gd name="textAreaBottom" fmla="*/ 1243080 h 165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 Black"/>
              </a:rPr>
              <a:t>СТРАТЕГИЯ ИНТЕГРАЦИИ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 Black"/>
              </a:rPr>
              <a:t>Research </a:t>
            </a:r>
            <a:r>
              <a:rPr b="0" lang="ru-RU" sz="2800" spc="-1" strike="noStrike">
                <a:solidFill>
                  <a:srgbClr val="800000"/>
                </a:solidFill>
                <a:latin typeface="Arial Black"/>
              </a:rPr>
              <a:t>*</a:t>
            </a:r>
            <a:r>
              <a:rPr b="0" lang="en-US" sz="2800" spc="-1" strike="noStrike">
                <a:solidFill>
                  <a:srgbClr val="800000"/>
                </a:solidFill>
                <a:latin typeface="Arial Black"/>
              </a:rPr>
              <a:t> PR * ATL * BTL </a:t>
            </a:r>
            <a:r>
              <a:rPr b="0" lang="ru-RU" sz="2800" spc="-1" strike="noStrike">
                <a:solidFill>
                  <a:srgbClr val="800000"/>
                </a:solidFill>
                <a:latin typeface="Arial Black"/>
              </a:rPr>
              <a:t>*</a:t>
            </a:r>
            <a:r>
              <a:rPr b="0" lang="en-US" sz="2800" spc="-1" strike="noStrike">
                <a:solidFill>
                  <a:srgbClr val="800000"/>
                </a:solidFill>
                <a:latin typeface="Arial Black"/>
              </a:rPr>
              <a:t> CRM</a:t>
            </a:r>
            <a:endParaRPr b="0" lang="en-US" sz="28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2124000" y="2809800"/>
            <a:ext cx="1656000" cy="459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Креативные» сцен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3648240"/>
            <a:ext cx="1656000" cy="276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мо-ид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900520"/>
            <a:ext cx="1296720" cy="276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13480" y="2900520"/>
            <a:ext cx="1046160" cy="276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67280" y="3648240"/>
            <a:ext cx="1296720" cy="276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13480" y="3648240"/>
            <a:ext cx="1046160" cy="276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T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8160" y="2852640"/>
            <a:ext cx="555480" cy="10605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следова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028000" y="2540160"/>
            <a:ext cx="865080" cy="1676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лика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версии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20000" y="2540160"/>
            <a:ext cx="747720" cy="1676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клам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М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0"/>
            <a:endCxn id="246" idx="3"/>
          </p:cNvCxnSpPr>
          <p:nvPr/>
        </p:nvCxnSpPr>
        <p:spPr>
          <a:xfrm flipV="1" rot="16200000">
            <a:off x="7302600" y="1361880"/>
            <a:ext cx="823320" cy="149472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1" idx="3"/>
            <a:endCxn id="244" idx="1"/>
          </p:cNvCxnSpPr>
          <p:nvPr/>
        </p:nvCxnSpPr>
        <p:spPr>
          <a:xfrm flipV="1">
            <a:off x="6678360" y="3377880"/>
            <a:ext cx="322920" cy="4276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39" idx="3"/>
            <a:endCxn id="244" idx="1"/>
          </p:cNvCxnSpPr>
          <p:nvPr/>
        </p:nvCxnSpPr>
        <p:spPr>
          <a:xfrm>
            <a:off x="6678360" y="3057120"/>
            <a:ext cx="322920" cy="3214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36" idx="3"/>
            <a:endCxn id="238" idx="1"/>
          </p:cNvCxnSpPr>
          <p:nvPr/>
        </p:nvCxnSpPr>
        <p:spPr>
          <a:xfrm>
            <a:off x="3798360" y="3057120"/>
            <a:ext cx="250200" cy="108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7" idx="3"/>
            <a:endCxn id="240" idx="1"/>
          </p:cNvCxnSpPr>
          <p:nvPr/>
        </p:nvCxnSpPr>
        <p:spPr>
          <a:xfrm>
            <a:off x="3798360" y="3804840"/>
            <a:ext cx="250200" cy="108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3"/>
            <a:endCxn id="239" idx="1"/>
          </p:cNvCxnSpPr>
          <p:nvPr/>
        </p:nvCxnSpPr>
        <p:spPr>
          <a:xfrm>
            <a:off x="5382720" y="3057120"/>
            <a:ext cx="21204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0" idx="3"/>
            <a:endCxn id="241" idx="1"/>
          </p:cNvCxnSpPr>
          <p:nvPr/>
        </p:nvCxnSpPr>
        <p:spPr>
          <a:xfrm>
            <a:off x="5382720" y="3804840"/>
            <a:ext cx="21204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2" idx="3"/>
            <a:endCxn id="237" idx="1"/>
          </p:cNvCxnSpPr>
          <p:nvPr/>
        </p:nvCxnSpPr>
        <p:spPr>
          <a:xfrm>
            <a:off x="1782360" y="3382560"/>
            <a:ext cx="322920" cy="423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2" idx="3"/>
            <a:endCxn id="236" idx="1"/>
          </p:cNvCxnSpPr>
          <p:nvPr/>
        </p:nvCxnSpPr>
        <p:spPr>
          <a:xfrm flipV="1">
            <a:off x="1782360" y="3057120"/>
            <a:ext cx="322920" cy="3261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37" idx="0"/>
            <a:endCxn id="236" idx="2"/>
          </p:cNvCxnSpPr>
          <p:nvPr/>
        </p:nvCxnSpPr>
        <p:spPr>
          <a:xfrm flipV="1">
            <a:off x="2952360" y="3323520"/>
            <a:ext cx="1080" cy="30564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6" name=""/>
          <p:cNvCxnSpPr>
            <a:stCxn id="240" idx="0"/>
            <a:endCxn id="238" idx="2"/>
          </p:cNvCxnSpPr>
          <p:nvPr/>
        </p:nvCxnSpPr>
        <p:spPr>
          <a:xfrm flipV="1">
            <a:off x="4716000" y="3231360"/>
            <a:ext cx="1080" cy="3978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0" y="5877000"/>
            <a:ext cx="8928000" cy="3070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 знаний о клиентах, партнерах, конкурентах, «реальная картина ми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7080" y="4149720"/>
            <a:ext cx="1511280" cy="576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Опросы и анкетир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ne / off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1916280"/>
            <a:ext cx="1092240" cy="7797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Открытая интернет-статистика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(поиск / счетчики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8" idx="0"/>
            <a:endCxn id="242" idx="2"/>
          </p:cNvCxnSpPr>
          <p:nvPr/>
        </p:nvCxnSpPr>
        <p:spPr>
          <a:xfrm flipH="1" flipV="1">
            <a:off x="1485720" y="3931560"/>
            <a:ext cx="27360" cy="199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42" idx="0"/>
            <a:endCxn id="259" idx="2"/>
          </p:cNvCxnSpPr>
          <p:nvPr/>
        </p:nvCxnSpPr>
        <p:spPr>
          <a:xfrm flipV="1">
            <a:off x="1486080" y="2747520"/>
            <a:ext cx="32400" cy="864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</p:cxnSp>
      <p:cxnSp>
        <p:nvCxnSpPr>
          <p:cNvPr id="262" name=""/>
          <p:cNvCxnSpPr>
            <a:stCxn id="241" idx="0"/>
            <a:endCxn id="239" idx="2"/>
          </p:cNvCxnSpPr>
          <p:nvPr/>
        </p:nvCxnSpPr>
        <p:spPr>
          <a:xfrm flipV="1">
            <a:off x="6136920" y="3231360"/>
            <a:ext cx="1080" cy="3978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2411280" y="1557360"/>
            <a:ext cx="4537080" cy="2462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ПТИМИЗ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508640"/>
            <a:ext cx="3946680" cy="2462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Коммьюнити» (программа лояльности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44" idx="3"/>
            <a:endCxn id="243" idx="1"/>
          </p:cNvCxnSpPr>
          <p:nvPr/>
        </p:nvCxnSpPr>
        <p:spPr>
          <a:xfrm>
            <a:off x="7786440" y="3377880"/>
            <a:ext cx="22284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428472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6108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4836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2292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0508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9236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0836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8980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6580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5344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02944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1708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89308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"/>
          <p:cNvCxnSpPr>
            <a:stCxn id="238" idx="0"/>
            <a:endCxn id="246" idx="2"/>
          </p:cNvCxnSpPr>
          <p:nvPr/>
        </p:nvCxnSpPr>
        <p:spPr>
          <a:xfrm flipH="1" flipV="1">
            <a:off x="4679280" y="1858680"/>
            <a:ext cx="37080" cy="102312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"/>
          <p:cNvCxnSpPr>
            <a:stCxn id="239" idx="0"/>
            <a:endCxn id="246" idx="2"/>
          </p:cNvCxnSpPr>
          <p:nvPr/>
        </p:nvCxnSpPr>
        <p:spPr>
          <a:xfrm flipH="1" flipV="1">
            <a:off x="4679640" y="1858680"/>
            <a:ext cx="1458000" cy="102312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5" name=""/>
          <p:cNvCxnSpPr>
            <a:stCxn id="263" idx="0"/>
            <a:endCxn id="240" idx="2"/>
          </p:cNvCxnSpPr>
          <p:nvPr/>
        </p:nvCxnSpPr>
        <p:spPr>
          <a:xfrm flipV="1">
            <a:off x="4600440" y="3979440"/>
            <a:ext cx="116640" cy="5104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41" idx="2"/>
            <a:endCxn id="263" idx="0"/>
          </p:cNvCxnSpPr>
          <p:nvPr/>
        </p:nvCxnSpPr>
        <p:spPr>
          <a:xfrm flipH="1">
            <a:off x="4599720" y="3979800"/>
            <a:ext cx="1537560" cy="5104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36" idx="0"/>
            <a:endCxn id="246" idx="2"/>
          </p:cNvCxnSpPr>
          <p:nvPr/>
        </p:nvCxnSpPr>
        <p:spPr>
          <a:xfrm flipV="1">
            <a:off x="2952720" y="1858680"/>
            <a:ext cx="1728000" cy="9324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8" name=""/>
          <p:cNvCxnSpPr>
            <a:stCxn id="263" idx="0"/>
            <a:endCxn id="237" idx="2"/>
          </p:cNvCxnSpPr>
          <p:nvPr/>
        </p:nvCxnSpPr>
        <p:spPr>
          <a:xfrm flipH="1" flipV="1">
            <a:off x="2952000" y="3979440"/>
            <a:ext cx="1648440" cy="5104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9" name=""/>
          <p:cNvCxnSpPr>
            <a:stCxn id="246" idx="1"/>
            <a:endCxn id="259" idx="0"/>
          </p:cNvCxnSpPr>
          <p:nvPr/>
        </p:nvCxnSpPr>
        <p:spPr>
          <a:xfrm flipV="1" rot="10800000">
            <a:off x="1517040" y="1698120"/>
            <a:ext cx="875160" cy="19944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172360" y="189000"/>
            <a:ext cx="851040" cy="8506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55640" y="4941720"/>
            <a:ext cx="8137440" cy="3070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ажи, статистика обращений, регистрационные данные, мнения и отзывы, иде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Исследуйте и анализируйте!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нтернет-статистика поможет сформировать понимание проблем и гипотезы относительно путей их решени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Чего хотят потенциальные покупатели? (анализ поисковых запросов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Что они находят и покупают? (анализ продаж, траффика, конкурентов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чему, как (где) они покупают (Опрос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-house | offline | on-lin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ртрет целевой аудитории (Анкетирование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-house | offline | on-lin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нтересы / Симпатии / Антипатии (Опрос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еография / Демография / Психография (анкетирова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едиа-предпочтения и практика поиска информации (Опрос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ношение к компании, ее продукции и уровню сервиса (Опрос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4316" t="0" r="0" b="0"/>
          <a:stretch/>
        </p:blipFill>
        <p:spPr>
          <a:xfrm>
            <a:off x="324000" y="5084640"/>
            <a:ext cx="1760400" cy="10731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292720" y="5084640"/>
            <a:ext cx="1239840" cy="1079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987640" y="5084640"/>
            <a:ext cx="1062000" cy="1081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740720" y="5084640"/>
            <a:ext cx="7430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8:07:05Z</dcterms:created>
  <dc:creator>Кирилл Чистов</dc:creator>
  <dc:description/>
  <cp:keywords>e-mail marketing retention loyalty acquisition drive sales</cp:keywords>
  <dc:language>en-US</dc:language>
  <cp:lastModifiedBy>Kirill Chistov</cp:lastModifiedBy>
  <dcterms:modified xsi:type="dcterms:W3CDTF">2005-09-16T04:36:21Z</dcterms:modified>
  <cp:revision>174</cp:revision>
  <dc:subject>Информационные каналы в борьбе за клиентуру</dc:subject>
  <dc:title>InfoChannels and Customer Retention</dc:title>
</cp:coreProperties>
</file>