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8DE3-2EDE-4EB6-AC07-1199BA5B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F9A-FA53-46E2-B741-7A2FB659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E72B-E284-4D3D-A1EB-21936D7B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9D9-3AAE-4471-BB5F-114D8ECF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CE2B-2700-4BAD-A35E-CC7AAE88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136-4440-46AD-A822-E1288146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0CBF-87EF-4B7C-99F1-38376B0D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9ED-010C-4A42-B810-711DB9AB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BF0E-45E5-469A-B581-E086C0BC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EA96-A4DE-446D-8D0C-C63495B6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D8A-7FF8-452B-ABB6-6182C778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BDD-E1B2-4159-9E5B-63292476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2345-648E-4550-B17F-2C962256B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5.png"/><Relationship Id="rId9" Type="http://schemas.openxmlformats.org/officeDocument/2006/relationships/image" Target="../media/image13.png"/><Relationship Id="rId10" Type="http://schemas.openxmlformats.org/officeDocument/2006/relationships/image" Target="../media/image16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ЖДУНАРОДНЫЙ ОПЫТ В ДИРЕКТ-МАРКЕТИНГ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6021000"/>
            <a:ext cx="6296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сква,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адиционная реклама и ДМ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7204320" cy="431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148428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окращение общих расходов на рекламу при росте расходов на Д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иды компаний-заказчиков адресной и безадресной рассылки (различия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557360"/>
            <a:ext cx="43560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еликобритания. Отправители адресных ДМ-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1557360"/>
            <a:ext cx="4392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ранция. Отправители безадресных реклам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Расходы на ДМ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5904000" cy="43243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4360" y="1989000"/>
            <a:ext cx="176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знаграждения аг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онсульта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дрядч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14172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еати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71628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азы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292640"/>
            <a:ext cx="17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чать, произво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4941720"/>
            <a:ext cx="17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чтовая подгот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5589720"/>
            <a:ext cx="176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чтовые 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1557360"/>
            <a:ext cx="2087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995г. рас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33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р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0" y="1557360"/>
            <a:ext cx="2087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00г. рас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р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1557360"/>
            <a:ext cx="208728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03г. рас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лр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549000"/>
            <a:ext cx="698508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ходы на директ-маркетинг по сравнению с классическим маркетингом, млн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67280" y="6093000"/>
            <a:ext cx="1728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: FEDMA</a:t>
            </a: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4000" y="1700280"/>
          <a:ext cx="8820000" cy="4403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00280"/>
                    <a:ext cx="882000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55640" y="333360"/>
            <a:ext cx="439236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раты на доставку, директ-мей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43360" y="1576440"/>
            <a:ext cx="3606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spAutoFit/>
          </a:bodyPr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ассылка</a:t>
            </a:r>
            <a:r>
              <a:rPr b="0" lang="de-AT" sz="1500" spc="-1" strike="noStrike">
                <a:solidFill>
                  <a:srgbClr val="000000"/>
                </a:solidFill>
                <a:latin typeface="Arial"/>
              </a:rPr>
              <a:t>, 4000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шт.</a:t>
            </a:r>
            <a:r>
              <a:rPr b="0" lang="de-AT" sz="1500" spc="-1" strike="noStrike">
                <a:solidFill>
                  <a:srgbClr val="000000"/>
                </a:solidFill>
                <a:latin typeface="Arial"/>
              </a:rPr>
              <a:t>, 20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de-AT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траты на единицу, </a:t>
            </a:r>
            <a:r>
              <a:rPr b="0" lang="de-AT" sz="15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2028960"/>
          <a:ext cx="7704000" cy="439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28960"/>
                    <a:ext cx="770400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64864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упность адресных баз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95280" y="733320"/>
          <a:ext cx="8497800" cy="5464440"/>
        </p:xfrm>
        <a:graphic>
          <a:graphicData uri="http://schemas.openxmlformats.org/drawingml/2006/table">
            <a:tbl>
              <a:tblPr/>
              <a:tblGrid>
                <a:gridCol w="1224000"/>
                <a:gridCol w="1436760"/>
                <a:gridCol w="1947600"/>
                <a:gridCol w="1368720"/>
                <a:gridCol w="1339560"/>
                <a:gridCol w="1181160"/>
              </a:tblGrid>
              <a:tr h="156780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аны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одательство о защите персональных да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онодательство о защите персональных данных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осточной Европе по сравнению с Западной Европ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а компаний / 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а частных лиц / 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жизни / ка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220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ьш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стр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/ нет ин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енгрия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стр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гранич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/ нет ин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овак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го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/ плох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/ нет ин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ловения</a:t>
                      </a: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/ плох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/ нет инф.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/ нет ин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/ нет ин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/ нет ин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а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75600" rIns="75600" tIns="37800" bIns="37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йтраль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0" rIns="75600" tIns="37800" bIns="37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r>
                        <a:rPr b="0" lang="de-A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0" marR="75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4000" y="475920"/>
            <a:ext cx="401652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отклика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13240" y="3567240"/>
            <a:ext cx="766800" cy="338040"/>
          </a:xfrm>
          <a:custGeom>
            <a:avLst/>
            <a:gdLst/>
            <a:ahLst/>
            <a:rect l="l" t="t" r="r" b="b"/>
            <a:pathLst>
              <a:path w="642" h="347">
                <a:moveTo>
                  <a:pt x="642" y="243"/>
                </a:moveTo>
                <a:lnTo>
                  <a:pt x="636" y="243"/>
                </a:lnTo>
                <a:lnTo>
                  <a:pt x="625" y="246"/>
                </a:lnTo>
                <a:lnTo>
                  <a:pt x="615" y="256"/>
                </a:lnTo>
                <a:lnTo>
                  <a:pt x="607" y="268"/>
                </a:lnTo>
                <a:lnTo>
                  <a:pt x="602" y="277"/>
                </a:lnTo>
                <a:lnTo>
                  <a:pt x="600" y="293"/>
                </a:lnTo>
                <a:lnTo>
                  <a:pt x="596" y="303"/>
                </a:lnTo>
                <a:lnTo>
                  <a:pt x="588" y="314"/>
                </a:lnTo>
                <a:lnTo>
                  <a:pt x="576" y="320"/>
                </a:lnTo>
                <a:lnTo>
                  <a:pt x="563" y="314"/>
                </a:lnTo>
                <a:lnTo>
                  <a:pt x="549" y="314"/>
                </a:lnTo>
                <a:lnTo>
                  <a:pt x="539" y="324"/>
                </a:lnTo>
                <a:lnTo>
                  <a:pt x="539" y="338"/>
                </a:lnTo>
                <a:lnTo>
                  <a:pt x="530" y="347"/>
                </a:lnTo>
                <a:lnTo>
                  <a:pt x="516" y="345"/>
                </a:lnTo>
                <a:lnTo>
                  <a:pt x="507" y="340"/>
                </a:lnTo>
                <a:lnTo>
                  <a:pt x="493" y="338"/>
                </a:lnTo>
                <a:lnTo>
                  <a:pt x="458" y="307"/>
                </a:lnTo>
                <a:lnTo>
                  <a:pt x="446" y="301"/>
                </a:lnTo>
                <a:lnTo>
                  <a:pt x="435" y="297"/>
                </a:lnTo>
                <a:lnTo>
                  <a:pt x="425" y="289"/>
                </a:lnTo>
                <a:lnTo>
                  <a:pt x="413" y="283"/>
                </a:lnTo>
                <a:lnTo>
                  <a:pt x="400" y="287"/>
                </a:lnTo>
                <a:lnTo>
                  <a:pt x="388" y="289"/>
                </a:lnTo>
                <a:lnTo>
                  <a:pt x="375" y="287"/>
                </a:lnTo>
                <a:lnTo>
                  <a:pt x="367" y="276"/>
                </a:lnTo>
                <a:lnTo>
                  <a:pt x="361" y="264"/>
                </a:lnTo>
                <a:lnTo>
                  <a:pt x="355" y="252"/>
                </a:lnTo>
                <a:lnTo>
                  <a:pt x="346" y="246"/>
                </a:lnTo>
                <a:lnTo>
                  <a:pt x="332" y="250"/>
                </a:lnTo>
                <a:lnTo>
                  <a:pt x="326" y="264"/>
                </a:lnTo>
                <a:lnTo>
                  <a:pt x="318" y="272"/>
                </a:lnTo>
                <a:lnTo>
                  <a:pt x="307" y="277"/>
                </a:lnTo>
                <a:lnTo>
                  <a:pt x="293" y="281"/>
                </a:lnTo>
                <a:lnTo>
                  <a:pt x="280" y="279"/>
                </a:lnTo>
                <a:lnTo>
                  <a:pt x="268" y="276"/>
                </a:lnTo>
                <a:lnTo>
                  <a:pt x="256" y="272"/>
                </a:lnTo>
                <a:lnTo>
                  <a:pt x="243" y="270"/>
                </a:lnTo>
                <a:lnTo>
                  <a:pt x="231" y="272"/>
                </a:lnTo>
                <a:lnTo>
                  <a:pt x="219" y="270"/>
                </a:lnTo>
                <a:lnTo>
                  <a:pt x="206" y="270"/>
                </a:lnTo>
                <a:lnTo>
                  <a:pt x="194" y="276"/>
                </a:lnTo>
                <a:lnTo>
                  <a:pt x="183" y="274"/>
                </a:lnTo>
                <a:lnTo>
                  <a:pt x="171" y="279"/>
                </a:lnTo>
                <a:lnTo>
                  <a:pt x="159" y="281"/>
                </a:lnTo>
                <a:lnTo>
                  <a:pt x="148" y="277"/>
                </a:lnTo>
                <a:lnTo>
                  <a:pt x="134" y="276"/>
                </a:lnTo>
                <a:lnTo>
                  <a:pt x="121" y="277"/>
                </a:lnTo>
                <a:lnTo>
                  <a:pt x="109" y="279"/>
                </a:lnTo>
                <a:lnTo>
                  <a:pt x="97" y="285"/>
                </a:lnTo>
                <a:lnTo>
                  <a:pt x="86" y="291"/>
                </a:lnTo>
                <a:lnTo>
                  <a:pt x="74" y="297"/>
                </a:lnTo>
                <a:lnTo>
                  <a:pt x="64" y="307"/>
                </a:lnTo>
                <a:lnTo>
                  <a:pt x="53" y="310"/>
                </a:lnTo>
                <a:lnTo>
                  <a:pt x="45" y="322"/>
                </a:lnTo>
                <a:lnTo>
                  <a:pt x="41" y="334"/>
                </a:lnTo>
                <a:lnTo>
                  <a:pt x="31" y="343"/>
                </a:lnTo>
                <a:lnTo>
                  <a:pt x="18" y="340"/>
                </a:lnTo>
                <a:lnTo>
                  <a:pt x="10" y="338"/>
                </a:lnTo>
                <a:lnTo>
                  <a:pt x="6" y="318"/>
                </a:lnTo>
                <a:lnTo>
                  <a:pt x="0" y="301"/>
                </a:lnTo>
                <a:lnTo>
                  <a:pt x="0" y="293"/>
                </a:lnTo>
                <a:lnTo>
                  <a:pt x="0" y="279"/>
                </a:lnTo>
                <a:lnTo>
                  <a:pt x="0" y="260"/>
                </a:lnTo>
                <a:lnTo>
                  <a:pt x="0" y="221"/>
                </a:lnTo>
                <a:lnTo>
                  <a:pt x="6" y="206"/>
                </a:lnTo>
                <a:lnTo>
                  <a:pt x="10" y="194"/>
                </a:lnTo>
                <a:lnTo>
                  <a:pt x="22" y="177"/>
                </a:lnTo>
                <a:lnTo>
                  <a:pt x="26" y="155"/>
                </a:lnTo>
                <a:lnTo>
                  <a:pt x="26" y="132"/>
                </a:lnTo>
                <a:lnTo>
                  <a:pt x="33" y="109"/>
                </a:lnTo>
                <a:lnTo>
                  <a:pt x="47" y="89"/>
                </a:lnTo>
                <a:lnTo>
                  <a:pt x="59" y="78"/>
                </a:lnTo>
                <a:lnTo>
                  <a:pt x="76" y="72"/>
                </a:lnTo>
                <a:lnTo>
                  <a:pt x="93" y="62"/>
                </a:lnTo>
                <a:lnTo>
                  <a:pt x="111" y="54"/>
                </a:lnTo>
                <a:lnTo>
                  <a:pt x="113" y="60"/>
                </a:lnTo>
                <a:lnTo>
                  <a:pt x="123" y="74"/>
                </a:lnTo>
                <a:lnTo>
                  <a:pt x="140" y="89"/>
                </a:lnTo>
                <a:lnTo>
                  <a:pt x="155" y="103"/>
                </a:lnTo>
                <a:lnTo>
                  <a:pt x="161" y="118"/>
                </a:lnTo>
                <a:lnTo>
                  <a:pt x="167" y="128"/>
                </a:lnTo>
                <a:lnTo>
                  <a:pt x="167" y="120"/>
                </a:lnTo>
                <a:lnTo>
                  <a:pt x="167" y="113"/>
                </a:lnTo>
                <a:lnTo>
                  <a:pt x="179" y="136"/>
                </a:lnTo>
                <a:lnTo>
                  <a:pt x="188" y="148"/>
                </a:lnTo>
                <a:lnTo>
                  <a:pt x="216" y="159"/>
                </a:lnTo>
                <a:lnTo>
                  <a:pt x="223" y="157"/>
                </a:lnTo>
                <a:lnTo>
                  <a:pt x="247" y="144"/>
                </a:lnTo>
                <a:lnTo>
                  <a:pt x="249" y="151"/>
                </a:lnTo>
                <a:lnTo>
                  <a:pt x="256" y="161"/>
                </a:lnTo>
                <a:lnTo>
                  <a:pt x="256" y="138"/>
                </a:lnTo>
                <a:lnTo>
                  <a:pt x="264" y="126"/>
                </a:lnTo>
                <a:lnTo>
                  <a:pt x="268" y="115"/>
                </a:lnTo>
                <a:lnTo>
                  <a:pt x="266" y="89"/>
                </a:lnTo>
                <a:lnTo>
                  <a:pt x="258" y="35"/>
                </a:lnTo>
                <a:lnTo>
                  <a:pt x="260" y="35"/>
                </a:lnTo>
                <a:lnTo>
                  <a:pt x="283" y="27"/>
                </a:lnTo>
                <a:lnTo>
                  <a:pt x="293" y="20"/>
                </a:lnTo>
                <a:lnTo>
                  <a:pt x="301" y="10"/>
                </a:lnTo>
                <a:lnTo>
                  <a:pt x="315" y="6"/>
                </a:lnTo>
                <a:lnTo>
                  <a:pt x="326" y="4"/>
                </a:lnTo>
                <a:lnTo>
                  <a:pt x="340" y="0"/>
                </a:lnTo>
                <a:lnTo>
                  <a:pt x="351" y="0"/>
                </a:lnTo>
                <a:lnTo>
                  <a:pt x="365" y="2"/>
                </a:lnTo>
                <a:lnTo>
                  <a:pt x="377" y="6"/>
                </a:lnTo>
                <a:lnTo>
                  <a:pt x="386" y="14"/>
                </a:lnTo>
                <a:lnTo>
                  <a:pt x="400" y="16"/>
                </a:lnTo>
                <a:lnTo>
                  <a:pt x="410" y="20"/>
                </a:lnTo>
                <a:lnTo>
                  <a:pt x="417" y="27"/>
                </a:lnTo>
                <a:lnTo>
                  <a:pt x="421" y="31"/>
                </a:lnTo>
                <a:lnTo>
                  <a:pt x="458" y="56"/>
                </a:lnTo>
                <a:lnTo>
                  <a:pt x="470" y="54"/>
                </a:lnTo>
                <a:lnTo>
                  <a:pt x="481" y="47"/>
                </a:lnTo>
                <a:lnTo>
                  <a:pt x="491" y="43"/>
                </a:lnTo>
                <a:lnTo>
                  <a:pt x="505" y="39"/>
                </a:lnTo>
                <a:lnTo>
                  <a:pt x="516" y="41"/>
                </a:lnTo>
                <a:lnTo>
                  <a:pt x="528" y="43"/>
                </a:lnTo>
                <a:lnTo>
                  <a:pt x="530" y="43"/>
                </a:lnTo>
                <a:lnTo>
                  <a:pt x="541" y="51"/>
                </a:lnTo>
                <a:lnTo>
                  <a:pt x="549" y="60"/>
                </a:lnTo>
                <a:lnTo>
                  <a:pt x="561" y="64"/>
                </a:lnTo>
                <a:lnTo>
                  <a:pt x="569" y="76"/>
                </a:lnTo>
                <a:lnTo>
                  <a:pt x="572" y="85"/>
                </a:lnTo>
                <a:lnTo>
                  <a:pt x="572" y="111"/>
                </a:lnTo>
                <a:lnTo>
                  <a:pt x="569" y="136"/>
                </a:lnTo>
                <a:lnTo>
                  <a:pt x="582" y="138"/>
                </a:lnTo>
                <a:lnTo>
                  <a:pt x="594" y="144"/>
                </a:lnTo>
                <a:lnTo>
                  <a:pt x="596" y="155"/>
                </a:lnTo>
                <a:lnTo>
                  <a:pt x="621" y="184"/>
                </a:lnTo>
                <a:lnTo>
                  <a:pt x="627" y="198"/>
                </a:lnTo>
                <a:lnTo>
                  <a:pt x="634" y="206"/>
                </a:lnTo>
                <a:lnTo>
                  <a:pt x="642" y="243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73720" y="4991040"/>
            <a:ext cx="1262160" cy="722520"/>
          </a:xfrm>
          <a:custGeom>
            <a:avLst/>
            <a:gdLst/>
            <a:ahLst/>
            <a:rect l="l" t="t" r="r" b="b"/>
            <a:pathLst>
              <a:path w="1057" h="741">
                <a:moveTo>
                  <a:pt x="9" y="408"/>
                </a:moveTo>
                <a:lnTo>
                  <a:pt x="29" y="400"/>
                </a:lnTo>
                <a:lnTo>
                  <a:pt x="68" y="386"/>
                </a:lnTo>
                <a:lnTo>
                  <a:pt x="97" y="369"/>
                </a:lnTo>
                <a:lnTo>
                  <a:pt x="108" y="334"/>
                </a:lnTo>
                <a:lnTo>
                  <a:pt x="120" y="313"/>
                </a:lnTo>
                <a:lnTo>
                  <a:pt x="134" y="280"/>
                </a:lnTo>
                <a:lnTo>
                  <a:pt x="141" y="254"/>
                </a:lnTo>
                <a:lnTo>
                  <a:pt x="163" y="225"/>
                </a:lnTo>
                <a:lnTo>
                  <a:pt x="165" y="204"/>
                </a:lnTo>
                <a:lnTo>
                  <a:pt x="174" y="183"/>
                </a:lnTo>
                <a:lnTo>
                  <a:pt x="174" y="169"/>
                </a:lnTo>
                <a:lnTo>
                  <a:pt x="192" y="146"/>
                </a:lnTo>
                <a:lnTo>
                  <a:pt x="217" y="130"/>
                </a:lnTo>
                <a:lnTo>
                  <a:pt x="231" y="130"/>
                </a:lnTo>
                <a:lnTo>
                  <a:pt x="244" y="117"/>
                </a:lnTo>
                <a:lnTo>
                  <a:pt x="250" y="101"/>
                </a:lnTo>
                <a:lnTo>
                  <a:pt x="264" y="95"/>
                </a:lnTo>
                <a:lnTo>
                  <a:pt x="296" y="92"/>
                </a:lnTo>
                <a:lnTo>
                  <a:pt x="329" y="92"/>
                </a:lnTo>
                <a:lnTo>
                  <a:pt x="376" y="92"/>
                </a:lnTo>
                <a:lnTo>
                  <a:pt x="405" y="78"/>
                </a:lnTo>
                <a:lnTo>
                  <a:pt x="432" y="72"/>
                </a:lnTo>
                <a:lnTo>
                  <a:pt x="456" y="88"/>
                </a:lnTo>
                <a:lnTo>
                  <a:pt x="475" y="97"/>
                </a:lnTo>
                <a:lnTo>
                  <a:pt x="504" y="72"/>
                </a:lnTo>
                <a:lnTo>
                  <a:pt x="533" y="59"/>
                </a:lnTo>
                <a:lnTo>
                  <a:pt x="564" y="53"/>
                </a:lnTo>
                <a:lnTo>
                  <a:pt x="622" y="2"/>
                </a:lnTo>
                <a:lnTo>
                  <a:pt x="649" y="0"/>
                </a:lnTo>
                <a:lnTo>
                  <a:pt x="663" y="8"/>
                </a:lnTo>
                <a:lnTo>
                  <a:pt x="677" y="14"/>
                </a:lnTo>
                <a:lnTo>
                  <a:pt x="706" y="35"/>
                </a:lnTo>
                <a:lnTo>
                  <a:pt x="725" y="59"/>
                </a:lnTo>
                <a:lnTo>
                  <a:pt x="737" y="88"/>
                </a:lnTo>
                <a:lnTo>
                  <a:pt x="766" y="125"/>
                </a:lnTo>
                <a:lnTo>
                  <a:pt x="801" y="159"/>
                </a:lnTo>
                <a:lnTo>
                  <a:pt x="828" y="194"/>
                </a:lnTo>
                <a:lnTo>
                  <a:pt x="849" y="249"/>
                </a:lnTo>
                <a:lnTo>
                  <a:pt x="857" y="284"/>
                </a:lnTo>
                <a:lnTo>
                  <a:pt x="857" y="318"/>
                </a:lnTo>
                <a:lnTo>
                  <a:pt x="867" y="342"/>
                </a:lnTo>
                <a:lnTo>
                  <a:pt x="874" y="363"/>
                </a:lnTo>
                <a:lnTo>
                  <a:pt x="878" y="388"/>
                </a:lnTo>
                <a:lnTo>
                  <a:pt x="880" y="400"/>
                </a:lnTo>
                <a:lnTo>
                  <a:pt x="898" y="394"/>
                </a:lnTo>
                <a:lnTo>
                  <a:pt x="913" y="408"/>
                </a:lnTo>
                <a:lnTo>
                  <a:pt x="917" y="414"/>
                </a:lnTo>
                <a:lnTo>
                  <a:pt x="929" y="421"/>
                </a:lnTo>
                <a:lnTo>
                  <a:pt x="950" y="417"/>
                </a:lnTo>
                <a:lnTo>
                  <a:pt x="967" y="398"/>
                </a:lnTo>
                <a:lnTo>
                  <a:pt x="995" y="386"/>
                </a:lnTo>
                <a:lnTo>
                  <a:pt x="1012" y="377"/>
                </a:lnTo>
                <a:lnTo>
                  <a:pt x="1030" y="375"/>
                </a:lnTo>
                <a:lnTo>
                  <a:pt x="1041" y="377"/>
                </a:lnTo>
                <a:lnTo>
                  <a:pt x="1049" y="390"/>
                </a:lnTo>
                <a:lnTo>
                  <a:pt x="1051" y="402"/>
                </a:lnTo>
                <a:lnTo>
                  <a:pt x="1057" y="425"/>
                </a:lnTo>
                <a:lnTo>
                  <a:pt x="1057" y="446"/>
                </a:lnTo>
                <a:lnTo>
                  <a:pt x="1045" y="472"/>
                </a:lnTo>
                <a:lnTo>
                  <a:pt x="1026" y="479"/>
                </a:lnTo>
                <a:lnTo>
                  <a:pt x="1008" y="499"/>
                </a:lnTo>
                <a:lnTo>
                  <a:pt x="997" y="522"/>
                </a:lnTo>
                <a:lnTo>
                  <a:pt x="987" y="538"/>
                </a:lnTo>
                <a:lnTo>
                  <a:pt x="977" y="528"/>
                </a:lnTo>
                <a:lnTo>
                  <a:pt x="987" y="510"/>
                </a:lnTo>
                <a:lnTo>
                  <a:pt x="995" y="483"/>
                </a:lnTo>
                <a:lnTo>
                  <a:pt x="993" y="472"/>
                </a:lnTo>
                <a:lnTo>
                  <a:pt x="989" y="456"/>
                </a:lnTo>
                <a:lnTo>
                  <a:pt x="975" y="458"/>
                </a:lnTo>
                <a:lnTo>
                  <a:pt x="975" y="479"/>
                </a:lnTo>
                <a:lnTo>
                  <a:pt x="977" y="507"/>
                </a:lnTo>
                <a:lnTo>
                  <a:pt x="971" y="534"/>
                </a:lnTo>
                <a:lnTo>
                  <a:pt x="973" y="555"/>
                </a:lnTo>
                <a:lnTo>
                  <a:pt x="969" y="573"/>
                </a:lnTo>
                <a:lnTo>
                  <a:pt x="977" y="609"/>
                </a:lnTo>
                <a:lnTo>
                  <a:pt x="977" y="625"/>
                </a:lnTo>
                <a:lnTo>
                  <a:pt x="985" y="648"/>
                </a:lnTo>
                <a:lnTo>
                  <a:pt x="948" y="658"/>
                </a:lnTo>
                <a:lnTo>
                  <a:pt x="902" y="638"/>
                </a:lnTo>
                <a:lnTo>
                  <a:pt x="839" y="635"/>
                </a:lnTo>
                <a:lnTo>
                  <a:pt x="824" y="625"/>
                </a:lnTo>
                <a:lnTo>
                  <a:pt x="785" y="631"/>
                </a:lnTo>
                <a:lnTo>
                  <a:pt x="737" y="654"/>
                </a:lnTo>
                <a:lnTo>
                  <a:pt x="694" y="683"/>
                </a:lnTo>
                <a:lnTo>
                  <a:pt x="661" y="714"/>
                </a:lnTo>
                <a:lnTo>
                  <a:pt x="628" y="728"/>
                </a:lnTo>
                <a:lnTo>
                  <a:pt x="576" y="728"/>
                </a:lnTo>
                <a:lnTo>
                  <a:pt x="537" y="726"/>
                </a:lnTo>
                <a:lnTo>
                  <a:pt x="452" y="737"/>
                </a:lnTo>
                <a:lnTo>
                  <a:pt x="378" y="737"/>
                </a:lnTo>
                <a:lnTo>
                  <a:pt x="351" y="741"/>
                </a:lnTo>
                <a:lnTo>
                  <a:pt x="328" y="726"/>
                </a:lnTo>
                <a:lnTo>
                  <a:pt x="337" y="695"/>
                </a:lnTo>
                <a:lnTo>
                  <a:pt x="312" y="689"/>
                </a:lnTo>
                <a:lnTo>
                  <a:pt x="291" y="685"/>
                </a:lnTo>
                <a:lnTo>
                  <a:pt x="271" y="654"/>
                </a:lnTo>
                <a:lnTo>
                  <a:pt x="289" y="631"/>
                </a:lnTo>
                <a:lnTo>
                  <a:pt x="273" y="609"/>
                </a:lnTo>
                <a:lnTo>
                  <a:pt x="250" y="631"/>
                </a:lnTo>
                <a:lnTo>
                  <a:pt x="225" y="625"/>
                </a:lnTo>
                <a:lnTo>
                  <a:pt x="192" y="615"/>
                </a:lnTo>
                <a:lnTo>
                  <a:pt x="159" y="596"/>
                </a:lnTo>
                <a:lnTo>
                  <a:pt x="153" y="565"/>
                </a:lnTo>
                <a:lnTo>
                  <a:pt x="145" y="545"/>
                </a:lnTo>
                <a:lnTo>
                  <a:pt x="130" y="536"/>
                </a:lnTo>
                <a:lnTo>
                  <a:pt x="108" y="534"/>
                </a:lnTo>
                <a:lnTo>
                  <a:pt x="87" y="509"/>
                </a:lnTo>
                <a:lnTo>
                  <a:pt x="75" y="472"/>
                </a:lnTo>
                <a:lnTo>
                  <a:pt x="62" y="450"/>
                </a:lnTo>
                <a:lnTo>
                  <a:pt x="39" y="427"/>
                </a:lnTo>
                <a:lnTo>
                  <a:pt x="9" y="417"/>
                </a:lnTo>
                <a:lnTo>
                  <a:pt x="0" y="412"/>
                </a:lnTo>
                <a:lnTo>
                  <a:pt x="9" y="408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02160" y="5297400"/>
            <a:ext cx="380880" cy="222480"/>
          </a:xfrm>
          <a:custGeom>
            <a:avLst/>
            <a:gdLst/>
            <a:ahLst/>
            <a:rect l="l" t="t" r="r" b="b"/>
            <a:pathLst>
              <a:path w="320" h="227">
                <a:moveTo>
                  <a:pt x="320" y="19"/>
                </a:moveTo>
                <a:lnTo>
                  <a:pt x="314" y="7"/>
                </a:lnTo>
                <a:lnTo>
                  <a:pt x="300" y="2"/>
                </a:lnTo>
                <a:lnTo>
                  <a:pt x="285" y="0"/>
                </a:lnTo>
                <a:lnTo>
                  <a:pt x="269" y="7"/>
                </a:lnTo>
                <a:lnTo>
                  <a:pt x="269" y="15"/>
                </a:lnTo>
                <a:lnTo>
                  <a:pt x="265" y="23"/>
                </a:lnTo>
                <a:lnTo>
                  <a:pt x="261" y="23"/>
                </a:lnTo>
                <a:lnTo>
                  <a:pt x="250" y="21"/>
                </a:lnTo>
                <a:lnTo>
                  <a:pt x="230" y="19"/>
                </a:lnTo>
                <a:lnTo>
                  <a:pt x="225" y="21"/>
                </a:lnTo>
                <a:lnTo>
                  <a:pt x="213" y="36"/>
                </a:lnTo>
                <a:lnTo>
                  <a:pt x="203" y="35"/>
                </a:lnTo>
                <a:lnTo>
                  <a:pt x="194" y="33"/>
                </a:lnTo>
                <a:lnTo>
                  <a:pt x="176" y="29"/>
                </a:lnTo>
                <a:lnTo>
                  <a:pt x="166" y="31"/>
                </a:lnTo>
                <a:lnTo>
                  <a:pt x="151" y="36"/>
                </a:lnTo>
                <a:lnTo>
                  <a:pt x="141" y="44"/>
                </a:lnTo>
                <a:lnTo>
                  <a:pt x="133" y="56"/>
                </a:lnTo>
                <a:lnTo>
                  <a:pt x="122" y="64"/>
                </a:lnTo>
                <a:lnTo>
                  <a:pt x="116" y="66"/>
                </a:lnTo>
                <a:lnTo>
                  <a:pt x="102" y="66"/>
                </a:lnTo>
                <a:lnTo>
                  <a:pt x="91" y="64"/>
                </a:lnTo>
                <a:lnTo>
                  <a:pt x="60" y="60"/>
                </a:lnTo>
                <a:lnTo>
                  <a:pt x="27" y="60"/>
                </a:lnTo>
                <a:lnTo>
                  <a:pt x="15" y="69"/>
                </a:lnTo>
                <a:lnTo>
                  <a:pt x="5" y="77"/>
                </a:lnTo>
                <a:lnTo>
                  <a:pt x="0" y="93"/>
                </a:lnTo>
                <a:lnTo>
                  <a:pt x="0" y="102"/>
                </a:lnTo>
                <a:lnTo>
                  <a:pt x="5" y="104"/>
                </a:lnTo>
                <a:lnTo>
                  <a:pt x="13" y="102"/>
                </a:lnTo>
                <a:lnTo>
                  <a:pt x="17" y="102"/>
                </a:lnTo>
                <a:lnTo>
                  <a:pt x="11" y="116"/>
                </a:lnTo>
                <a:lnTo>
                  <a:pt x="9" y="131"/>
                </a:lnTo>
                <a:lnTo>
                  <a:pt x="13" y="143"/>
                </a:lnTo>
                <a:lnTo>
                  <a:pt x="17" y="143"/>
                </a:lnTo>
                <a:lnTo>
                  <a:pt x="17" y="161"/>
                </a:lnTo>
                <a:lnTo>
                  <a:pt x="21" y="164"/>
                </a:lnTo>
                <a:lnTo>
                  <a:pt x="31" y="170"/>
                </a:lnTo>
                <a:lnTo>
                  <a:pt x="38" y="172"/>
                </a:lnTo>
                <a:lnTo>
                  <a:pt x="42" y="182"/>
                </a:lnTo>
                <a:lnTo>
                  <a:pt x="50" y="186"/>
                </a:lnTo>
                <a:lnTo>
                  <a:pt x="54" y="195"/>
                </a:lnTo>
                <a:lnTo>
                  <a:pt x="52" y="203"/>
                </a:lnTo>
                <a:lnTo>
                  <a:pt x="44" y="209"/>
                </a:lnTo>
                <a:lnTo>
                  <a:pt x="33" y="211"/>
                </a:lnTo>
                <a:lnTo>
                  <a:pt x="23" y="209"/>
                </a:lnTo>
                <a:lnTo>
                  <a:pt x="21" y="207"/>
                </a:lnTo>
                <a:lnTo>
                  <a:pt x="11" y="217"/>
                </a:lnTo>
                <a:lnTo>
                  <a:pt x="11" y="221"/>
                </a:lnTo>
                <a:lnTo>
                  <a:pt x="35" y="227"/>
                </a:lnTo>
                <a:lnTo>
                  <a:pt x="42" y="219"/>
                </a:lnTo>
                <a:lnTo>
                  <a:pt x="69" y="219"/>
                </a:lnTo>
                <a:lnTo>
                  <a:pt x="89" y="209"/>
                </a:lnTo>
                <a:lnTo>
                  <a:pt x="101" y="192"/>
                </a:lnTo>
                <a:lnTo>
                  <a:pt x="137" y="213"/>
                </a:lnTo>
                <a:lnTo>
                  <a:pt x="147" y="205"/>
                </a:lnTo>
                <a:lnTo>
                  <a:pt x="172" y="213"/>
                </a:lnTo>
                <a:lnTo>
                  <a:pt x="190" y="209"/>
                </a:lnTo>
                <a:lnTo>
                  <a:pt x="184" y="192"/>
                </a:lnTo>
                <a:lnTo>
                  <a:pt x="192" y="170"/>
                </a:lnTo>
                <a:lnTo>
                  <a:pt x="178" y="155"/>
                </a:lnTo>
                <a:lnTo>
                  <a:pt x="203" y="143"/>
                </a:lnTo>
                <a:lnTo>
                  <a:pt x="211" y="91"/>
                </a:lnTo>
                <a:lnTo>
                  <a:pt x="256" y="81"/>
                </a:lnTo>
                <a:lnTo>
                  <a:pt x="269" y="67"/>
                </a:lnTo>
                <a:lnTo>
                  <a:pt x="293" y="56"/>
                </a:lnTo>
                <a:lnTo>
                  <a:pt x="296" y="27"/>
                </a:lnTo>
                <a:lnTo>
                  <a:pt x="320" y="1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36960" y="5016600"/>
            <a:ext cx="836640" cy="442800"/>
          </a:xfrm>
          <a:custGeom>
            <a:avLst/>
            <a:gdLst/>
            <a:ahLst/>
            <a:rect l="l" t="t" r="r" b="b"/>
            <a:pathLst>
              <a:path w="698" h="451">
                <a:moveTo>
                  <a:pt x="616" y="13"/>
                </a:moveTo>
                <a:lnTo>
                  <a:pt x="646" y="25"/>
                </a:lnTo>
                <a:lnTo>
                  <a:pt x="671" y="40"/>
                </a:lnTo>
                <a:lnTo>
                  <a:pt x="688" y="54"/>
                </a:lnTo>
                <a:lnTo>
                  <a:pt x="698" y="73"/>
                </a:lnTo>
                <a:lnTo>
                  <a:pt x="692" y="89"/>
                </a:lnTo>
                <a:lnTo>
                  <a:pt x="679" y="102"/>
                </a:lnTo>
                <a:lnTo>
                  <a:pt x="665" y="102"/>
                </a:lnTo>
                <a:lnTo>
                  <a:pt x="640" y="118"/>
                </a:lnTo>
                <a:lnTo>
                  <a:pt x="622" y="141"/>
                </a:lnTo>
                <a:lnTo>
                  <a:pt x="622" y="155"/>
                </a:lnTo>
                <a:lnTo>
                  <a:pt x="613" y="176"/>
                </a:lnTo>
                <a:lnTo>
                  <a:pt x="611" y="197"/>
                </a:lnTo>
                <a:lnTo>
                  <a:pt x="589" y="226"/>
                </a:lnTo>
                <a:lnTo>
                  <a:pt x="582" y="252"/>
                </a:lnTo>
                <a:lnTo>
                  <a:pt x="568" y="285"/>
                </a:lnTo>
                <a:lnTo>
                  <a:pt x="556" y="306"/>
                </a:lnTo>
                <a:lnTo>
                  <a:pt x="545" y="341"/>
                </a:lnTo>
                <a:lnTo>
                  <a:pt x="516" y="358"/>
                </a:lnTo>
                <a:lnTo>
                  <a:pt x="477" y="372"/>
                </a:lnTo>
                <a:lnTo>
                  <a:pt x="457" y="380"/>
                </a:lnTo>
                <a:lnTo>
                  <a:pt x="448" y="384"/>
                </a:lnTo>
                <a:lnTo>
                  <a:pt x="438" y="370"/>
                </a:lnTo>
                <a:lnTo>
                  <a:pt x="415" y="380"/>
                </a:lnTo>
                <a:lnTo>
                  <a:pt x="390" y="382"/>
                </a:lnTo>
                <a:lnTo>
                  <a:pt x="360" y="403"/>
                </a:lnTo>
                <a:lnTo>
                  <a:pt x="331" y="407"/>
                </a:lnTo>
                <a:lnTo>
                  <a:pt x="320" y="418"/>
                </a:lnTo>
                <a:lnTo>
                  <a:pt x="293" y="422"/>
                </a:lnTo>
                <a:lnTo>
                  <a:pt x="267" y="440"/>
                </a:lnTo>
                <a:lnTo>
                  <a:pt x="240" y="448"/>
                </a:lnTo>
                <a:lnTo>
                  <a:pt x="207" y="451"/>
                </a:lnTo>
                <a:lnTo>
                  <a:pt x="176" y="434"/>
                </a:lnTo>
                <a:lnTo>
                  <a:pt x="153" y="428"/>
                </a:lnTo>
                <a:lnTo>
                  <a:pt x="132" y="397"/>
                </a:lnTo>
                <a:lnTo>
                  <a:pt x="103" y="386"/>
                </a:lnTo>
                <a:lnTo>
                  <a:pt x="81" y="356"/>
                </a:lnTo>
                <a:lnTo>
                  <a:pt x="58" y="347"/>
                </a:lnTo>
                <a:lnTo>
                  <a:pt x="40" y="320"/>
                </a:lnTo>
                <a:lnTo>
                  <a:pt x="35" y="306"/>
                </a:lnTo>
                <a:lnTo>
                  <a:pt x="29" y="294"/>
                </a:lnTo>
                <a:lnTo>
                  <a:pt x="15" y="289"/>
                </a:lnTo>
                <a:lnTo>
                  <a:pt x="0" y="287"/>
                </a:lnTo>
                <a:lnTo>
                  <a:pt x="4" y="281"/>
                </a:lnTo>
                <a:lnTo>
                  <a:pt x="19" y="265"/>
                </a:lnTo>
                <a:lnTo>
                  <a:pt x="42" y="259"/>
                </a:lnTo>
                <a:lnTo>
                  <a:pt x="39" y="238"/>
                </a:lnTo>
                <a:lnTo>
                  <a:pt x="39" y="221"/>
                </a:lnTo>
                <a:lnTo>
                  <a:pt x="42" y="211"/>
                </a:lnTo>
                <a:lnTo>
                  <a:pt x="54" y="186"/>
                </a:lnTo>
                <a:lnTo>
                  <a:pt x="42" y="168"/>
                </a:lnTo>
                <a:lnTo>
                  <a:pt x="48" y="153"/>
                </a:lnTo>
                <a:lnTo>
                  <a:pt x="70" y="153"/>
                </a:lnTo>
                <a:lnTo>
                  <a:pt x="99" y="153"/>
                </a:lnTo>
                <a:lnTo>
                  <a:pt x="106" y="135"/>
                </a:lnTo>
                <a:lnTo>
                  <a:pt x="106" y="114"/>
                </a:lnTo>
                <a:lnTo>
                  <a:pt x="106" y="98"/>
                </a:lnTo>
                <a:lnTo>
                  <a:pt x="118" y="104"/>
                </a:lnTo>
                <a:lnTo>
                  <a:pt x="132" y="112"/>
                </a:lnTo>
                <a:lnTo>
                  <a:pt x="168" y="137"/>
                </a:lnTo>
                <a:lnTo>
                  <a:pt x="180" y="145"/>
                </a:lnTo>
                <a:lnTo>
                  <a:pt x="200" y="143"/>
                </a:lnTo>
                <a:lnTo>
                  <a:pt x="219" y="141"/>
                </a:lnTo>
                <a:lnTo>
                  <a:pt x="232" y="139"/>
                </a:lnTo>
                <a:lnTo>
                  <a:pt x="244" y="141"/>
                </a:lnTo>
                <a:lnTo>
                  <a:pt x="254" y="139"/>
                </a:lnTo>
                <a:lnTo>
                  <a:pt x="262" y="126"/>
                </a:lnTo>
                <a:lnTo>
                  <a:pt x="265" y="122"/>
                </a:lnTo>
                <a:lnTo>
                  <a:pt x="279" y="100"/>
                </a:lnTo>
                <a:lnTo>
                  <a:pt x="306" y="93"/>
                </a:lnTo>
                <a:lnTo>
                  <a:pt x="335" y="81"/>
                </a:lnTo>
                <a:lnTo>
                  <a:pt x="364" y="62"/>
                </a:lnTo>
                <a:lnTo>
                  <a:pt x="397" y="69"/>
                </a:lnTo>
                <a:lnTo>
                  <a:pt x="421" y="54"/>
                </a:lnTo>
                <a:lnTo>
                  <a:pt x="440" y="48"/>
                </a:lnTo>
                <a:lnTo>
                  <a:pt x="448" y="25"/>
                </a:lnTo>
                <a:lnTo>
                  <a:pt x="477" y="5"/>
                </a:lnTo>
                <a:lnTo>
                  <a:pt x="510" y="5"/>
                </a:lnTo>
                <a:lnTo>
                  <a:pt x="531" y="0"/>
                </a:lnTo>
                <a:lnTo>
                  <a:pt x="560" y="5"/>
                </a:lnTo>
                <a:lnTo>
                  <a:pt x="593" y="23"/>
                </a:lnTo>
                <a:lnTo>
                  <a:pt x="616" y="1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89400" y="5376960"/>
            <a:ext cx="594000" cy="647640"/>
          </a:xfrm>
          <a:custGeom>
            <a:avLst/>
            <a:gdLst/>
            <a:ahLst/>
            <a:rect l="l" t="t" r="r" b="b"/>
            <a:pathLst>
              <a:path w="496" h="659">
                <a:moveTo>
                  <a:pt x="155" y="14"/>
                </a:moveTo>
                <a:lnTo>
                  <a:pt x="164" y="19"/>
                </a:lnTo>
                <a:lnTo>
                  <a:pt x="194" y="29"/>
                </a:lnTo>
                <a:lnTo>
                  <a:pt x="217" y="52"/>
                </a:lnTo>
                <a:lnTo>
                  <a:pt x="230" y="74"/>
                </a:lnTo>
                <a:lnTo>
                  <a:pt x="242" y="111"/>
                </a:lnTo>
                <a:lnTo>
                  <a:pt x="263" y="136"/>
                </a:lnTo>
                <a:lnTo>
                  <a:pt x="285" y="138"/>
                </a:lnTo>
                <a:lnTo>
                  <a:pt x="300" y="147"/>
                </a:lnTo>
                <a:lnTo>
                  <a:pt x="308" y="167"/>
                </a:lnTo>
                <a:lnTo>
                  <a:pt x="314" y="198"/>
                </a:lnTo>
                <a:lnTo>
                  <a:pt x="347" y="217"/>
                </a:lnTo>
                <a:lnTo>
                  <a:pt x="380" y="227"/>
                </a:lnTo>
                <a:lnTo>
                  <a:pt x="405" y="233"/>
                </a:lnTo>
                <a:lnTo>
                  <a:pt x="428" y="211"/>
                </a:lnTo>
                <a:lnTo>
                  <a:pt x="444" y="233"/>
                </a:lnTo>
                <a:lnTo>
                  <a:pt x="426" y="256"/>
                </a:lnTo>
                <a:lnTo>
                  <a:pt x="446" y="287"/>
                </a:lnTo>
                <a:lnTo>
                  <a:pt x="467" y="291"/>
                </a:lnTo>
                <a:lnTo>
                  <a:pt x="432" y="310"/>
                </a:lnTo>
                <a:lnTo>
                  <a:pt x="430" y="355"/>
                </a:lnTo>
                <a:lnTo>
                  <a:pt x="442" y="398"/>
                </a:lnTo>
                <a:lnTo>
                  <a:pt x="463" y="425"/>
                </a:lnTo>
                <a:lnTo>
                  <a:pt x="496" y="456"/>
                </a:lnTo>
                <a:lnTo>
                  <a:pt x="477" y="483"/>
                </a:lnTo>
                <a:lnTo>
                  <a:pt x="455" y="537"/>
                </a:lnTo>
                <a:lnTo>
                  <a:pt x="459" y="574"/>
                </a:lnTo>
                <a:lnTo>
                  <a:pt x="436" y="566"/>
                </a:lnTo>
                <a:lnTo>
                  <a:pt x="417" y="578"/>
                </a:lnTo>
                <a:lnTo>
                  <a:pt x="389" y="570"/>
                </a:lnTo>
                <a:lnTo>
                  <a:pt x="370" y="582"/>
                </a:lnTo>
                <a:lnTo>
                  <a:pt x="337" y="578"/>
                </a:lnTo>
                <a:lnTo>
                  <a:pt x="333" y="593"/>
                </a:lnTo>
                <a:lnTo>
                  <a:pt x="314" y="599"/>
                </a:lnTo>
                <a:lnTo>
                  <a:pt x="302" y="592"/>
                </a:lnTo>
                <a:lnTo>
                  <a:pt x="267" y="619"/>
                </a:lnTo>
                <a:lnTo>
                  <a:pt x="267" y="650"/>
                </a:lnTo>
                <a:lnTo>
                  <a:pt x="252" y="659"/>
                </a:lnTo>
                <a:lnTo>
                  <a:pt x="254" y="636"/>
                </a:lnTo>
                <a:lnTo>
                  <a:pt x="227" y="605"/>
                </a:lnTo>
                <a:lnTo>
                  <a:pt x="205" y="597"/>
                </a:lnTo>
                <a:lnTo>
                  <a:pt x="190" y="574"/>
                </a:lnTo>
                <a:lnTo>
                  <a:pt x="163" y="574"/>
                </a:lnTo>
                <a:lnTo>
                  <a:pt x="161" y="543"/>
                </a:lnTo>
                <a:lnTo>
                  <a:pt x="161" y="531"/>
                </a:lnTo>
                <a:lnTo>
                  <a:pt x="166" y="528"/>
                </a:lnTo>
                <a:lnTo>
                  <a:pt x="184" y="543"/>
                </a:lnTo>
                <a:lnTo>
                  <a:pt x="194" y="528"/>
                </a:lnTo>
                <a:lnTo>
                  <a:pt x="205" y="522"/>
                </a:lnTo>
                <a:lnTo>
                  <a:pt x="195" y="510"/>
                </a:lnTo>
                <a:lnTo>
                  <a:pt x="176" y="506"/>
                </a:lnTo>
                <a:lnTo>
                  <a:pt x="159" y="496"/>
                </a:lnTo>
                <a:lnTo>
                  <a:pt x="141" y="485"/>
                </a:lnTo>
                <a:lnTo>
                  <a:pt x="135" y="483"/>
                </a:lnTo>
                <a:lnTo>
                  <a:pt x="112" y="465"/>
                </a:lnTo>
                <a:lnTo>
                  <a:pt x="93" y="448"/>
                </a:lnTo>
                <a:lnTo>
                  <a:pt x="73" y="434"/>
                </a:lnTo>
                <a:lnTo>
                  <a:pt x="77" y="417"/>
                </a:lnTo>
                <a:lnTo>
                  <a:pt x="85" y="400"/>
                </a:lnTo>
                <a:lnTo>
                  <a:pt x="102" y="405"/>
                </a:lnTo>
                <a:lnTo>
                  <a:pt x="108" y="394"/>
                </a:lnTo>
                <a:lnTo>
                  <a:pt x="83" y="353"/>
                </a:lnTo>
                <a:lnTo>
                  <a:pt x="89" y="345"/>
                </a:lnTo>
                <a:lnTo>
                  <a:pt x="112" y="345"/>
                </a:lnTo>
                <a:lnTo>
                  <a:pt x="118" y="330"/>
                </a:lnTo>
                <a:lnTo>
                  <a:pt x="85" y="306"/>
                </a:lnTo>
                <a:lnTo>
                  <a:pt x="67" y="303"/>
                </a:lnTo>
                <a:lnTo>
                  <a:pt x="60" y="285"/>
                </a:lnTo>
                <a:lnTo>
                  <a:pt x="95" y="215"/>
                </a:lnTo>
                <a:lnTo>
                  <a:pt x="58" y="208"/>
                </a:lnTo>
                <a:lnTo>
                  <a:pt x="66" y="169"/>
                </a:lnTo>
                <a:lnTo>
                  <a:pt x="100" y="169"/>
                </a:lnTo>
                <a:lnTo>
                  <a:pt x="31" y="130"/>
                </a:lnTo>
                <a:lnTo>
                  <a:pt x="35" y="107"/>
                </a:lnTo>
                <a:lnTo>
                  <a:pt x="19" y="99"/>
                </a:lnTo>
                <a:lnTo>
                  <a:pt x="19" y="74"/>
                </a:lnTo>
                <a:lnTo>
                  <a:pt x="0" y="52"/>
                </a:lnTo>
                <a:lnTo>
                  <a:pt x="27" y="48"/>
                </a:lnTo>
                <a:lnTo>
                  <a:pt x="38" y="37"/>
                </a:lnTo>
                <a:lnTo>
                  <a:pt x="67" y="33"/>
                </a:lnTo>
                <a:lnTo>
                  <a:pt x="97" y="12"/>
                </a:lnTo>
                <a:lnTo>
                  <a:pt x="122" y="10"/>
                </a:lnTo>
                <a:lnTo>
                  <a:pt x="145" y="0"/>
                </a:lnTo>
                <a:lnTo>
                  <a:pt x="155" y="1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97360" y="5519880"/>
            <a:ext cx="533520" cy="412560"/>
          </a:xfrm>
          <a:custGeom>
            <a:avLst/>
            <a:gdLst/>
            <a:ahLst/>
            <a:rect l="l" t="t" r="r" b="b"/>
            <a:pathLst>
              <a:path w="446" h="421">
                <a:moveTo>
                  <a:pt x="423" y="68"/>
                </a:moveTo>
                <a:lnTo>
                  <a:pt x="388" y="138"/>
                </a:lnTo>
                <a:lnTo>
                  <a:pt x="395" y="156"/>
                </a:lnTo>
                <a:lnTo>
                  <a:pt x="413" y="159"/>
                </a:lnTo>
                <a:lnTo>
                  <a:pt x="446" y="183"/>
                </a:lnTo>
                <a:lnTo>
                  <a:pt x="440" y="198"/>
                </a:lnTo>
                <a:lnTo>
                  <a:pt x="417" y="198"/>
                </a:lnTo>
                <a:lnTo>
                  <a:pt x="411" y="206"/>
                </a:lnTo>
                <a:lnTo>
                  <a:pt x="436" y="247"/>
                </a:lnTo>
                <a:lnTo>
                  <a:pt x="430" y="258"/>
                </a:lnTo>
                <a:lnTo>
                  <a:pt x="413" y="253"/>
                </a:lnTo>
                <a:lnTo>
                  <a:pt x="405" y="270"/>
                </a:lnTo>
                <a:lnTo>
                  <a:pt x="397" y="262"/>
                </a:lnTo>
                <a:lnTo>
                  <a:pt x="388" y="268"/>
                </a:lnTo>
                <a:lnTo>
                  <a:pt x="376" y="272"/>
                </a:lnTo>
                <a:lnTo>
                  <a:pt x="392" y="299"/>
                </a:lnTo>
                <a:lnTo>
                  <a:pt x="388" y="307"/>
                </a:lnTo>
                <a:lnTo>
                  <a:pt x="359" y="291"/>
                </a:lnTo>
                <a:lnTo>
                  <a:pt x="347" y="274"/>
                </a:lnTo>
                <a:lnTo>
                  <a:pt x="333" y="274"/>
                </a:lnTo>
                <a:lnTo>
                  <a:pt x="333" y="291"/>
                </a:lnTo>
                <a:lnTo>
                  <a:pt x="347" y="317"/>
                </a:lnTo>
                <a:lnTo>
                  <a:pt x="355" y="334"/>
                </a:lnTo>
                <a:lnTo>
                  <a:pt x="337" y="348"/>
                </a:lnTo>
                <a:lnTo>
                  <a:pt x="330" y="348"/>
                </a:lnTo>
                <a:lnTo>
                  <a:pt x="316" y="355"/>
                </a:lnTo>
                <a:lnTo>
                  <a:pt x="320" y="369"/>
                </a:lnTo>
                <a:lnTo>
                  <a:pt x="314" y="384"/>
                </a:lnTo>
                <a:lnTo>
                  <a:pt x="328" y="406"/>
                </a:lnTo>
                <a:lnTo>
                  <a:pt x="330" y="413"/>
                </a:lnTo>
                <a:lnTo>
                  <a:pt x="320" y="417"/>
                </a:lnTo>
                <a:lnTo>
                  <a:pt x="316" y="421"/>
                </a:lnTo>
                <a:lnTo>
                  <a:pt x="269" y="384"/>
                </a:lnTo>
                <a:lnTo>
                  <a:pt x="231" y="359"/>
                </a:lnTo>
                <a:lnTo>
                  <a:pt x="225" y="355"/>
                </a:lnTo>
                <a:lnTo>
                  <a:pt x="217" y="334"/>
                </a:lnTo>
                <a:lnTo>
                  <a:pt x="174" y="307"/>
                </a:lnTo>
                <a:lnTo>
                  <a:pt x="176" y="280"/>
                </a:lnTo>
                <a:lnTo>
                  <a:pt x="161" y="272"/>
                </a:lnTo>
                <a:lnTo>
                  <a:pt x="141" y="268"/>
                </a:lnTo>
                <a:lnTo>
                  <a:pt x="138" y="239"/>
                </a:lnTo>
                <a:lnTo>
                  <a:pt x="116" y="225"/>
                </a:lnTo>
                <a:lnTo>
                  <a:pt x="91" y="196"/>
                </a:lnTo>
                <a:lnTo>
                  <a:pt x="66" y="183"/>
                </a:lnTo>
                <a:lnTo>
                  <a:pt x="56" y="167"/>
                </a:lnTo>
                <a:lnTo>
                  <a:pt x="46" y="169"/>
                </a:lnTo>
                <a:lnTo>
                  <a:pt x="43" y="159"/>
                </a:lnTo>
                <a:lnTo>
                  <a:pt x="52" y="150"/>
                </a:lnTo>
                <a:lnTo>
                  <a:pt x="33" y="97"/>
                </a:lnTo>
                <a:lnTo>
                  <a:pt x="0" y="72"/>
                </a:lnTo>
                <a:lnTo>
                  <a:pt x="0" y="39"/>
                </a:lnTo>
                <a:lnTo>
                  <a:pt x="19" y="0"/>
                </a:lnTo>
                <a:lnTo>
                  <a:pt x="62" y="45"/>
                </a:lnTo>
                <a:lnTo>
                  <a:pt x="75" y="35"/>
                </a:lnTo>
                <a:lnTo>
                  <a:pt x="87" y="8"/>
                </a:lnTo>
                <a:lnTo>
                  <a:pt x="120" y="16"/>
                </a:lnTo>
                <a:lnTo>
                  <a:pt x="136" y="2"/>
                </a:lnTo>
                <a:lnTo>
                  <a:pt x="165" y="26"/>
                </a:lnTo>
                <a:lnTo>
                  <a:pt x="176" y="18"/>
                </a:lnTo>
                <a:lnTo>
                  <a:pt x="194" y="22"/>
                </a:lnTo>
                <a:lnTo>
                  <a:pt x="200" y="33"/>
                </a:lnTo>
                <a:lnTo>
                  <a:pt x="225" y="28"/>
                </a:lnTo>
                <a:lnTo>
                  <a:pt x="244" y="35"/>
                </a:lnTo>
                <a:lnTo>
                  <a:pt x="264" y="26"/>
                </a:lnTo>
                <a:lnTo>
                  <a:pt x="269" y="33"/>
                </a:lnTo>
                <a:lnTo>
                  <a:pt x="289" y="28"/>
                </a:lnTo>
                <a:lnTo>
                  <a:pt x="310" y="35"/>
                </a:lnTo>
                <a:lnTo>
                  <a:pt x="333" y="26"/>
                </a:lnTo>
                <a:lnTo>
                  <a:pt x="349" y="51"/>
                </a:lnTo>
                <a:lnTo>
                  <a:pt x="364" y="64"/>
                </a:lnTo>
                <a:lnTo>
                  <a:pt x="386" y="61"/>
                </a:lnTo>
                <a:lnTo>
                  <a:pt x="423" y="68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70320" y="5776920"/>
            <a:ext cx="265320" cy="264960"/>
          </a:xfrm>
          <a:custGeom>
            <a:avLst/>
            <a:gdLst/>
            <a:ahLst/>
            <a:rect l="l" t="t" r="r" b="b"/>
            <a:pathLst>
              <a:path w="223" h="272">
                <a:moveTo>
                  <a:pt x="95" y="8"/>
                </a:moveTo>
                <a:lnTo>
                  <a:pt x="91" y="25"/>
                </a:lnTo>
                <a:lnTo>
                  <a:pt x="111" y="39"/>
                </a:lnTo>
                <a:lnTo>
                  <a:pt x="130" y="56"/>
                </a:lnTo>
                <a:lnTo>
                  <a:pt x="153" y="74"/>
                </a:lnTo>
                <a:lnTo>
                  <a:pt x="159" y="76"/>
                </a:lnTo>
                <a:lnTo>
                  <a:pt x="177" y="87"/>
                </a:lnTo>
                <a:lnTo>
                  <a:pt x="194" y="97"/>
                </a:lnTo>
                <a:lnTo>
                  <a:pt x="213" y="101"/>
                </a:lnTo>
                <a:lnTo>
                  <a:pt x="223" y="113"/>
                </a:lnTo>
                <a:lnTo>
                  <a:pt x="212" y="119"/>
                </a:lnTo>
                <a:lnTo>
                  <a:pt x="202" y="134"/>
                </a:lnTo>
                <a:lnTo>
                  <a:pt x="184" y="119"/>
                </a:lnTo>
                <a:lnTo>
                  <a:pt x="179" y="122"/>
                </a:lnTo>
                <a:lnTo>
                  <a:pt x="179" y="134"/>
                </a:lnTo>
                <a:lnTo>
                  <a:pt x="181" y="165"/>
                </a:lnTo>
                <a:lnTo>
                  <a:pt x="177" y="163"/>
                </a:lnTo>
                <a:lnTo>
                  <a:pt x="161" y="151"/>
                </a:lnTo>
                <a:lnTo>
                  <a:pt x="148" y="171"/>
                </a:lnTo>
                <a:lnTo>
                  <a:pt x="132" y="184"/>
                </a:lnTo>
                <a:lnTo>
                  <a:pt x="126" y="215"/>
                </a:lnTo>
                <a:lnTo>
                  <a:pt x="132" y="239"/>
                </a:lnTo>
                <a:lnTo>
                  <a:pt x="122" y="272"/>
                </a:lnTo>
                <a:lnTo>
                  <a:pt x="111" y="264"/>
                </a:lnTo>
                <a:lnTo>
                  <a:pt x="95" y="237"/>
                </a:lnTo>
                <a:lnTo>
                  <a:pt x="76" y="225"/>
                </a:lnTo>
                <a:lnTo>
                  <a:pt x="51" y="202"/>
                </a:lnTo>
                <a:lnTo>
                  <a:pt x="37" y="196"/>
                </a:lnTo>
                <a:lnTo>
                  <a:pt x="27" y="188"/>
                </a:lnTo>
                <a:lnTo>
                  <a:pt x="10" y="177"/>
                </a:lnTo>
                <a:lnTo>
                  <a:pt x="0" y="173"/>
                </a:lnTo>
                <a:lnTo>
                  <a:pt x="6" y="159"/>
                </a:lnTo>
                <a:lnTo>
                  <a:pt x="10" y="155"/>
                </a:lnTo>
                <a:lnTo>
                  <a:pt x="20" y="151"/>
                </a:lnTo>
                <a:lnTo>
                  <a:pt x="18" y="144"/>
                </a:lnTo>
                <a:lnTo>
                  <a:pt x="4" y="122"/>
                </a:lnTo>
                <a:lnTo>
                  <a:pt x="10" y="107"/>
                </a:lnTo>
                <a:lnTo>
                  <a:pt x="6" y="93"/>
                </a:lnTo>
                <a:lnTo>
                  <a:pt x="20" y="86"/>
                </a:lnTo>
                <a:lnTo>
                  <a:pt x="27" y="86"/>
                </a:lnTo>
                <a:lnTo>
                  <a:pt x="45" y="72"/>
                </a:lnTo>
                <a:lnTo>
                  <a:pt x="37" y="55"/>
                </a:lnTo>
                <a:lnTo>
                  <a:pt x="23" y="29"/>
                </a:lnTo>
                <a:lnTo>
                  <a:pt x="23" y="12"/>
                </a:lnTo>
                <a:lnTo>
                  <a:pt x="37" y="12"/>
                </a:lnTo>
                <a:lnTo>
                  <a:pt x="49" y="29"/>
                </a:lnTo>
                <a:lnTo>
                  <a:pt x="78" y="45"/>
                </a:lnTo>
                <a:lnTo>
                  <a:pt x="82" y="37"/>
                </a:lnTo>
                <a:lnTo>
                  <a:pt x="66" y="10"/>
                </a:lnTo>
                <a:lnTo>
                  <a:pt x="78" y="6"/>
                </a:lnTo>
                <a:lnTo>
                  <a:pt x="87" y="0"/>
                </a:lnTo>
                <a:lnTo>
                  <a:pt x="95" y="8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14760" y="5318280"/>
            <a:ext cx="795600" cy="626760"/>
          </a:xfrm>
          <a:custGeom>
            <a:avLst/>
            <a:gdLst/>
            <a:ahLst/>
            <a:rect l="l" t="t" r="r" b="b"/>
            <a:pathLst>
              <a:path w="667" h="646">
                <a:moveTo>
                  <a:pt x="309" y="0"/>
                </a:moveTo>
                <a:lnTo>
                  <a:pt x="314" y="14"/>
                </a:lnTo>
                <a:lnTo>
                  <a:pt x="332" y="41"/>
                </a:lnTo>
                <a:lnTo>
                  <a:pt x="355" y="50"/>
                </a:lnTo>
                <a:lnTo>
                  <a:pt x="377" y="80"/>
                </a:lnTo>
                <a:lnTo>
                  <a:pt x="406" y="91"/>
                </a:lnTo>
                <a:lnTo>
                  <a:pt x="427" y="122"/>
                </a:lnTo>
                <a:lnTo>
                  <a:pt x="450" y="128"/>
                </a:lnTo>
                <a:lnTo>
                  <a:pt x="481" y="145"/>
                </a:lnTo>
                <a:lnTo>
                  <a:pt x="514" y="142"/>
                </a:lnTo>
                <a:lnTo>
                  <a:pt x="541" y="134"/>
                </a:lnTo>
                <a:lnTo>
                  <a:pt x="567" y="116"/>
                </a:lnTo>
                <a:lnTo>
                  <a:pt x="586" y="138"/>
                </a:lnTo>
                <a:lnTo>
                  <a:pt x="586" y="163"/>
                </a:lnTo>
                <a:lnTo>
                  <a:pt x="602" y="171"/>
                </a:lnTo>
                <a:lnTo>
                  <a:pt x="598" y="194"/>
                </a:lnTo>
                <a:lnTo>
                  <a:pt x="667" y="233"/>
                </a:lnTo>
                <a:lnTo>
                  <a:pt x="633" y="233"/>
                </a:lnTo>
                <a:lnTo>
                  <a:pt x="625" y="272"/>
                </a:lnTo>
                <a:lnTo>
                  <a:pt x="603" y="275"/>
                </a:lnTo>
                <a:lnTo>
                  <a:pt x="588" y="262"/>
                </a:lnTo>
                <a:lnTo>
                  <a:pt x="572" y="237"/>
                </a:lnTo>
                <a:lnTo>
                  <a:pt x="549" y="246"/>
                </a:lnTo>
                <a:lnTo>
                  <a:pt x="528" y="239"/>
                </a:lnTo>
                <a:lnTo>
                  <a:pt x="508" y="244"/>
                </a:lnTo>
                <a:lnTo>
                  <a:pt x="503" y="237"/>
                </a:lnTo>
                <a:lnTo>
                  <a:pt x="483" y="246"/>
                </a:lnTo>
                <a:lnTo>
                  <a:pt x="464" y="239"/>
                </a:lnTo>
                <a:lnTo>
                  <a:pt x="439" y="244"/>
                </a:lnTo>
                <a:lnTo>
                  <a:pt x="433" y="233"/>
                </a:lnTo>
                <a:lnTo>
                  <a:pt x="415" y="229"/>
                </a:lnTo>
                <a:lnTo>
                  <a:pt x="404" y="237"/>
                </a:lnTo>
                <a:lnTo>
                  <a:pt x="375" y="213"/>
                </a:lnTo>
                <a:lnTo>
                  <a:pt x="359" y="227"/>
                </a:lnTo>
                <a:lnTo>
                  <a:pt x="326" y="219"/>
                </a:lnTo>
                <a:lnTo>
                  <a:pt x="314" y="246"/>
                </a:lnTo>
                <a:lnTo>
                  <a:pt x="301" y="256"/>
                </a:lnTo>
                <a:lnTo>
                  <a:pt x="258" y="211"/>
                </a:lnTo>
                <a:lnTo>
                  <a:pt x="239" y="250"/>
                </a:lnTo>
                <a:lnTo>
                  <a:pt x="239" y="283"/>
                </a:lnTo>
                <a:lnTo>
                  <a:pt x="272" y="308"/>
                </a:lnTo>
                <a:lnTo>
                  <a:pt x="291" y="361"/>
                </a:lnTo>
                <a:lnTo>
                  <a:pt x="282" y="370"/>
                </a:lnTo>
                <a:lnTo>
                  <a:pt x="285" y="380"/>
                </a:lnTo>
                <a:lnTo>
                  <a:pt x="295" y="378"/>
                </a:lnTo>
                <a:lnTo>
                  <a:pt x="305" y="394"/>
                </a:lnTo>
                <a:lnTo>
                  <a:pt x="330" y="407"/>
                </a:lnTo>
                <a:lnTo>
                  <a:pt x="355" y="436"/>
                </a:lnTo>
                <a:lnTo>
                  <a:pt x="377" y="450"/>
                </a:lnTo>
                <a:lnTo>
                  <a:pt x="380" y="479"/>
                </a:lnTo>
                <a:lnTo>
                  <a:pt x="400" y="483"/>
                </a:lnTo>
                <a:lnTo>
                  <a:pt x="415" y="491"/>
                </a:lnTo>
                <a:lnTo>
                  <a:pt x="413" y="518"/>
                </a:lnTo>
                <a:lnTo>
                  <a:pt x="456" y="545"/>
                </a:lnTo>
                <a:lnTo>
                  <a:pt x="464" y="566"/>
                </a:lnTo>
                <a:lnTo>
                  <a:pt x="470" y="570"/>
                </a:lnTo>
                <a:lnTo>
                  <a:pt x="508" y="595"/>
                </a:lnTo>
                <a:lnTo>
                  <a:pt x="555" y="632"/>
                </a:lnTo>
                <a:lnTo>
                  <a:pt x="549" y="646"/>
                </a:lnTo>
                <a:lnTo>
                  <a:pt x="539" y="636"/>
                </a:lnTo>
                <a:lnTo>
                  <a:pt x="497" y="609"/>
                </a:lnTo>
                <a:lnTo>
                  <a:pt x="477" y="607"/>
                </a:lnTo>
                <a:lnTo>
                  <a:pt x="464" y="605"/>
                </a:lnTo>
                <a:lnTo>
                  <a:pt x="429" y="586"/>
                </a:lnTo>
                <a:lnTo>
                  <a:pt x="402" y="580"/>
                </a:lnTo>
                <a:lnTo>
                  <a:pt x="410" y="572"/>
                </a:lnTo>
                <a:lnTo>
                  <a:pt x="431" y="576"/>
                </a:lnTo>
                <a:lnTo>
                  <a:pt x="444" y="590"/>
                </a:lnTo>
                <a:lnTo>
                  <a:pt x="456" y="592"/>
                </a:lnTo>
                <a:lnTo>
                  <a:pt x="452" y="580"/>
                </a:lnTo>
                <a:lnTo>
                  <a:pt x="435" y="568"/>
                </a:lnTo>
                <a:lnTo>
                  <a:pt x="406" y="541"/>
                </a:lnTo>
                <a:lnTo>
                  <a:pt x="377" y="518"/>
                </a:lnTo>
                <a:lnTo>
                  <a:pt x="340" y="504"/>
                </a:lnTo>
                <a:lnTo>
                  <a:pt x="313" y="502"/>
                </a:lnTo>
                <a:lnTo>
                  <a:pt x="285" y="506"/>
                </a:lnTo>
                <a:lnTo>
                  <a:pt x="276" y="504"/>
                </a:lnTo>
                <a:lnTo>
                  <a:pt x="272" y="489"/>
                </a:lnTo>
                <a:lnTo>
                  <a:pt x="264" y="469"/>
                </a:lnTo>
                <a:lnTo>
                  <a:pt x="239" y="460"/>
                </a:lnTo>
                <a:lnTo>
                  <a:pt x="227" y="448"/>
                </a:lnTo>
                <a:lnTo>
                  <a:pt x="206" y="432"/>
                </a:lnTo>
                <a:lnTo>
                  <a:pt x="183" y="403"/>
                </a:lnTo>
                <a:lnTo>
                  <a:pt x="181" y="394"/>
                </a:lnTo>
                <a:lnTo>
                  <a:pt x="188" y="384"/>
                </a:lnTo>
                <a:lnTo>
                  <a:pt x="208" y="380"/>
                </a:lnTo>
                <a:lnTo>
                  <a:pt x="186" y="361"/>
                </a:lnTo>
                <a:lnTo>
                  <a:pt x="167" y="347"/>
                </a:lnTo>
                <a:lnTo>
                  <a:pt x="150" y="312"/>
                </a:lnTo>
                <a:lnTo>
                  <a:pt x="150" y="283"/>
                </a:lnTo>
                <a:lnTo>
                  <a:pt x="144" y="262"/>
                </a:lnTo>
                <a:lnTo>
                  <a:pt x="136" y="252"/>
                </a:lnTo>
                <a:lnTo>
                  <a:pt x="130" y="252"/>
                </a:lnTo>
                <a:lnTo>
                  <a:pt x="113" y="233"/>
                </a:lnTo>
                <a:lnTo>
                  <a:pt x="90" y="223"/>
                </a:lnTo>
                <a:lnTo>
                  <a:pt x="74" y="258"/>
                </a:lnTo>
                <a:lnTo>
                  <a:pt x="51" y="301"/>
                </a:lnTo>
                <a:lnTo>
                  <a:pt x="41" y="301"/>
                </a:lnTo>
                <a:lnTo>
                  <a:pt x="31" y="293"/>
                </a:lnTo>
                <a:lnTo>
                  <a:pt x="16" y="258"/>
                </a:lnTo>
                <a:lnTo>
                  <a:pt x="6" y="240"/>
                </a:lnTo>
                <a:lnTo>
                  <a:pt x="0" y="202"/>
                </a:lnTo>
                <a:lnTo>
                  <a:pt x="24" y="208"/>
                </a:lnTo>
                <a:lnTo>
                  <a:pt x="31" y="200"/>
                </a:lnTo>
                <a:lnTo>
                  <a:pt x="58" y="200"/>
                </a:lnTo>
                <a:lnTo>
                  <a:pt x="78" y="190"/>
                </a:lnTo>
                <a:lnTo>
                  <a:pt x="90" y="173"/>
                </a:lnTo>
                <a:lnTo>
                  <a:pt x="126" y="194"/>
                </a:lnTo>
                <a:lnTo>
                  <a:pt x="136" y="186"/>
                </a:lnTo>
                <a:lnTo>
                  <a:pt x="161" y="194"/>
                </a:lnTo>
                <a:lnTo>
                  <a:pt x="179" y="190"/>
                </a:lnTo>
                <a:lnTo>
                  <a:pt x="173" y="173"/>
                </a:lnTo>
                <a:lnTo>
                  <a:pt x="181" y="151"/>
                </a:lnTo>
                <a:lnTo>
                  <a:pt x="167" y="136"/>
                </a:lnTo>
                <a:lnTo>
                  <a:pt x="192" y="124"/>
                </a:lnTo>
                <a:lnTo>
                  <a:pt x="200" y="72"/>
                </a:lnTo>
                <a:lnTo>
                  <a:pt x="245" y="62"/>
                </a:lnTo>
                <a:lnTo>
                  <a:pt x="258" y="48"/>
                </a:lnTo>
                <a:lnTo>
                  <a:pt x="282" y="37"/>
                </a:lnTo>
                <a:lnTo>
                  <a:pt x="285" y="8"/>
                </a:lnTo>
                <a:lnTo>
                  <a:pt x="309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5883120"/>
            <a:ext cx="65160" cy="12960"/>
          </a:xfrm>
          <a:custGeom>
            <a:avLst/>
            <a:gdLst/>
            <a:ahLst/>
            <a:rect l="l" t="t" r="r" b="b"/>
            <a:pathLst>
              <a:path w="55" h="11">
                <a:moveTo>
                  <a:pt x="0" y="6"/>
                </a:moveTo>
                <a:lnTo>
                  <a:pt x="4" y="2"/>
                </a:lnTo>
                <a:lnTo>
                  <a:pt x="43" y="0"/>
                </a:lnTo>
                <a:lnTo>
                  <a:pt x="51" y="2"/>
                </a:lnTo>
                <a:lnTo>
                  <a:pt x="55" y="9"/>
                </a:lnTo>
                <a:lnTo>
                  <a:pt x="41" y="9"/>
                </a:lnTo>
                <a:lnTo>
                  <a:pt x="31" y="11"/>
                </a:lnTo>
                <a:lnTo>
                  <a:pt x="4" y="11"/>
                </a:lnTo>
                <a:lnTo>
                  <a:pt x="2" y="8"/>
                </a:lnTo>
                <a:lnTo>
                  <a:pt x="0" y="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27440" y="5551560"/>
            <a:ext cx="41400" cy="38160"/>
          </a:xfrm>
          <a:custGeom>
            <a:avLst/>
            <a:gdLst/>
            <a:ahLst/>
            <a:rect l="l" t="t" r="r" b="b"/>
            <a:pathLst>
              <a:path w="33" h="39">
                <a:moveTo>
                  <a:pt x="12" y="0"/>
                </a:moveTo>
                <a:lnTo>
                  <a:pt x="14" y="0"/>
                </a:lnTo>
                <a:lnTo>
                  <a:pt x="18" y="20"/>
                </a:lnTo>
                <a:lnTo>
                  <a:pt x="24" y="24"/>
                </a:lnTo>
                <a:lnTo>
                  <a:pt x="31" y="32"/>
                </a:lnTo>
                <a:lnTo>
                  <a:pt x="33" y="37"/>
                </a:lnTo>
                <a:lnTo>
                  <a:pt x="33" y="39"/>
                </a:lnTo>
                <a:lnTo>
                  <a:pt x="27" y="37"/>
                </a:lnTo>
                <a:lnTo>
                  <a:pt x="20" y="32"/>
                </a:lnTo>
                <a:lnTo>
                  <a:pt x="8" y="32"/>
                </a:lnTo>
                <a:lnTo>
                  <a:pt x="0" y="26"/>
                </a:lnTo>
                <a:lnTo>
                  <a:pt x="6" y="6"/>
                </a:lnTo>
                <a:lnTo>
                  <a:pt x="12" y="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6920" y="5557680"/>
            <a:ext cx="23760" cy="76320"/>
          </a:xfrm>
          <a:custGeom>
            <a:avLst/>
            <a:gdLst/>
            <a:ahLst/>
            <a:rect l="l" t="t" r="r" b="b"/>
            <a:pathLst>
              <a:path w="19" h="80">
                <a:moveTo>
                  <a:pt x="4" y="6"/>
                </a:moveTo>
                <a:lnTo>
                  <a:pt x="2" y="2"/>
                </a:lnTo>
                <a:lnTo>
                  <a:pt x="6" y="0"/>
                </a:lnTo>
                <a:lnTo>
                  <a:pt x="8" y="2"/>
                </a:lnTo>
                <a:lnTo>
                  <a:pt x="10" y="8"/>
                </a:lnTo>
                <a:lnTo>
                  <a:pt x="10" y="22"/>
                </a:lnTo>
                <a:lnTo>
                  <a:pt x="11" y="27"/>
                </a:lnTo>
                <a:lnTo>
                  <a:pt x="13" y="35"/>
                </a:lnTo>
                <a:lnTo>
                  <a:pt x="11" y="55"/>
                </a:lnTo>
                <a:lnTo>
                  <a:pt x="19" y="80"/>
                </a:lnTo>
                <a:lnTo>
                  <a:pt x="17" y="78"/>
                </a:lnTo>
                <a:lnTo>
                  <a:pt x="6" y="58"/>
                </a:lnTo>
                <a:lnTo>
                  <a:pt x="0" y="49"/>
                </a:lnTo>
                <a:lnTo>
                  <a:pt x="0" y="45"/>
                </a:lnTo>
                <a:lnTo>
                  <a:pt x="4" y="45"/>
                </a:lnTo>
                <a:lnTo>
                  <a:pt x="10" y="35"/>
                </a:lnTo>
                <a:lnTo>
                  <a:pt x="10" y="26"/>
                </a:lnTo>
                <a:lnTo>
                  <a:pt x="6" y="16"/>
                </a:lnTo>
                <a:lnTo>
                  <a:pt x="4" y="8"/>
                </a:lnTo>
                <a:lnTo>
                  <a:pt x="4" y="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98880" y="5823000"/>
            <a:ext cx="60480" cy="23760"/>
          </a:xfrm>
          <a:custGeom>
            <a:avLst/>
            <a:gdLst/>
            <a:ahLst/>
            <a:rect l="l" t="t" r="r" b="b"/>
            <a:pathLst>
              <a:path w="51" h="21">
                <a:moveTo>
                  <a:pt x="0" y="2"/>
                </a:moveTo>
                <a:lnTo>
                  <a:pt x="2" y="0"/>
                </a:lnTo>
                <a:lnTo>
                  <a:pt x="4" y="0"/>
                </a:lnTo>
                <a:lnTo>
                  <a:pt x="31" y="6"/>
                </a:lnTo>
                <a:lnTo>
                  <a:pt x="41" y="9"/>
                </a:lnTo>
                <a:lnTo>
                  <a:pt x="47" y="9"/>
                </a:lnTo>
                <a:lnTo>
                  <a:pt x="51" y="13"/>
                </a:lnTo>
                <a:lnTo>
                  <a:pt x="47" y="17"/>
                </a:lnTo>
                <a:lnTo>
                  <a:pt x="39" y="17"/>
                </a:lnTo>
                <a:lnTo>
                  <a:pt x="25" y="19"/>
                </a:lnTo>
                <a:lnTo>
                  <a:pt x="16" y="21"/>
                </a:lnTo>
                <a:lnTo>
                  <a:pt x="4" y="17"/>
                </a:lnTo>
                <a:lnTo>
                  <a:pt x="0" y="9"/>
                </a:lnTo>
                <a:lnTo>
                  <a:pt x="0" y="2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02400" y="5600880"/>
            <a:ext cx="850680" cy="480960"/>
          </a:xfrm>
          <a:custGeom>
            <a:avLst/>
            <a:gdLst/>
            <a:ahLst/>
            <a:rect l="l" t="t" r="r" b="b"/>
            <a:pathLst>
              <a:path w="712" h="494">
                <a:moveTo>
                  <a:pt x="710" y="23"/>
                </a:moveTo>
                <a:lnTo>
                  <a:pt x="673" y="33"/>
                </a:lnTo>
                <a:lnTo>
                  <a:pt x="627" y="13"/>
                </a:lnTo>
                <a:lnTo>
                  <a:pt x="564" y="10"/>
                </a:lnTo>
                <a:lnTo>
                  <a:pt x="549" y="0"/>
                </a:lnTo>
                <a:lnTo>
                  <a:pt x="510" y="6"/>
                </a:lnTo>
                <a:lnTo>
                  <a:pt x="462" y="29"/>
                </a:lnTo>
                <a:lnTo>
                  <a:pt x="419" y="58"/>
                </a:lnTo>
                <a:lnTo>
                  <a:pt x="386" y="89"/>
                </a:lnTo>
                <a:lnTo>
                  <a:pt x="353" y="103"/>
                </a:lnTo>
                <a:lnTo>
                  <a:pt x="301" y="103"/>
                </a:lnTo>
                <a:lnTo>
                  <a:pt x="262" y="101"/>
                </a:lnTo>
                <a:lnTo>
                  <a:pt x="177" y="112"/>
                </a:lnTo>
                <a:lnTo>
                  <a:pt x="103" y="112"/>
                </a:lnTo>
                <a:lnTo>
                  <a:pt x="76" y="116"/>
                </a:lnTo>
                <a:lnTo>
                  <a:pt x="53" y="101"/>
                </a:lnTo>
                <a:lnTo>
                  <a:pt x="62" y="70"/>
                </a:lnTo>
                <a:lnTo>
                  <a:pt x="37" y="64"/>
                </a:lnTo>
                <a:lnTo>
                  <a:pt x="2" y="83"/>
                </a:lnTo>
                <a:lnTo>
                  <a:pt x="0" y="128"/>
                </a:lnTo>
                <a:lnTo>
                  <a:pt x="12" y="171"/>
                </a:lnTo>
                <a:lnTo>
                  <a:pt x="33" y="198"/>
                </a:lnTo>
                <a:lnTo>
                  <a:pt x="66" y="229"/>
                </a:lnTo>
                <a:lnTo>
                  <a:pt x="47" y="256"/>
                </a:lnTo>
                <a:lnTo>
                  <a:pt x="25" y="310"/>
                </a:lnTo>
                <a:lnTo>
                  <a:pt x="29" y="347"/>
                </a:lnTo>
                <a:lnTo>
                  <a:pt x="31" y="363"/>
                </a:lnTo>
                <a:lnTo>
                  <a:pt x="84" y="396"/>
                </a:lnTo>
                <a:lnTo>
                  <a:pt x="103" y="458"/>
                </a:lnTo>
                <a:lnTo>
                  <a:pt x="109" y="494"/>
                </a:lnTo>
                <a:lnTo>
                  <a:pt x="115" y="494"/>
                </a:lnTo>
                <a:lnTo>
                  <a:pt x="138" y="489"/>
                </a:lnTo>
                <a:lnTo>
                  <a:pt x="171" y="475"/>
                </a:lnTo>
                <a:lnTo>
                  <a:pt x="221" y="471"/>
                </a:lnTo>
                <a:lnTo>
                  <a:pt x="262" y="450"/>
                </a:lnTo>
                <a:lnTo>
                  <a:pt x="283" y="440"/>
                </a:lnTo>
                <a:lnTo>
                  <a:pt x="308" y="438"/>
                </a:lnTo>
                <a:lnTo>
                  <a:pt x="332" y="454"/>
                </a:lnTo>
                <a:lnTo>
                  <a:pt x="369" y="460"/>
                </a:lnTo>
                <a:lnTo>
                  <a:pt x="413" y="467"/>
                </a:lnTo>
                <a:lnTo>
                  <a:pt x="454" y="454"/>
                </a:lnTo>
                <a:lnTo>
                  <a:pt x="481" y="423"/>
                </a:lnTo>
                <a:lnTo>
                  <a:pt x="477" y="380"/>
                </a:lnTo>
                <a:lnTo>
                  <a:pt x="500" y="374"/>
                </a:lnTo>
                <a:lnTo>
                  <a:pt x="508" y="368"/>
                </a:lnTo>
                <a:lnTo>
                  <a:pt x="518" y="357"/>
                </a:lnTo>
                <a:lnTo>
                  <a:pt x="545" y="347"/>
                </a:lnTo>
                <a:lnTo>
                  <a:pt x="586" y="324"/>
                </a:lnTo>
                <a:lnTo>
                  <a:pt x="628" y="335"/>
                </a:lnTo>
                <a:lnTo>
                  <a:pt x="675" y="320"/>
                </a:lnTo>
                <a:lnTo>
                  <a:pt x="692" y="320"/>
                </a:lnTo>
                <a:lnTo>
                  <a:pt x="689" y="308"/>
                </a:lnTo>
                <a:lnTo>
                  <a:pt x="673" y="295"/>
                </a:lnTo>
                <a:lnTo>
                  <a:pt x="661" y="281"/>
                </a:lnTo>
                <a:lnTo>
                  <a:pt x="648" y="262"/>
                </a:lnTo>
                <a:lnTo>
                  <a:pt x="638" y="250"/>
                </a:lnTo>
                <a:lnTo>
                  <a:pt x="627" y="246"/>
                </a:lnTo>
                <a:lnTo>
                  <a:pt x="619" y="238"/>
                </a:lnTo>
                <a:lnTo>
                  <a:pt x="630" y="227"/>
                </a:lnTo>
                <a:lnTo>
                  <a:pt x="638" y="217"/>
                </a:lnTo>
                <a:lnTo>
                  <a:pt x="642" y="204"/>
                </a:lnTo>
                <a:lnTo>
                  <a:pt x="658" y="194"/>
                </a:lnTo>
                <a:lnTo>
                  <a:pt x="654" y="159"/>
                </a:lnTo>
                <a:lnTo>
                  <a:pt x="648" y="134"/>
                </a:lnTo>
                <a:lnTo>
                  <a:pt x="667" y="99"/>
                </a:lnTo>
                <a:lnTo>
                  <a:pt x="704" y="81"/>
                </a:lnTo>
                <a:lnTo>
                  <a:pt x="712" y="56"/>
                </a:lnTo>
                <a:lnTo>
                  <a:pt x="710" y="23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5480" y="4083120"/>
            <a:ext cx="1157040" cy="839880"/>
          </a:xfrm>
          <a:custGeom>
            <a:avLst/>
            <a:gdLst/>
            <a:ahLst/>
            <a:rect l="l" t="t" r="r" b="b"/>
            <a:pathLst>
              <a:path w="970" h="865">
                <a:moveTo>
                  <a:pt x="2" y="176"/>
                </a:moveTo>
                <a:lnTo>
                  <a:pt x="19" y="184"/>
                </a:lnTo>
                <a:lnTo>
                  <a:pt x="31" y="192"/>
                </a:lnTo>
                <a:lnTo>
                  <a:pt x="35" y="182"/>
                </a:lnTo>
                <a:lnTo>
                  <a:pt x="35" y="166"/>
                </a:lnTo>
                <a:lnTo>
                  <a:pt x="21" y="162"/>
                </a:lnTo>
                <a:lnTo>
                  <a:pt x="13" y="161"/>
                </a:lnTo>
                <a:lnTo>
                  <a:pt x="27" y="151"/>
                </a:lnTo>
                <a:lnTo>
                  <a:pt x="43" y="145"/>
                </a:lnTo>
                <a:lnTo>
                  <a:pt x="44" y="151"/>
                </a:lnTo>
                <a:lnTo>
                  <a:pt x="64" y="130"/>
                </a:lnTo>
                <a:lnTo>
                  <a:pt x="87" y="118"/>
                </a:lnTo>
                <a:lnTo>
                  <a:pt x="116" y="112"/>
                </a:lnTo>
                <a:lnTo>
                  <a:pt x="171" y="97"/>
                </a:lnTo>
                <a:lnTo>
                  <a:pt x="188" y="81"/>
                </a:lnTo>
                <a:lnTo>
                  <a:pt x="205" y="64"/>
                </a:lnTo>
                <a:lnTo>
                  <a:pt x="221" y="48"/>
                </a:lnTo>
                <a:lnTo>
                  <a:pt x="244" y="40"/>
                </a:lnTo>
                <a:lnTo>
                  <a:pt x="264" y="29"/>
                </a:lnTo>
                <a:lnTo>
                  <a:pt x="281" y="19"/>
                </a:lnTo>
                <a:lnTo>
                  <a:pt x="308" y="13"/>
                </a:lnTo>
                <a:lnTo>
                  <a:pt x="328" y="7"/>
                </a:lnTo>
                <a:lnTo>
                  <a:pt x="351" y="2"/>
                </a:lnTo>
                <a:lnTo>
                  <a:pt x="374" y="0"/>
                </a:lnTo>
                <a:lnTo>
                  <a:pt x="392" y="5"/>
                </a:lnTo>
                <a:lnTo>
                  <a:pt x="407" y="11"/>
                </a:lnTo>
                <a:lnTo>
                  <a:pt x="419" y="23"/>
                </a:lnTo>
                <a:lnTo>
                  <a:pt x="417" y="34"/>
                </a:lnTo>
                <a:lnTo>
                  <a:pt x="405" y="29"/>
                </a:lnTo>
                <a:lnTo>
                  <a:pt x="396" y="21"/>
                </a:lnTo>
                <a:lnTo>
                  <a:pt x="386" y="17"/>
                </a:lnTo>
                <a:lnTo>
                  <a:pt x="390" y="29"/>
                </a:lnTo>
                <a:lnTo>
                  <a:pt x="397" y="48"/>
                </a:lnTo>
                <a:lnTo>
                  <a:pt x="407" y="67"/>
                </a:lnTo>
                <a:lnTo>
                  <a:pt x="413" y="81"/>
                </a:lnTo>
                <a:lnTo>
                  <a:pt x="425" y="87"/>
                </a:lnTo>
                <a:lnTo>
                  <a:pt x="427" y="79"/>
                </a:lnTo>
                <a:lnTo>
                  <a:pt x="432" y="73"/>
                </a:lnTo>
                <a:lnTo>
                  <a:pt x="456" y="71"/>
                </a:lnTo>
                <a:lnTo>
                  <a:pt x="477" y="64"/>
                </a:lnTo>
                <a:lnTo>
                  <a:pt x="494" y="54"/>
                </a:lnTo>
                <a:lnTo>
                  <a:pt x="516" y="60"/>
                </a:lnTo>
                <a:lnTo>
                  <a:pt x="545" y="64"/>
                </a:lnTo>
                <a:lnTo>
                  <a:pt x="568" y="67"/>
                </a:lnTo>
                <a:lnTo>
                  <a:pt x="591" y="67"/>
                </a:lnTo>
                <a:lnTo>
                  <a:pt x="624" y="71"/>
                </a:lnTo>
                <a:lnTo>
                  <a:pt x="653" y="67"/>
                </a:lnTo>
                <a:lnTo>
                  <a:pt x="679" y="67"/>
                </a:lnTo>
                <a:lnTo>
                  <a:pt x="704" y="62"/>
                </a:lnTo>
                <a:lnTo>
                  <a:pt x="745" y="46"/>
                </a:lnTo>
                <a:lnTo>
                  <a:pt x="783" y="38"/>
                </a:lnTo>
                <a:lnTo>
                  <a:pt x="809" y="48"/>
                </a:lnTo>
                <a:lnTo>
                  <a:pt x="842" y="67"/>
                </a:lnTo>
                <a:lnTo>
                  <a:pt x="851" y="85"/>
                </a:lnTo>
                <a:lnTo>
                  <a:pt x="857" y="112"/>
                </a:lnTo>
                <a:lnTo>
                  <a:pt x="873" y="159"/>
                </a:lnTo>
                <a:lnTo>
                  <a:pt x="902" y="228"/>
                </a:lnTo>
                <a:lnTo>
                  <a:pt x="906" y="254"/>
                </a:lnTo>
                <a:lnTo>
                  <a:pt x="909" y="285"/>
                </a:lnTo>
                <a:lnTo>
                  <a:pt x="892" y="316"/>
                </a:lnTo>
                <a:lnTo>
                  <a:pt x="869" y="333"/>
                </a:lnTo>
                <a:lnTo>
                  <a:pt x="853" y="356"/>
                </a:lnTo>
                <a:lnTo>
                  <a:pt x="865" y="374"/>
                </a:lnTo>
                <a:lnTo>
                  <a:pt x="894" y="393"/>
                </a:lnTo>
                <a:lnTo>
                  <a:pt x="894" y="417"/>
                </a:lnTo>
                <a:lnTo>
                  <a:pt x="894" y="444"/>
                </a:lnTo>
                <a:lnTo>
                  <a:pt x="896" y="465"/>
                </a:lnTo>
                <a:lnTo>
                  <a:pt x="909" y="486"/>
                </a:lnTo>
                <a:lnTo>
                  <a:pt x="915" y="510"/>
                </a:lnTo>
                <a:lnTo>
                  <a:pt x="927" y="529"/>
                </a:lnTo>
                <a:lnTo>
                  <a:pt x="931" y="541"/>
                </a:lnTo>
                <a:lnTo>
                  <a:pt x="937" y="546"/>
                </a:lnTo>
                <a:lnTo>
                  <a:pt x="956" y="564"/>
                </a:lnTo>
                <a:lnTo>
                  <a:pt x="956" y="583"/>
                </a:lnTo>
                <a:lnTo>
                  <a:pt x="970" y="609"/>
                </a:lnTo>
                <a:lnTo>
                  <a:pt x="966" y="636"/>
                </a:lnTo>
                <a:lnTo>
                  <a:pt x="937" y="667"/>
                </a:lnTo>
                <a:lnTo>
                  <a:pt x="904" y="696"/>
                </a:lnTo>
                <a:lnTo>
                  <a:pt x="880" y="733"/>
                </a:lnTo>
                <a:lnTo>
                  <a:pt x="857" y="804"/>
                </a:lnTo>
                <a:lnTo>
                  <a:pt x="857" y="834"/>
                </a:lnTo>
                <a:lnTo>
                  <a:pt x="863" y="857"/>
                </a:lnTo>
                <a:lnTo>
                  <a:pt x="844" y="863"/>
                </a:lnTo>
                <a:lnTo>
                  <a:pt x="836" y="859"/>
                </a:lnTo>
                <a:lnTo>
                  <a:pt x="816" y="857"/>
                </a:lnTo>
                <a:lnTo>
                  <a:pt x="795" y="843"/>
                </a:lnTo>
                <a:lnTo>
                  <a:pt x="778" y="828"/>
                </a:lnTo>
                <a:lnTo>
                  <a:pt x="758" y="818"/>
                </a:lnTo>
                <a:lnTo>
                  <a:pt x="733" y="818"/>
                </a:lnTo>
                <a:lnTo>
                  <a:pt x="712" y="824"/>
                </a:lnTo>
                <a:lnTo>
                  <a:pt x="694" y="834"/>
                </a:lnTo>
                <a:lnTo>
                  <a:pt x="681" y="845"/>
                </a:lnTo>
                <a:lnTo>
                  <a:pt x="661" y="834"/>
                </a:lnTo>
                <a:lnTo>
                  <a:pt x="624" y="835"/>
                </a:lnTo>
                <a:lnTo>
                  <a:pt x="609" y="855"/>
                </a:lnTo>
                <a:lnTo>
                  <a:pt x="591" y="865"/>
                </a:lnTo>
                <a:lnTo>
                  <a:pt x="578" y="863"/>
                </a:lnTo>
                <a:lnTo>
                  <a:pt x="564" y="843"/>
                </a:lnTo>
                <a:lnTo>
                  <a:pt x="545" y="826"/>
                </a:lnTo>
                <a:lnTo>
                  <a:pt x="527" y="816"/>
                </a:lnTo>
                <a:lnTo>
                  <a:pt x="510" y="826"/>
                </a:lnTo>
                <a:lnTo>
                  <a:pt x="491" y="834"/>
                </a:lnTo>
                <a:lnTo>
                  <a:pt x="461" y="820"/>
                </a:lnTo>
                <a:lnTo>
                  <a:pt x="432" y="810"/>
                </a:lnTo>
                <a:lnTo>
                  <a:pt x="411" y="781"/>
                </a:lnTo>
                <a:lnTo>
                  <a:pt x="396" y="760"/>
                </a:lnTo>
                <a:lnTo>
                  <a:pt x="378" y="752"/>
                </a:lnTo>
                <a:lnTo>
                  <a:pt x="368" y="756"/>
                </a:lnTo>
                <a:lnTo>
                  <a:pt x="353" y="742"/>
                </a:lnTo>
                <a:lnTo>
                  <a:pt x="351" y="729"/>
                </a:lnTo>
                <a:lnTo>
                  <a:pt x="351" y="715"/>
                </a:lnTo>
                <a:lnTo>
                  <a:pt x="337" y="711"/>
                </a:lnTo>
                <a:lnTo>
                  <a:pt x="314" y="711"/>
                </a:lnTo>
                <a:lnTo>
                  <a:pt x="299" y="706"/>
                </a:lnTo>
                <a:lnTo>
                  <a:pt x="283" y="700"/>
                </a:lnTo>
                <a:lnTo>
                  <a:pt x="269" y="696"/>
                </a:lnTo>
                <a:lnTo>
                  <a:pt x="269" y="707"/>
                </a:lnTo>
                <a:lnTo>
                  <a:pt x="273" y="717"/>
                </a:lnTo>
                <a:lnTo>
                  <a:pt x="252" y="733"/>
                </a:lnTo>
                <a:lnTo>
                  <a:pt x="240" y="729"/>
                </a:lnTo>
                <a:lnTo>
                  <a:pt x="223" y="709"/>
                </a:lnTo>
                <a:lnTo>
                  <a:pt x="205" y="696"/>
                </a:lnTo>
                <a:lnTo>
                  <a:pt x="209" y="688"/>
                </a:lnTo>
                <a:lnTo>
                  <a:pt x="211" y="676"/>
                </a:lnTo>
                <a:lnTo>
                  <a:pt x="211" y="671"/>
                </a:lnTo>
                <a:lnTo>
                  <a:pt x="211" y="667"/>
                </a:lnTo>
                <a:lnTo>
                  <a:pt x="190" y="665"/>
                </a:lnTo>
                <a:lnTo>
                  <a:pt x="174" y="642"/>
                </a:lnTo>
                <a:lnTo>
                  <a:pt x="153" y="638"/>
                </a:lnTo>
                <a:lnTo>
                  <a:pt x="136" y="636"/>
                </a:lnTo>
                <a:lnTo>
                  <a:pt x="120" y="638"/>
                </a:lnTo>
                <a:lnTo>
                  <a:pt x="110" y="618"/>
                </a:lnTo>
                <a:lnTo>
                  <a:pt x="93" y="609"/>
                </a:lnTo>
                <a:lnTo>
                  <a:pt x="81" y="620"/>
                </a:lnTo>
                <a:lnTo>
                  <a:pt x="68" y="638"/>
                </a:lnTo>
                <a:lnTo>
                  <a:pt x="56" y="630"/>
                </a:lnTo>
                <a:lnTo>
                  <a:pt x="56" y="628"/>
                </a:lnTo>
                <a:lnTo>
                  <a:pt x="58" y="626"/>
                </a:lnTo>
                <a:lnTo>
                  <a:pt x="62" y="616"/>
                </a:lnTo>
                <a:lnTo>
                  <a:pt x="70" y="583"/>
                </a:lnTo>
                <a:lnTo>
                  <a:pt x="72" y="548"/>
                </a:lnTo>
                <a:lnTo>
                  <a:pt x="70" y="541"/>
                </a:lnTo>
                <a:lnTo>
                  <a:pt x="64" y="535"/>
                </a:lnTo>
                <a:lnTo>
                  <a:pt x="52" y="521"/>
                </a:lnTo>
                <a:lnTo>
                  <a:pt x="41" y="506"/>
                </a:lnTo>
                <a:lnTo>
                  <a:pt x="39" y="481"/>
                </a:lnTo>
                <a:lnTo>
                  <a:pt x="37" y="463"/>
                </a:lnTo>
                <a:lnTo>
                  <a:pt x="39" y="446"/>
                </a:lnTo>
                <a:lnTo>
                  <a:pt x="35" y="417"/>
                </a:lnTo>
                <a:lnTo>
                  <a:pt x="31" y="401"/>
                </a:lnTo>
                <a:lnTo>
                  <a:pt x="29" y="380"/>
                </a:lnTo>
                <a:lnTo>
                  <a:pt x="27" y="358"/>
                </a:lnTo>
                <a:lnTo>
                  <a:pt x="23" y="343"/>
                </a:lnTo>
                <a:lnTo>
                  <a:pt x="12" y="333"/>
                </a:lnTo>
                <a:lnTo>
                  <a:pt x="0" y="325"/>
                </a:lnTo>
                <a:lnTo>
                  <a:pt x="0" y="314"/>
                </a:lnTo>
                <a:lnTo>
                  <a:pt x="8" y="292"/>
                </a:lnTo>
                <a:lnTo>
                  <a:pt x="17" y="271"/>
                </a:lnTo>
                <a:lnTo>
                  <a:pt x="19" y="250"/>
                </a:lnTo>
                <a:lnTo>
                  <a:pt x="19" y="223"/>
                </a:lnTo>
                <a:lnTo>
                  <a:pt x="13" y="209"/>
                </a:lnTo>
                <a:lnTo>
                  <a:pt x="8" y="194"/>
                </a:lnTo>
                <a:lnTo>
                  <a:pt x="2" y="17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5480" y="3295800"/>
            <a:ext cx="466560" cy="323640"/>
          </a:xfrm>
          <a:custGeom>
            <a:avLst/>
            <a:gdLst/>
            <a:ahLst/>
            <a:rect l="l" t="t" r="r" b="b"/>
            <a:pathLst>
              <a:path w="390" h="333">
                <a:moveTo>
                  <a:pt x="367" y="308"/>
                </a:moveTo>
                <a:lnTo>
                  <a:pt x="371" y="320"/>
                </a:lnTo>
                <a:lnTo>
                  <a:pt x="369" y="320"/>
                </a:lnTo>
                <a:lnTo>
                  <a:pt x="357" y="318"/>
                </a:lnTo>
                <a:lnTo>
                  <a:pt x="346" y="316"/>
                </a:lnTo>
                <a:lnTo>
                  <a:pt x="332" y="320"/>
                </a:lnTo>
                <a:lnTo>
                  <a:pt x="322" y="324"/>
                </a:lnTo>
                <a:lnTo>
                  <a:pt x="311" y="331"/>
                </a:lnTo>
                <a:lnTo>
                  <a:pt x="299" y="333"/>
                </a:lnTo>
                <a:lnTo>
                  <a:pt x="262" y="308"/>
                </a:lnTo>
                <a:lnTo>
                  <a:pt x="258" y="304"/>
                </a:lnTo>
                <a:lnTo>
                  <a:pt x="251" y="297"/>
                </a:lnTo>
                <a:lnTo>
                  <a:pt x="241" y="293"/>
                </a:lnTo>
                <a:lnTo>
                  <a:pt x="227" y="291"/>
                </a:lnTo>
                <a:lnTo>
                  <a:pt x="218" y="283"/>
                </a:lnTo>
                <a:lnTo>
                  <a:pt x="206" y="279"/>
                </a:lnTo>
                <a:lnTo>
                  <a:pt x="192" y="277"/>
                </a:lnTo>
                <a:lnTo>
                  <a:pt x="181" y="277"/>
                </a:lnTo>
                <a:lnTo>
                  <a:pt x="167" y="281"/>
                </a:lnTo>
                <a:lnTo>
                  <a:pt x="156" y="283"/>
                </a:lnTo>
                <a:lnTo>
                  <a:pt x="142" y="287"/>
                </a:lnTo>
                <a:lnTo>
                  <a:pt x="134" y="297"/>
                </a:lnTo>
                <a:lnTo>
                  <a:pt x="124" y="304"/>
                </a:lnTo>
                <a:lnTo>
                  <a:pt x="101" y="312"/>
                </a:lnTo>
                <a:lnTo>
                  <a:pt x="99" y="312"/>
                </a:lnTo>
                <a:lnTo>
                  <a:pt x="97" y="295"/>
                </a:lnTo>
                <a:lnTo>
                  <a:pt x="99" y="277"/>
                </a:lnTo>
                <a:lnTo>
                  <a:pt x="99" y="260"/>
                </a:lnTo>
                <a:lnTo>
                  <a:pt x="99" y="238"/>
                </a:lnTo>
                <a:lnTo>
                  <a:pt x="101" y="221"/>
                </a:lnTo>
                <a:lnTo>
                  <a:pt x="99" y="213"/>
                </a:lnTo>
                <a:lnTo>
                  <a:pt x="90" y="213"/>
                </a:lnTo>
                <a:lnTo>
                  <a:pt x="78" y="213"/>
                </a:lnTo>
                <a:lnTo>
                  <a:pt x="76" y="225"/>
                </a:lnTo>
                <a:lnTo>
                  <a:pt x="64" y="234"/>
                </a:lnTo>
                <a:lnTo>
                  <a:pt x="55" y="223"/>
                </a:lnTo>
                <a:lnTo>
                  <a:pt x="45" y="225"/>
                </a:lnTo>
                <a:lnTo>
                  <a:pt x="33" y="223"/>
                </a:lnTo>
                <a:lnTo>
                  <a:pt x="26" y="207"/>
                </a:lnTo>
                <a:lnTo>
                  <a:pt x="16" y="196"/>
                </a:lnTo>
                <a:lnTo>
                  <a:pt x="12" y="180"/>
                </a:lnTo>
                <a:lnTo>
                  <a:pt x="16" y="167"/>
                </a:lnTo>
                <a:lnTo>
                  <a:pt x="22" y="165"/>
                </a:lnTo>
                <a:lnTo>
                  <a:pt x="29" y="161"/>
                </a:lnTo>
                <a:lnTo>
                  <a:pt x="28" y="157"/>
                </a:lnTo>
                <a:lnTo>
                  <a:pt x="6" y="155"/>
                </a:lnTo>
                <a:lnTo>
                  <a:pt x="6" y="153"/>
                </a:lnTo>
                <a:lnTo>
                  <a:pt x="6" y="137"/>
                </a:lnTo>
                <a:lnTo>
                  <a:pt x="10" y="134"/>
                </a:lnTo>
                <a:lnTo>
                  <a:pt x="6" y="126"/>
                </a:lnTo>
                <a:lnTo>
                  <a:pt x="0" y="126"/>
                </a:lnTo>
                <a:lnTo>
                  <a:pt x="0" y="114"/>
                </a:lnTo>
                <a:lnTo>
                  <a:pt x="0" y="106"/>
                </a:lnTo>
                <a:lnTo>
                  <a:pt x="0" y="95"/>
                </a:lnTo>
                <a:lnTo>
                  <a:pt x="6" y="87"/>
                </a:lnTo>
                <a:lnTo>
                  <a:pt x="24" y="83"/>
                </a:lnTo>
                <a:lnTo>
                  <a:pt x="33" y="75"/>
                </a:lnTo>
                <a:lnTo>
                  <a:pt x="45" y="72"/>
                </a:lnTo>
                <a:lnTo>
                  <a:pt x="45" y="66"/>
                </a:lnTo>
                <a:lnTo>
                  <a:pt x="49" y="58"/>
                </a:lnTo>
                <a:lnTo>
                  <a:pt x="59" y="54"/>
                </a:lnTo>
                <a:lnTo>
                  <a:pt x="70" y="44"/>
                </a:lnTo>
                <a:lnTo>
                  <a:pt x="97" y="41"/>
                </a:lnTo>
                <a:lnTo>
                  <a:pt x="99" y="27"/>
                </a:lnTo>
                <a:lnTo>
                  <a:pt x="105" y="31"/>
                </a:lnTo>
                <a:lnTo>
                  <a:pt x="115" y="35"/>
                </a:lnTo>
                <a:lnTo>
                  <a:pt x="130" y="29"/>
                </a:lnTo>
                <a:lnTo>
                  <a:pt x="142" y="27"/>
                </a:lnTo>
                <a:lnTo>
                  <a:pt x="150" y="19"/>
                </a:lnTo>
                <a:lnTo>
                  <a:pt x="148" y="11"/>
                </a:lnTo>
                <a:lnTo>
                  <a:pt x="154" y="9"/>
                </a:lnTo>
                <a:lnTo>
                  <a:pt x="159" y="11"/>
                </a:lnTo>
                <a:lnTo>
                  <a:pt x="159" y="9"/>
                </a:lnTo>
                <a:lnTo>
                  <a:pt x="161" y="0"/>
                </a:lnTo>
                <a:lnTo>
                  <a:pt x="175" y="11"/>
                </a:lnTo>
                <a:lnTo>
                  <a:pt x="179" y="8"/>
                </a:lnTo>
                <a:lnTo>
                  <a:pt x="185" y="8"/>
                </a:lnTo>
                <a:lnTo>
                  <a:pt x="187" y="4"/>
                </a:lnTo>
                <a:lnTo>
                  <a:pt x="198" y="4"/>
                </a:lnTo>
                <a:lnTo>
                  <a:pt x="216" y="9"/>
                </a:lnTo>
                <a:lnTo>
                  <a:pt x="233" y="9"/>
                </a:lnTo>
                <a:lnTo>
                  <a:pt x="243" y="9"/>
                </a:lnTo>
                <a:lnTo>
                  <a:pt x="252" y="17"/>
                </a:lnTo>
                <a:lnTo>
                  <a:pt x="270" y="19"/>
                </a:lnTo>
                <a:lnTo>
                  <a:pt x="313" y="11"/>
                </a:lnTo>
                <a:lnTo>
                  <a:pt x="332" y="9"/>
                </a:lnTo>
                <a:lnTo>
                  <a:pt x="348" y="0"/>
                </a:lnTo>
                <a:lnTo>
                  <a:pt x="353" y="0"/>
                </a:lnTo>
                <a:lnTo>
                  <a:pt x="369" y="11"/>
                </a:lnTo>
                <a:lnTo>
                  <a:pt x="379" y="21"/>
                </a:lnTo>
                <a:lnTo>
                  <a:pt x="382" y="42"/>
                </a:lnTo>
                <a:lnTo>
                  <a:pt x="361" y="85"/>
                </a:lnTo>
                <a:lnTo>
                  <a:pt x="351" y="93"/>
                </a:lnTo>
                <a:lnTo>
                  <a:pt x="309" y="112"/>
                </a:lnTo>
                <a:lnTo>
                  <a:pt x="301" y="122"/>
                </a:lnTo>
                <a:lnTo>
                  <a:pt x="301" y="134"/>
                </a:lnTo>
                <a:lnTo>
                  <a:pt x="322" y="163"/>
                </a:lnTo>
                <a:lnTo>
                  <a:pt x="334" y="198"/>
                </a:lnTo>
                <a:lnTo>
                  <a:pt x="348" y="200"/>
                </a:lnTo>
                <a:lnTo>
                  <a:pt x="355" y="221"/>
                </a:lnTo>
                <a:lnTo>
                  <a:pt x="382" y="246"/>
                </a:lnTo>
                <a:lnTo>
                  <a:pt x="384" y="258"/>
                </a:lnTo>
                <a:lnTo>
                  <a:pt x="390" y="267"/>
                </a:lnTo>
                <a:lnTo>
                  <a:pt x="379" y="273"/>
                </a:lnTo>
                <a:lnTo>
                  <a:pt x="367" y="308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24400" y="3807000"/>
            <a:ext cx="631800" cy="396720"/>
          </a:xfrm>
          <a:custGeom>
            <a:avLst/>
            <a:gdLst/>
            <a:ahLst/>
            <a:rect l="l" t="t" r="r" b="b"/>
            <a:pathLst>
              <a:path w="528" h="408">
                <a:moveTo>
                  <a:pt x="31" y="202"/>
                </a:moveTo>
                <a:lnTo>
                  <a:pt x="27" y="189"/>
                </a:lnTo>
                <a:lnTo>
                  <a:pt x="23" y="189"/>
                </a:lnTo>
                <a:lnTo>
                  <a:pt x="23" y="175"/>
                </a:lnTo>
                <a:lnTo>
                  <a:pt x="21" y="163"/>
                </a:lnTo>
                <a:lnTo>
                  <a:pt x="16" y="144"/>
                </a:lnTo>
                <a:lnTo>
                  <a:pt x="12" y="126"/>
                </a:lnTo>
                <a:lnTo>
                  <a:pt x="6" y="115"/>
                </a:lnTo>
                <a:lnTo>
                  <a:pt x="4" y="105"/>
                </a:lnTo>
                <a:lnTo>
                  <a:pt x="0" y="92"/>
                </a:lnTo>
                <a:lnTo>
                  <a:pt x="8" y="94"/>
                </a:lnTo>
                <a:lnTo>
                  <a:pt x="21" y="97"/>
                </a:lnTo>
                <a:lnTo>
                  <a:pt x="31" y="88"/>
                </a:lnTo>
                <a:lnTo>
                  <a:pt x="35" y="76"/>
                </a:lnTo>
                <a:lnTo>
                  <a:pt x="43" y="64"/>
                </a:lnTo>
                <a:lnTo>
                  <a:pt x="54" y="61"/>
                </a:lnTo>
                <a:lnTo>
                  <a:pt x="64" y="51"/>
                </a:lnTo>
                <a:lnTo>
                  <a:pt x="76" y="45"/>
                </a:lnTo>
                <a:lnTo>
                  <a:pt x="87" y="39"/>
                </a:lnTo>
                <a:lnTo>
                  <a:pt x="99" y="33"/>
                </a:lnTo>
                <a:lnTo>
                  <a:pt x="111" y="31"/>
                </a:lnTo>
                <a:lnTo>
                  <a:pt x="124" y="30"/>
                </a:lnTo>
                <a:lnTo>
                  <a:pt x="138" y="31"/>
                </a:lnTo>
                <a:lnTo>
                  <a:pt x="149" y="35"/>
                </a:lnTo>
                <a:lnTo>
                  <a:pt x="161" y="33"/>
                </a:lnTo>
                <a:lnTo>
                  <a:pt x="173" y="28"/>
                </a:lnTo>
                <a:lnTo>
                  <a:pt x="184" y="30"/>
                </a:lnTo>
                <a:lnTo>
                  <a:pt x="196" y="24"/>
                </a:lnTo>
                <a:lnTo>
                  <a:pt x="209" y="24"/>
                </a:lnTo>
                <a:lnTo>
                  <a:pt x="221" y="26"/>
                </a:lnTo>
                <a:lnTo>
                  <a:pt x="233" y="24"/>
                </a:lnTo>
                <a:lnTo>
                  <a:pt x="246" y="26"/>
                </a:lnTo>
                <a:lnTo>
                  <a:pt x="258" y="30"/>
                </a:lnTo>
                <a:lnTo>
                  <a:pt x="270" y="33"/>
                </a:lnTo>
                <a:lnTo>
                  <a:pt x="283" y="35"/>
                </a:lnTo>
                <a:lnTo>
                  <a:pt x="297" y="31"/>
                </a:lnTo>
                <a:lnTo>
                  <a:pt x="308" y="26"/>
                </a:lnTo>
                <a:lnTo>
                  <a:pt x="316" y="18"/>
                </a:lnTo>
                <a:lnTo>
                  <a:pt x="322" y="4"/>
                </a:lnTo>
                <a:lnTo>
                  <a:pt x="336" y="0"/>
                </a:lnTo>
                <a:lnTo>
                  <a:pt x="345" y="6"/>
                </a:lnTo>
                <a:lnTo>
                  <a:pt x="351" y="18"/>
                </a:lnTo>
                <a:lnTo>
                  <a:pt x="357" y="30"/>
                </a:lnTo>
                <a:lnTo>
                  <a:pt x="365" y="41"/>
                </a:lnTo>
                <a:lnTo>
                  <a:pt x="378" y="43"/>
                </a:lnTo>
                <a:lnTo>
                  <a:pt x="390" y="41"/>
                </a:lnTo>
                <a:lnTo>
                  <a:pt x="403" y="37"/>
                </a:lnTo>
                <a:lnTo>
                  <a:pt x="415" y="43"/>
                </a:lnTo>
                <a:lnTo>
                  <a:pt x="425" y="51"/>
                </a:lnTo>
                <a:lnTo>
                  <a:pt x="436" y="55"/>
                </a:lnTo>
                <a:lnTo>
                  <a:pt x="448" y="61"/>
                </a:lnTo>
                <a:lnTo>
                  <a:pt x="483" y="92"/>
                </a:lnTo>
                <a:lnTo>
                  <a:pt x="497" y="94"/>
                </a:lnTo>
                <a:lnTo>
                  <a:pt x="506" y="99"/>
                </a:lnTo>
                <a:lnTo>
                  <a:pt x="512" y="99"/>
                </a:lnTo>
                <a:lnTo>
                  <a:pt x="514" y="101"/>
                </a:lnTo>
                <a:lnTo>
                  <a:pt x="514" y="105"/>
                </a:lnTo>
                <a:lnTo>
                  <a:pt x="506" y="115"/>
                </a:lnTo>
                <a:lnTo>
                  <a:pt x="497" y="123"/>
                </a:lnTo>
                <a:lnTo>
                  <a:pt x="498" y="136"/>
                </a:lnTo>
                <a:lnTo>
                  <a:pt x="500" y="148"/>
                </a:lnTo>
                <a:lnTo>
                  <a:pt x="514" y="146"/>
                </a:lnTo>
                <a:lnTo>
                  <a:pt x="528" y="150"/>
                </a:lnTo>
                <a:lnTo>
                  <a:pt x="516" y="181"/>
                </a:lnTo>
                <a:lnTo>
                  <a:pt x="508" y="183"/>
                </a:lnTo>
                <a:lnTo>
                  <a:pt x="497" y="185"/>
                </a:lnTo>
                <a:lnTo>
                  <a:pt x="487" y="192"/>
                </a:lnTo>
                <a:lnTo>
                  <a:pt x="479" y="204"/>
                </a:lnTo>
                <a:lnTo>
                  <a:pt x="465" y="208"/>
                </a:lnTo>
                <a:lnTo>
                  <a:pt x="456" y="216"/>
                </a:lnTo>
                <a:lnTo>
                  <a:pt x="454" y="229"/>
                </a:lnTo>
                <a:lnTo>
                  <a:pt x="458" y="243"/>
                </a:lnTo>
                <a:lnTo>
                  <a:pt x="456" y="256"/>
                </a:lnTo>
                <a:lnTo>
                  <a:pt x="458" y="270"/>
                </a:lnTo>
                <a:lnTo>
                  <a:pt x="454" y="282"/>
                </a:lnTo>
                <a:lnTo>
                  <a:pt x="448" y="293"/>
                </a:lnTo>
                <a:lnTo>
                  <a:pt x="446" y="307"/>
                </a:lnTo>
                <a:lnTo>
                  <a:pt x="454" y="318"/>
                </a:lnTo>
                <a:lnTo>
                  <a:pt x="464" y="326"/>
                </a:lnTo>
                <a:lnTo>
                  <a:pt x="469" y="340"/>
                </a:lnTo>
                <a:lnTo>
                  <a:pt x="456" y="348"/>
                </a:lnTo>
                <a:lnTo>
                  <a:pt x="444" y="344"/>
                </a:lnTo>
                <a:lnTo>
                  <a:pt x="436" y="332"/>
                </a:lnTo>
                <a:lnTo>
                  <a:pt x="423" y="330"/>
                </a:lnTo>
                <a:lnTo>
                  <a:pt x="411" y="340"/>
                </a:lnTo>
                <a:lnTo>
                  <a:pt x="403" y="351"/>
                </a:lnTo>
                <a:lnTo>
                  <a:pt x="390" y="351"/>
                </a:lnTo>
                <a:lnTo>
                  <a:pt x="380" y="359"/>
                </a:lnTo>
                <a:lnTo>
                  <a:pt x="380" y="359"/>
                </a:lnTo>
                <a:lnTo>
                  <a:pt x="388" y="382"/>
                </a:lnTo>
                <a:lnTo>
                  <a:pt x="374" y="384"/>
                </a:lnTo>
                <a:lnTo>
                  <a:pt x="363" y="382"/>
                </a:lnTo>
                <a:lnTo>
                  <a:pt x="355" y="392"/>
                </a:lnTo>
                <a:lnTo>
                  <a:pt x="341" y="398"/>
                </a:lnTo>
                <a:lnTo>
                  <a:pt x="316" y="396"/>
                </a:lnTo>
                <a:lnTo>
                  <a:pt x="303" y="402"/>
                </a:lnTo>
                <a:lnTo>
                  <a:pt x="291" y="408"/>
                </a:lnTo>
                <a:lnTo>
                  <a:pt x="277" y="404"/>
                </a:lnTo>
                <a:lnTo>
                  <a:pt x="264" y="404"/>
                </a:lnTo>
                <a:lnTo>
                  <a:pt x="256" y="402"/>
                </a:lnTo>
                <a:lnTo>
                  <a:pt x="254" y="396"/>
                </a:lnTo>
                <a:lnTo>
                  <a:pt x="248" y="369"/>
                </a:lnTo>
                <a:lnTo>
                  <a:pt x="239" y="351"/>
                </a:lnTo>
                <a:lnTo>
                  <a:pt x="206" y="332"/>
                </a:lnTo>
                <a:lnTo>
                  <a:pt x="180" y="322"/>
                </a:lnTo>
                <a:lnTo>
                  <a:pt x="175" y="324"/>
                </a:lnTo>
                <a:lnTo>
                  <a:pt x="175" y="318"/>
                </a:lnTo>
                <a:lnTo>
                  <a:pt x="171" y="305"/>
                </a:lnTo>
                <a:lnTo>
                  <a:pt x="171" y="293"/>
                </a:lnTo>
                <a:lnTo>
                  <a:pt x="175" y="280"/>
                </a:lnTo>
                <a:lnTo>
                  <a:pt x="177" y="266"/>
                </a:lnTo>
                <a:lnTo>
                  <a:pt x="171" y="254"/>
                </a:lnTo>
                <a:lnTo>
                  <a:pt x="155" y="231"/>
                </a:lnTo>
                <a:lnTo>
                  <a:pt x="144" y="225"/>
                </a:lnTo>
                <a:lnTo>
                  <a:pt x="130" y="229"/>
                </a:lnTo>
                <a:lnTo>
                  <a:pt x="118" y="231"/>
                </a:lnTo>
                <a:lnTo>
                  <a:pt x="105" y="229"/>
                </a:lnTo>
                <a:lnTo>
                  <a:pt x="91" y="229"/>
                </a:lnTo>
                <a:lnTo>
                  <a:pt x="80" y="227"/>
                </a:lnTo>
                <a:lnTo>
                  <a:pt x="68" y="218"/>
                </a:lnTo>
                <a:lnTo>
                  <a:pt x="54" y="216"/>
                </a:lnTo>
                <a:lnTo>
                  <a:pt x="45" y="208"/>
                </a:lnTo>
                <a:lnTo>
                  <a:pt x="33" y="210"/>
                </a:lnTo>
                <a:lnTo>
                  <a:pt x="29" y="210"/>
                </a:lnTo>
                <a:lnTo>
                  <a:pt x="31" y="202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24640" y="3805200"/>
            <a:ext cx="1036440" cy="762120"/>
          </a:xfrm>
          <a:custGeom>
            <a:avLst/>
            <a:gdLst/>
            <a:ahLst/>
            <a:rect l="l" t="t" r="r" b="b"/>
            <a:pathLst>
              <a:path w="869" h="783">
                <a:moveTo>
                  <a:pt x="830" y="541"/>
                </a:moveTo>
                <a:lnTo>
                  <a:pt x="830" y="545"/>
                </a:lnTo>
                <a:lnTo>
                  <a:pt x="824" y="545"/>
                </a:lnTo>
                <a:lnTo>
                  <a:pt x="811" y="548"/>
                </a:lnTo>
                <a:lnTo>
                  <a:pt x="797" y="550"/>
                </a:lnTo>
                <a:lnTo>
                  <a:pt x="786" y="560"/>
                </a:lnTo>
                <a:lnTo>
                  <a:pt x="772" y="562"/>
                </a:lnTo>
                <a:lnTo>
                  <a:pt x="760" y="572"/>
                </a:lnTo>
                <a:lnTo>
                  <a:pt x="753" y="585"/>
                </a:lnTo>
                <a:lnTo>
                  <a:pt x="747" y="595"/>
                </a:lnTo>
                <a:lnTo>
                  <a:pt x="739" y="609"/>
                </a:lnTo>
                <a:lnTo>
                  <a:pt x="735" y="622"/>
                </a:lnTo>
                <a:lnTo>
                  <a:pt x="739" y="636"/>
                </a:lnTo>
                <a:lnTo>
                  <a:pt x="739" y="649"/>
                </a:lnTo>
                <a:lnTo>
                  <a:pt x="741" y="665"/>
                </a:lnTo>
                <a:lnTo>
                  <a:pt x="749" y="678"/>
                </a:lnTo>
                <a:lnTo>
                  <a:pt x="745" y="692"/>
                </a:lnTo>
                <a:lnTo>
                  <a:pt x="731" y="698"/>
                </a:lnTo>
                <a:lnTo>
                  <a:pt x="720" y="688"/>
                </a:lnTo>
                <a:lnTo>
                  <a:pt x="706" y="686"/>
                </a:lnTo>
                <a:lnTo>
                  <a:pt x="693" y="688"/>
                </a:lnTo>
                <a:lnTo>
                  <a:pt x="665" y="700"/>
                </a:lnTo>
                <a:lnTo>
                  <a:pt x="652" y="702"/>
                </a:lnTo>
                <a:lnTo>
                  <a:pt x="640" y="711"/>
                </a:lnTo>
                <a:lnTo>
                  <a:pt x="629" y="707"/>
                </a:lnTo>
                <a:lnTo>
                  <a:pt x="619" y="694"/>
                </a:lnTo>
                <a:lnTo>
                  <a:pt x="607" y="688"/>
                </a:lnTo>
                <a:lnTo>
                  <a:pt x="596" y="682"/>
                </a:lnTo>
                <a:lnTo>
                  <a:pt x="578" y="705"/>
                </a:lnTo>
                <a:lnTo>
                  <a:pt x="572" y="717"/>
                </a:lnTo>
                <a:lnTo>
                  <a:pt x="559" y="713"/>
                </a:lnTo>
                <a:lnTo>
                  <a:pt x="549" y="704"/>
                </a:lnTo>
                <a:lnTo>
                  <a:pt x="535" y="707"/>
                </a:lnTo>
                <a:lnTo>
                  <a:pt x="522" y="707"/>
                </a:lnTo>
                <a:lnTo>
                  <a:pt x="508" y="700"/>
                </a:lnTo>
                <a:lnTo>
                  <a:pt x="501" y="713"/>
                </a:lnTo>
                <a:lnTo>
                  <a:pt x="485" y="717"/>
                </a:lnTo>
                <a:lnTo>
                  <a:pt x="473" y="725"/>
                </a:lnTo>
                <a:lnTo>
                  <a:pt x="464" y="735"/>
                </a:lnTo>
                <a:lnTo>
                  <a:pt x="452" y="727"/>
                </a:lnTo>
                <a:lnTo>
                  <a:pt x="448" y="713"/>
                </a:lnTo>
                <a:lnTo>
                  <a:pt x="433" y="717"/>
                </a:lnTo>
                <a:lnTo>
                  <a:pt x="419" y="721"/>
                </a:lnTo>
                <a:lnTo>
                  <a:pt x="407" y="713"/>
                </a:lnTo>
                <a:lnTo>
                  <a:pt x="404" y="700"/>
                </a:lnTo>
                <a:lnTo>
                  <a:pt x="390" y="696"/>
                </a:lnTo>
                <a:lnTo>
                  <a:pt x="374" y="696"/>
                </a:lnTo>
                <a:lnTo>
                  <a:pt x="363" y="690"/>
                </a:lnTo>
                <a:lnTo>
                  <a:pt x="349" y="696"/>
                </a:lnTo>
                <a:lnTo>
                  <a:pt x="336" y="696"/>
                </a:lnTo>
                <a:lnTo>
                  <a:pt x="320" y="694"/>
                </a:lnTo>
                <a:lnTo>
                  <a:pt x="307" y="692"/>
                </a:lnTo>
                <a:lnTo>
                  <a:pt x="295" y="686"/>
                </a:lnTo>
                <a:lnTo>
                  <a:pt x="279" y="682"/>
                </a:lnTo>
                <a:lnTo>
                  <a:pt x="266" y="688"/>
                </a:lnTo>
                <a:lnTo>
                  <a:pt x="252" y="688"/>
                </a:lnTo>
                <a:lnTo>
                  <a:pt x="237" y="692"/>
                </a:lnTo>
                <a:lnTo>
                  <a:pt x="223" y="688"/>
                </a:lnTo>
                <a:lnTo>
                  <a:pt x="210" y="692"/>
                </a:lnTo>
                <a:lnTo>
                  <a:pt x="196" y="696"/>
                </a:lnTo>
                <a:lnTo>
                  <a:pt x="183" y="698"/>
                </a:lnTo>
                <a:lnTo>
                  <a:pt x="169" y="704"/>
                </a:lnTo>
                <a:lnTo>
                  <a:pt x="155" y="707"/>
                </a:lnTo>
                <a:lnTo>
                  <a:pt x="144" y="715"/>
                </a:lnTo>
                <a:lnTo>
                  <a:pt x="142" y="729"/>
                </a:lnTo>
                <a:lnTo>
                  <a:pt x="132" y="738"/>
                </a:lnTo>
                <a:lnTo>
                  <a:pt x="120" y="748"/>
                </a:lnTo>
                <a:lnTo>
                  <a:pt x="107" y="756"/>
                </a:lnTo>
                <a:lnTo>
                  <a:pt x="93" y="754"/>
                </a:lnTo>
                <a:lnTo>
                  <a:pt x="80" y="758"/>
                </a:lnTo>
                <a:lnTo>
                  <a:pt x="58" y="779"/>
                </a:lnTo>
                <a:lnTo>
                  <a:pt x="58" y="783"/>
                </a:lnTo>
                <a:lnTo>
                  <a:pt x="56" y="773"/>
                </a:lnTo>
                <a:lnTo>
                  <a:pt x="43" y="752"/>
                </a:lnTo>
                <a:lnTo>
                  <a:pt x="41" y="731"/>
                </a:lnTo>
                <a:lnTo>
                  <a:pt x="41" y="704"/>
                </a:lnTo>
                <a:lnTo>
                  <a:pt x="41" y="680"/>
                </a:lnTo>
                <a:lnTo>
                  <a:pt x="12" y="661"/>
                </a:lnTo>
                <a:lnTo>
                  <a:pt x="0" y="643"/>
                </a:lnTo>
                <a:lnTo>
                  <a:pt x="16" y="620"/>
                </a:lnTo>
                <a:lnTo>
                  <a:pt x="39" y="603"/>
                </a:lnTo>
                <a:lnTo>
                  <a:pt x="56" y="572"/>
                </a:lnTo>
                <a:lnTo>
                  <a:pt x="53" y="541"/>
                </a:lnTo>
                <a:lnTo>
                  <a:pt x="49" y="515"/>
                </a:lnTo>
                <a:lnTo>
                  <a:pt x="20" y="446"/>
                </a:lnTo>
                <a:lnTo>
                  <a:pt x="6" y="407"/>
                </a:lnTo>
                <a:lnTo>
                  <a:pt x="14" y="407"/>
                </a:lnTo>
                <a:lnTo>
                  <a:pt x="27" y="407"/>
                </a:lnTo>
                <a:lnTo>
                  <a:pt x="41" y="411"/>
                </a:lnTo>
                <a:lnTo>
                  <a:pt x="53" y="405"/>
                </a:lnTo>
                <a:lnTo>
                  <a:pt x="66" y="399"/>
                </a:lnTo>
                <a:lnTo>
                  <a:pt x="91" y="401"/>
                </a:lnTo>
                <a:lnTo>
                  <a:pt x="105" y="395"/>
                </a:lnTo>
                <a:lnTo>
                  <a:pt x="113" y="385"/>
                </a:lnTo>
                <a:lnTo>
                  <a:pt x="124" y="387"/>
                </a:lnTo>
                <a:lnTo>
                  <a:pt x="138" y="385"/>
                </a:lnTo>
                <a:lnTo>
                  <a:pt x="130" y="362"/>
                </a:lnTo>
                <a:lnTo>
                  <a:pt x="130" y="362"/>
                </a:lnTo>
                <a:lnTo>
                  <a:pt x="140" y="354"/>
                </a:lnTo>
                <a:lnTo>
                  <a:pt x="153" y="354"/>
                </a:lnTo>
                <a:lnTo>
                  <a:pt x="161" y="343"/>
                </a:lnTo>
                <a:lnTo>
                  <a:pt x="173" y="333"/>
                </a:lnTo>
                <a:lnTo>
                  <a:pt x="186" y="335"/>
                </a:lnTo>
                <a:lnTo>
                  <a:pt x="194" y="347"/>
                </a:lnTo>
                <a:lnTo>
                  <a:pt x="206" y="351"/>
                </a:lnTo>
                <a:lnTo>
                  <a:pt x="219" y="343"/>
                </a:lnTo>
                <a:lnTo>
                  <a:pt x="214" y="329"/>
                </a:lnTo>
                <a:lnTo>
                  <a:pt x="204" y="321"/>
                </a:lnTo>
                <a:lnTo>
                  <a:pt x="196" y="310"/>
                </a:lnTo>
                <a:lnTo>
                  <a:pt x="198" y="296"/>
                </a:lnTo>
                <a:lnTo>
                  <a:pt x="204" y="285"/>
                </a:lnTo>
                <a:lnTo>
                  <a:pt x="208" y="273"/>
                </a:lnTo>
                <a:lnTo>
                  <a:pt x="206" y="259"/>
                </a:lnTo>
                <a:lnTo>
                  <a:pt x="208" y="246"/>
                </a:lnTo>
                <a:lnTo>
                  <a:pt x="204" y="232"/>
                </a:lnTo>
                <a:lnTo>
                  <a:pt x="206" y="219"/>
                </a:lnTo>
                <a:lnTo>
                  <a:pt x="215" y="211"/>
                </a:lnTo>
                <a:lnTo>
                  <a:pt x="229" y="207"/>
                </a:lnTo>
                <a:lnTo>
                  <a:pt x="237" y="195"/>
                </a:lnTo>
                <a:lnTo>
                  <a:pt x="247" y="188"/>
                </a:lnTo>
                <a:lnTo>
                  <a:pt x="258" y="186"/>
                </a:lnTo>
                <a:lnTo>
                  <a:pt x="266" y="184"/>
                </a:lnTo>
                <a:lnTo>
                  <a:pt x="278" y="153"/>
                </a:lnTo>
                <a:lnTo>
                  <a:pt x="264" y="149"/>
                </a:lnTo>
                <a:lnTo>
                  <a:pt x="250" y="151"/>
                </a:lnTo>
                <a:lnTo>
                  <a:pt x="248" y="139"/>
                </a:lnTo>
                <a:lnTo>
                  <a:pt x="247" y="126"/>
                </a:lnTo>
                <a:lnTo>
                  <a:pt x="256" y="118"/>
                </a:lnTo>
                <a:lnTo>
                  <a:pt x="264" y="108"/>
                </a:lnTo>
                <a:lnTo>
                  <a:pt x="264" y="104"/>
                </a:lnTo>
                <a:lnTo>
                  <a:pt x="262" y="102"/>
                </a:lnTo>
                <a:lnTo>
                  <a:pt x="270" y="104"/>
                </a:lnTo>
                <a:lnTo>
                  <a:pt x="279" y="95"/>
                </a:lnTo>
                <a:lnTo>
                  <a:pt x="279" y="81"/>
                </a:lnTo>
                <a:lnTo>
                  <a:pt x="289" y="71"/>
                </a:lnTo>
                <a:lnTo>
                  <a:pt x="303" y="71"/>
                </a:lnTo>
                <a:lnTo>
                  <a:pt x="316" y="77"/>
                </a:lnTo>
                <a:lnTo>
                  <a:pt x="328" y="71"/>
                </a:lnTo>
                <a:lnTo>
                  <a:pt x="336" y="60"/>
                </a:lnTo>
                <a:lnTo>
                  <a:pt x="340" y="50"/>
                </a:lnTo>
                <a:lnTo>
                  <a:pt x="342" y="34"/>
                </a:lnTo>
                <a:lnTo>
                  <a:pt x="347" y="25"/>
                </a:lnTo>
                <a:lnTo>
                  <a:pt x="355" y="13"/>
                </a:lnTo>
                <a:lnTo>
                  <a:pt x="365" y="3"/>
                </a:lnTo>
                <a:lnTo>
                  <a:pt x="376" y="0"/>
                </a:lnTo>
                <a:lnTo>
                  <a:pt x="382" y="0"/>
                </a:lnTo>
                <a:lnTo>
                  <a:pt x="386" y="13"/>
                </a:lnTo>
                <a:lnTo>
                  <a:pt x="411" y="3"/>
                </a:lnTo>
                <a:lnTo>
                  <a:pt x="423" y="7"/>
                </a:lnTo>
                <a:lnTo>
                  <a:pt x="433" y="15"/>
                </a:lnTo>
                <a:lnTo>
                  <a:pt x="470" y="7"/>
                </a:lnTo>
                <a:lnTo>
                  <a:pt x="483" y="13"/>
                </a:lnTo>
                <a:lnTo>
                  <a:pt x="491" y="17"/>
                </a:lnTo>
                <a:lnTo>
                  <a:pt x="495" y="48"/>
                </a:lnTo>
                <a:lnTo>
                  <a:pt x="504" y="42"/>
                </a:lnTo>
                <a:lnTo>
                  <a:pt x="514" y="33"/>
                </a:lnTo>
                <a:lnTo>
                  <a:pt x="526" y="27"/>
                </a:lnTo>
                <a:lnTo>
                  <a:pt x="534" y="17"/>
                </a:lnTo>
                <a:lnTo>
                  <a:pt x="545" y="13"/>
                </a:lnTo>
                <a:lnTo>
                  <a:pt x="557" y="9"/>
                </a:lnTo>
                <a:lnTo>
                  <a:pt x="570" y="9"/>
                </a:lnTo>
                <a:lnTo>
                  <a:pt x="582" y="13"/>
                </a:lnTo>
                <a:lnTo>
                  <a:pt x="613" y="36"/>
                </a:lnTo>
                <a:lnTo>
                  <a:pt x="627" y="36"/>
                </a:lnTo>
                <a:lnTo>
                  <a:pt x="632" y="54"/>
                </a:lnTo>
                <a:lnTo>
                  <a:pt x="630" y="67"/>
                </a:lnTo>
                <a:lnTo>
                  <a:pt x="634" y="79"/>
                </a:lnTo>
                <a:lnTo>
                  <a:pt x="644" y="89"/>
                </a:lnTo>
                <a:lnTo>
                  <a:pt x="650" y="98"/>
                </a:lnTo>
                <a:lnTo>
                  <a:pt x="652" y="126"/>
                </a:lnTo>
                <a:lnTo>
                  <a:pt x="644" y="135"/>
                </a:lnTo>
                <a:lnTo>
                  <a:pt x="644" y="149"/>
                </a:lnTo>
                <a:lnTo>
                  <a:pt x="650" y="161"/>
                </a:lnTo>
                <a:lnTo>
                  <a:pt x="671" y="174"/>
                </a:lnTo>
                <a:lnTo>
                  <a:pt x="677" y="188"/>
                </a:lnTo>
                <a:lnTo>
                  <a:pt x="712" y="228"/>
                </a:lnTo>
                <a:lnTo>
                  <a:pt x="720" y="238"/>
                </a:lnTo>
                <a:lnTo>
                  <a:pt x="733" y="242"/>
                </a:lnTo>
                <a:lnTo>
                  <a:pt x="747" y="246"/>
                </a:lnTo>
                <a:lnTo>
                  <a:pt x="758" y="254"/>
                </a:lnTo>
                <a:lnTo>
                  <a:pt x="762" y="265"/>
                </a:lnTo>
                <a:lnTo>
                  <a:pt x="764" y="279"/>
                </a:lnTo>
                <a:lnTo>
                  <a:pt x="772" y="290"/>
                </a:lnTo>
                <a:lnTo>
                  <a:pt x="797" y="279"/>
                </a:lnTo>
                <a:lnTo>
                  <a:pt x="811" y="275"/>
                </a:lnTo>
                <a:lnTo>
                  <a:pt x="822" y="281"/>
                </a:lnTo>
                <a:lnTo>
                  <a:pt x="836" y="283"/>
                </a:lnTo>
                <a:lnTo>
                  <a:pt x="836" y="296"/>
                </a:lnTo>
                <a:lnTo>
                  <a:pt x="846" y="304"/>
                </a:lnTo>
                <a:lnTo>
                  <a:pt x="859" y="302"/>
                </a:lnTo>
                <a:lnTo>
                  <a:pt x="861" y="302"/>
                </a:lnTo>
                <a:lnTo>
                  <a:pt x="869" y="323"/>
                </a:lnTo>
                <a:lnTo>
                  <a:pt x="859" y="335"/>
                </a:lnTo>
                <a:lnTo>
                  <a:pt x="855" y="347"/>
                </a:lnTo>
                <a:lnTo>
                  <a:pt x="830" y="380"/>
                </a:lnTo>
                <a:lnTo>
                  <a:pt x="803" y="384"/>
                </a:lnTo>
                <a:lnTo>
                  <a:pt x="778" y="370"/>
                </a:lnTo>
                <a:lnTo>
                  <a:pt x="764" y="374"/>
                </a:lnTo>
                <a:lnTo>
                  <a:pt x="753" y="380"/>
                </a:lnTo>
                <a:lnTo>
                  <a:pt x="755" y="395"/>
                </a:lnTo>
                <a:lnTo>
                  <a:pt x="743" y="403"/>
                </a:lnTo>
                <a:lnTo>
                  <a:pt x="749" y="417"/>
                </a:lnTo>
                <a:lnTo>
                  <a:pt x="758" y="424"/>
                </a:lnTo>
                <a:lnTo>
                  <a:pt x="772" y="428"/>
                </a:lnTo>
                <a:lnTo>
                  <a:pt x="778" y="442"/>
                </a:lnTo>
                <a:lnTo>
                  <a:pt x="778" y="455"/>
                </a:lnTo>
                <a:lnTo>
                  <a:pt x="790" y="463"/>
                </a:lnTo>
                <a:lnTo>
                  <a:pt x="790" y="477"/>
                </a:lnTo>
                <a:lnTo>
                  <a:pt x="803" y="481"/>
                </a:lnTo>
                <a:lnTo>
                  <a:pt x="811" y="492"/>
                </a:lnTo>
                <a:lnTo>
                  <a:pt x="813" y="506"/>
                </a:lnTo>
                <a:lnTo>
                  <a:pt x="830" y="541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3936960"/>
            <a:ext cx="338400" cy="214200"/>
          </a:xfrm>
          <a:custGeom>
            <a:avLst/>
            <a:gdLst/>
            <a:ahLst/>
            <a:rect l="l" t="t" r="r" b="b"/>
            <a:pathLst>
              <a:path w="286" h="221">
                <a:moveTo>
                  <a:pt x="284" y="190"/>
                </a:moveTo>
                <a:lnTo>
                  <a:pt x="251" y="196"/>
                </a:lnTo>
                <a:lnTo>
                  <a:pt x="210" y="212"/>
                </a:lnTo>
                <a:lnTo>
                  <a:pt x="185" y="217"/>
                </a:lnTo>
                <a:lnTo>
                  <a:pt x="159" y="217"/>
                </a:lnTo>
                <a:lnTo>
                  <a:pt x="130" y="221"/>
                </a:lnTo>
                <a:lnTo>
                  <a:pt x="97" y="217"/>
                </a:lnTo>
                <a:lnTo>
                  <a:pt x="74" y="217"/>
                </a:lnTo>
                <a:lnTo>
                  <a:pt x="51" y="214"/>
                </a:lnTo>
                <a:lnTo>
                  <a:pt x="22" y="210"/>
                </a:lnTo>
                <a:lnTo>
                  <a:pt x="0" y="204"/>
                </a:lnTo>
                <a:lnTo>
                  <a:pt x="0" y="198"/>
                </a:lnTo>
                <a:lnTo>
                  <a:pt x="18" y="184"/>
                </a:lnTo>
                <a:lnTo>
                  <a:pt x="22" y="177"/>
                </a:lnTo>
                <a:lnTo>
                  <a:pt x="22" y="169"/>
                </a:lnTo>
                <a:lnTo>
                  <a:pt x="26" y="167"/>
                </a:lnTo>
                <a:lnTo>
                  <a:pt x="28" y="153"/>
                </a:lnTo>
                <a:lnTo>
                  <a:pt x="28" y="134"/>
                </a:lnTo>
                <a:lnTo>
                  <a:pt x="33" y="122"/>
                </a:lnTo>
                <a:lnTo>
                  <a:pt x="47" y="122"/>
                </a:lnTo>
                <a:lnTo>
                  <a:pt x="70" y="119"/>
                </a:lnTo>
                <a:lnTo>
                  <a:pt x="82" y="107"/>
                </a:lnTo>
                <a:lnTo>
                  <a:pt x="92" y="97"/>
                </a:lnTo>
                <a:lnTo>
                  <a:pt x="99" y="82"/>
                </a:lnTo>
                <a:lnTo>
                  <a:pt x="113" y="55"/>
                </a:lnTo>
                <a:lnTo>
                  <a:pt x="117" y="37"/>
                </a:lnTo>
                <a:lnTo>
                  <a:pt x="119" y="25"/>
                </a:lnTo>
                <a:lnTo>
                  <a:pt x="119" y="10"/>
                </a:lnTo>
                <a:lnTo>
                  <a:pt x="121" y="0"/>
                </a:lnTo>
                <a:lnTo>
                  <a:pt x="123" y="24"/>
                </a:lnTo>
                <a:lnTo>
                  <a:pt x="117" y="47"/>
                </a:lnTo>
                <a:lnTo>
                  <a:pt x="113" y="62"/>
                </a:lnTo>
                <a:lnTo>
                  <a:pt x="105" y="78"/>
                </a:lnTo>
                <a:lnTo>
                  <a:pt x="97" y="93"/>
                </a:lnTo>
                <a:lnTo>
                  <a:pt x="86" y="107"/>
                </a:lnTo>
                <a:lnTo>
                  <a:pt x="94" y="120"/>
                </a:lnTo>
                <a:lnTo>
                  <a:pt x="103" y="117"/>
                </a:lnTo>
                <a:lnTo>
                  <a:pt x="117" y="124"/>
                </a:lnTo>
                <a:lnTo>
                  <a:pt x="136" y="122"/>
                </a:lnTo>
                <a:lnTo>
                  <a:pt x="138" y="107"/>
                </a:lnTo>
                <a:lnTo>
                  <a:pt x="136" y="82"/>
                </a:lnTo>
                <a:lnTo>
                  <a:pt x="138" y="76"/>
                </a:lnTo>
                <a:lnTo>
                  <a:pt x="142" y="76"/>
                </a:lnTo>
                <a:lnTo>
                  <a:pt x="154" y="74"/>
                </a:lnTo>
                <a:lnTo>
                  <a:pt x="163" y="82"/>
                </a:lnTo>
                <a:lnTo>
                  <a:pt x="177" y="84"/>
                </a:lnTo>
                <a:lnTo>
                  <a:pt x="189" y="93"/>
                </a:lnTo>
                <a:lnTo>
                  <a:pt x="200" y="95"/>
                </a:lnTo>
                <a:lnTo>
                  <a:pt x="214" y="95"/>
                </a:lnTo>
                <a:lnTo>
                  <a:pt x="227" y="97"/>
                </a:lnTo>
                <a:lnTo>
                  <a:pt x="239" y="95"/>
                </a:lnTo>
                <a:lnTo>
                  <a:pt x="253" y="91"/>
                </a:lnTo>
                <a:lnTo>
                  <a:pt x="264" y="97"/>
                </a:lnTo>
                <a:lnTo>
                  <a:pt x="280" y="120"/>
                </a:lnTo>
                <a:lnTo>
                  <a:pt x="286" y="132"/>
                </a:lnTo>
                <a:lnTo>
                  <a:pt x="284" y="146"/>
                </a:lnTo>
                <a:lnTo>
                  <a:pt x="280" y="159"/>
                </a:lnTo>
                <a:lnTo>
                  <a:pt x="280" y="171"/>
                </a:lnTo>
                <a:lnTo>
                  <a:pt x="284" y="184"/>
                </a:lnTo>
                <a:lnTo>
                  <a:pt x="284" y="19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65720" y="4962600"/>
            <a:ext cx="474840" cy="433440"/>
          </a:xfrm>
          <a:custGeom>
            <a:avLst/>
            <a:gdLst/>
            <a:ahLst/>
            <a:rect l="l" t="t" r="r" b="b"/>
            <a:pathLst>
              <a:path w="398" h="443">
                <a:moveTo>
                  <a:pt x="256" y="443"/>
                </a:moveTo>
                <a:lnTo>
                  <a:pt x="250" y="437"/>
                </a:lnTo>
                <a:lnTo>
                  <a:pt x="235" y="423"/>
                </a:lnTo>
                <a:lnTo>
                  <a:pt x="217" y="429"/>
                </a:lnTo>
                <a:lnTo>
                  <a:pt x="215" y="417"/>
                </a:lnTo>
                <a:lnTo>
                  <a:pt x="211" y="392"/>
                </a:lnTo>
                <a:lnTo>
                  <a:pt x="204" y="371"/>
                </a:lnTo>
                <a:lnTo>
                  <a:pt x="194" y="347"/>
                </a:lnTo>
                <a:lnTo>
                  <a:pt x="194" y="313"/>
                </a:lnTo>
                <a:lnTo>
                  <a:pt x="186" y="278"/>
                </a:lnTo>
                <a:lnTo>
                  <a:pt x="165" y="223"/>
                </a:lnTo>
                <a:lnTo>
                  <a:pt x="138" y="188"/>
                </a:lnTo>
                <a:lnTo>
                  <a:pt x="103" y="154"/>
                </a:lnTo>
                <a:lnTo>
                  <a:pt x="74" y="117"/>
                </a:lnTo>
                <a:lnTo>
                  <a:pt x="62" y="88"/>
                </a:lnTo>
                <a:lnTo>
                  <a:pt x="43" y="64"/>
                </a:lnTo>
                <a:lnTo>
                  <a:pt x="14" y="43"/>
                </a:lnTo>
                <a:lnTo>
                  <a:pt x="0" y="37"/>
                </a:lnTo>
                <a:lnTo>
                  <a:pt x="0" y="35"/>
                </a:lnTo>
                <a:lnTo>
                  <a:pt x="14" y="20"/>
                </a:lnTo>
                <a:lnTo>
                  <a:pt x="29" y="22"/>
                </a:lnTo>
                <a:lnTo>
                  <a:pt x="45" y="18"/>
                </a:lnTo>
                <a:lnTo>
                  <a:pt x="56" y="6"/>
                </a:lnTo>
                <a:lnTo>
                  <a:pt x="72" y="0"/>
                </a:lnTo>
                <a:lnTo>
                  <a:pt x="87" y="2"/>
                </a:lnTo>
                <a:lnTo>
                  <a:pt x="103" y="4"/>
                </a:lnTo>
                <a:lnTo>
                  <a:pt x="118" y="10"/>
                </a:lnTo>
                <a:lnTo>
                  <a:pt x="132" y="18"/>
                </a:lnTo>
                <a:lnTo>
                  <a:pt x="144" y="26"/>
                </a:lnTo>
                <a:lnTo>
                  <a:pt x="159" y="33"/>
                </a:lnTo>
                <a:lnTo>
                  <a:pt x="175" y="35"/>
                </a:lnTo>
                <a:lnTo>
                  <a:pt x="188" y="27"/>
                </a:lnTo>
                <a:lnTo>
                  <a:pt x="204" y="24"/>
                </a:lnTo>
                <a:lnTo>
                  <a:pt x="219" y="24"/>
                </a:lnTo>
                <a:lnTo>
                  <a:pt x="233" y="31"/>
                </a:lnTo>
                <a:lnTo>
                  <a:pt x="244" y="41"/>
                </a:lnTo>
                <a:lnTo>
                  <a:pt x="258" y="35"/>
                </a:lnTo>
                <a:lnTo>
                  <a:pt x="270" y="47"/>
                </a:lnTo>
                <a:lnTo>
                  <a:pt x="273" y="62"/>
                </a:lnTo>
                <a:lnTo>
                  <a:pt x="273" y="76"/>
                </a:lnTo>
                <a:lnTo>
                  <a:pt x="275" y="91"/>
                </a:lnTo>
                <a:lnTo>
                  <a:pt x="275" y="107"/>
                </a:lnTo>
                <a:lnTo>
                  <a:pt x="289" y="117"/>
                </a:lnTo>
                <a:lnTo>
                  <a:pt x="299" y="126"/>
                </a:lnTo>
                <a:lnTo>
                  <a:pt x="314" y="126"/>
                </a:lnTo>
                <a:lnTo>
                  <a:pt x="324" y="140"/>
                </a:lnTo>
                <a:lnTo>
                  <a:pt x="324" y="157"/>
                </a:lnTo>
                <a:lnTo>
                  <a:pt x="334" y="167"/>
                </a:lnTo>
                <a:lnTo>
                  <a:pt x="343" y="181"/>
                </a:lnTo>
                <a:lnTo>
                  <a:pt x="357" y="187"/>
                </a:lnTo>
                <a:lnTo>
                  <a:pt x="374" y="190"/>
                </a:lnTo>
                <a:lnTo>
                  <a:pt x="382" y="200"/>
                </a:lnTo>
                <a:lnTo>
                  <a:pt x="388" y="216"/>
                </a:lnTo>
                <a:lnTo>
                  <a:pt x="390" y="231"/>
                </a:lnTo>
                <a:lnTo>
                  <a:pt x="398" y="245"/>
                </a:lnTo>
                <a:lnTo>
                  <a:pt x="396" y="260"/>
                </a:lnTo>
                <a:lnTo>
                  <a:pt x="384" y="272"/>
                </a:lnTo>
                <a:lnTo>
                  <a:pt x="368" y="270"/>
                </a:lnTo>
                <a:lnTo>
                  <a:pt x="353" y="272"/>
                </a:lnTo>
                <a:lnTo>
                  <a:pt x="337" y="270"/>
                </a:lnTo>
                <a:lnTo>
                  <a:pt x="324" y="282"/>
                </a:lnTo>
                <a:lnTo>
                  <a:pt x="314" y="268"/>
                </a:lnTo>
                <a:lnTo>
                  <a:pt x="301" y="280"/>
                </a:lnTo>
                <a:lnTo>
                  <a:pt x="297" y="295"/>
                </a:lnTo>
                <a:lnTo>
                  <a:pt x="299" y="313"/>
                </a:lnTo>
                <a:lnTo>
                  <a:pt x="299" y="326"/>
                </a:lnTo>
                <a:lnTo>
                  <a:pt x="301" y="344"/>
                </a:lnTo>
                <a:lnTo>
                  <a:pt x="287" y="353"/>
                </a:lnTo>
                <a:lnTo>
                  <a:pt x="279" y="367"/>
                </a:lnTo>
                <a:lnTo>
                  <a:pt x="279" y="384"/>
                </a:lnTo>
                <a:lnTo>
                  <a:pt x="266" y="394"/>
                </a:lnTo>
                <a:lnTo>
                  <a:pt x="266" y="410"/>
                </a:lnTo>
                <a:lnTo>
                  <a:pt x="266" y="425"/>
                </a:lnTo>
                <a:lnTo>
                  <a:pt x="256" y="443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45160" y="1515960"/>
            <a:ext cx="2125800" cy="3741840"/>
          </a:xfrm>
          <a:custGeom>
            <a:avLst/>
            <a:gdLst/>
            <a:ahLst/>
            <a:rect l="l" t="t" r="r" b="b"/>
            <a:pathLst>
              <a:path w="1782" h="3842">
                <a:moveTo>
                  <a:pt x="896" y="2849"/>
                </a:moveTo>
                <a:lnTo>
                  <a:pt x="909" y="2843"/>
                </a:lnTo>
                <a:lnTo>
                  <a:pt x="921" y="2835"/>
                </a:lnTo>
                <a:lnTo>
                  <a:pt x="934" y="2828"/>
                </a:lnTo>
                <a:lnTo>
                  <a:pt x="948" y="2828"/>
                </a:lnTo>
                <a:lnTo>
                  <a:pt x="962" y="2826"/>
                </a:lnTo>
                <a:lnTo>
                  <a:pt x="973" y="2818"/>
                </a:lnTo>
                <a:lnTo>
                  <a:pt x="987" y="2812"/>
                </a:lnTo>
                <a:lnTo>
                  <a:pt x="1012" y="2824"/>
                </a:lnTo>
                <a:lnTo>
                  <a:pt x="1024" y="2833"/>
                </a:lnTo>
                <a:lnTo>
                  <a:pt x="1028" y="2847"/>
                </a:lnTo>
                <a:lnTo>
                  <a:pt x="1064" y="2868"/>
                </a:lnTo>
                <a:lnTo>
                  <a:pt x="1068" y="2884"/>
                </a:lnTo>
                <a:lnTo>
                  <a:pt x="1059" y="2895"/>
                </a:lnTo>
                <a:lnTo>
                  <a:pt x="1045" y="2901"/>
                </a:lnTo>
                <a:lnTo>
                  <a:pt x="1053" y="2911"/>
                </a:lnTo>
                <a:lnTo>
                  <a:pt x="1072" y="2950"/>
                </a:lnTo>
                <a:lnTo>
                  <a:pt x="1086" y="2954"/>
                </a:lnTo>
                <a:lnTo>
                  <a:pt x="1130" y="2956"/>
                </a:lnTo>
                <a:lnTo>
                  <a:pt x="1140" y="2946"/>
                </a:lnTo>
                <a:lnTo>
                  <a:pt x="1156" y="2942"/>
                </a:lnTo>
                <a:lnTo>
                  <a:pt x="1165" y="2954"/>
                </a:lnTo>
                <a:lnTo>
                  <a:pt x="1179" y="2959"/>
                </a:lnTo>
                <a:lnTo>
                  <a:pt x="1189" y="2969"/>
                </a:lnTo>
                <a:lnTo>
                  <a:pt x="1216" y="3012"/>
                </a:lnTo>
                <a:lnTo>
                  <a:pt x="1216" y="3027"/>
                </a:lnTo>
                <a:lnTo>
                  <a:pt x="1223" y="3039"/>
                </a:lnTo>
                <a:lnTo>
                  <a:pt x="1253" y="3049"/>
                </a:lnTo>
                <a:lnTo>
                  <a:pt x="1262" y="3037"/>
                </a:lnTo>
                <a:lnTo>
                  <a:pt x="1276" y="3031"/>
                </a:lnTo>
                <a:lnTo>
                  <a:pt x="1291" y="3029"/>
                </a:lnTo>
                <a:lnTo>
                  <a:pt x="1317" y="3043"/>
                </a:lnTo>
                <a:lnTo>
                  <a:pt x="1328" y="3033"/>
                </a:lnTo>
                <a:lnTo>
                  <a:pt x="1344" y="3037"/>
                </a:lnTo>
                <a:lnTo>
                  <a:pt x="1357" y="3027"/>
                </a:lnTo>
                <a:lnTo>
                  <a:pt x="1402" y="2989"/>
                </a:lnTo>
                <a:lnTo>
                  <a:pt x="1417" y="2987"/>
                </a:lnTo>
                <a:lnTo>
                  <a:pt x="1462" y="3029"/>
                </a:lnTo>
                <a:lnTo>
                  <a:pt x="1487" y="3043"/>
                </a:lnTo>
                <a:lnTo>
                  <a:pt x="1501" y="3037"/>
                </a:lnTo>
                <a:lnTo>
                  <a:pt x="1503" y="3023"/>
                </a:lnTo>
                <a:lnTo>
                  <a:pt x="1516" y="3018"/>
                </a:lnTo>
                <a:lnTo>
                  <a:pt x="1530" y="3027"/>
                </a:lnTo>
                <a:lnTo>
                  <a:pt x="1543" y="3023"/>
                </a:lnTo>
                <a:lnTo>
                  <a:pt x="1559" y="3025"/>
                </a:lnTo>
                <a:lnTo>
                  <a:pt x="1573" y="3031"/>
                </a:lnTo>
                <a:lnTo>
                  <a:pt x="1586" y="3027"/>
                </a:lnTo>
                <a:lnTo>
                  <a:pt x="1598" y="3022"/>
                </a:lnTo>
                <a:lnTo>
                  <a:pt x="1627" y="3029"/>
                </a:lnTo>
                <a:lnTo>
                  <a:pt x="1640" y="3023"/>
                </a:lnTo>
                <a:lnTo>
                  <a:pt x="1668" y="3033"/>
                </a:lnTo>
                <a:lnTo>
                  <a:pt x="1685" y="3031"/>
                </a:lnTo>
                <a:lnTo>
                  <a:pt x="1699" y="3025"/>
                </a:lnTo>
                <a:lnTo>
                  <a:pt x="1712" y="3029"/>
                </a:lnTo>
                <a:lnTo>
                  <a:pt x="1702" y="3041"/>
                </a:lnTo>
                <a:lnTo>
                  <a:pt x="1732" y="3076"/>
                </a:lnTo>
                <a:lnTo>
                  <a:pt x="1726" y="3107"/>
                </a:lnTo>
                <a:lnTo>
                  <a:pt x="1712" y="3115"/>
                </a:lnTo>
                <a:lnTo>
                  <a:pt x="1701" y="3122"/>
                </a:lnTo>
                <a:lnTo>
                  <a:pt x="1714" y="3132"/>
                </a:lnTo>
                <a:lnTo>
                  <a:pt x="1730" y="3130"/>
                </a:lnTo>
                <a:lnTo>
                  <a:pt x="1741" y="3138"/>
                </a:lnTo>
                <a:lnTo>
                  <a:pt x="1730" y="3148"/>
                </a:lnTo>
                <a:lnTo>
                  <a:pt x="1718" y="3155"/>
                </a:lnTo>
                <a:lnTo>
                  <a:pt x="1718" y="3184"/>
                </a:lnTo>
                <a:lnTo>
                  <a:pt x="1732" y="3194"/>
                </a:lnTo>
                <a:lnTo>
                  <a:pt x="1741" y="3204"/>
                </a:lnTo>
                <a:lnTo>
                  <a:pt x="1745" y="3219"/>
                </a:lnTo>
                <a:lnTo>
                  <a:pt x="1759" y="3223"/>
                </a:lnTo>
                <a:lnTo>
                  <a:pt x="1766" y="3301"/>
                </a:lnTo>
                <a:lnTo>
                  <a:pt x="1755" y="3310"/>
                </a:lnTo>
                <a:lnTo>
                  <a:pt x="1739" y="3310"/>
                </a:lnTo>
                <a:lnTo>
                  <a:pt x="1726" y="3314"/>
                </a:lnTo>
                <a:lnTo>
                  <a:pt x="1712" y="3322"/>
                </a:lnTo>
                <a:lnTo>
                  <a:pt x="1697" y="3318"/>
                </a:lnTo>
                <a:lnTo>
                  <a:pt x="1681" y="3318"/>
                </a:lnTo>
                <a:lnTo>
                  <a:pt x="1666" y="3361"/>
                </a:lnTo>
                <a:lnTo>
                  <a:pt x="1654" y="3371"/>
                </a:lnTo>
                <a:lnTo>
                  <a:pt x="1642" y="3382"/>
                </a:lnTo>
                <a:lnTo>
                  <a:pt x="1638" y="3413"/>
                </a:lnTo>
                <a:lnTo>
                  <a:pt x="1646" y="3427"/>
                </a:lnTo>
                <a:lnTo>
                  <a:pt x="1714" y="3390"/>
                </a:lnTo>
                <a:lnTo>
                  <a:pt x="1757" y="3402"/>
                </a:lnTo>
                <a:lnTo>
                  <a:pt x="1702" y="3437"/>
                </a:lnTo>
                <a:lnTo>
                  <a:pt x="1660" y="3504"/>
                </a:lnTo>
                <a:lnTo>
                  <a:pt x="1609" y="3524"/>
                </a:lnTo>
                <a:lnTo>
                  <a:pt x="1648" y="3551"/>
                </a:lnTo>
                <a:lnTo>
                  <a:pt x="1691" y="3563"/>
                </a:lnTo>
                <a:lnTo>
                  <a:pt x="1660" y="3642"/>
                </a:lnTo>
                <a:lnTo>
                  <a:pt x="1640" y="3731"/>
                </a:lnTo>
                <a:lnTo>
                  <a:pt x="1594" y="3733"/>
                </a:lnTo>
                <a:lnTo>
                  <a:pt x="1590" y="3735"/>
                </a:lnTo>
                <a:lnTo>
                  <a:pt x="1584" y="3747"/>
                </a:lnTo>
                <a:lnTo>
                  <a:pt x="1590" y="3758"/>
                </a:lnTo>
                <a:lnTo>
                  <a:pt x="1573" y="3772"/>
                </a:lnTo>
                <a:lnTo>
                  <a:pt x="1584" y="3791"/>
                </a:lnTo>
                <a:lnTo>
                  <a:pt x="1617" y="3780"/>
                </a:lnTo>
                <a:lnTo>
                  <a:pt x="1660" y="3821"/>
                </a:lnTo>
                <a:lnTo>
                  <a:pt x="1712" y="3830"/>
                </a:lnTo>
                <a:lnTo>
                  <a:pt x="1757" y="3842"/>
                </a:lnTo>
                <a:lnTo>
                  <a:pt x="1782" y="3840"/>
                </a:lnTo>
                <a:lnTo>
                  <a:pt x="1782" y="0"/>
                </a:lnTo>
                <a:lnTo>
                  <a:pt x="1249" y="0"/>
                </a:lnTo>
                <a:lnTo>
                  <a:pt x="1227" y="70"/>
                </a:lnTo>
                <a:lnTo>
                  <a:pt x="1179" y="147"/>
                </a:lnTo>
                <a:lnTo>
                  <a:pt x="1190" y="167"/>
                </a:lnTo>
                <a:lnTo>
                  <a:pt x="1152" y="204"/>
                </a:lnTo>
                <a:lnTo>
                  <a:pt x="1175" y="289"/>
                </a:lnTo>
                <a:lnTo>
                  <a:pt x="1148" y="334"/>
                </a:lnTo>
                <a:lnTo>
                  <a:pt x="1107" y="351"/>
                </a:lnTo>
                <a:lnTo>
                  <a:pt x="1076" y="351"/>
                </a:lnTo>
                <a:lnTo>
                  <a:pt x="1059" y="334"/>
                </a:lnTo>
                <a:lnTo>
                  <a:pt x="1028" y="322"/>
                </a:lnTo>
                <a:lnTo>
                  <a:pt x="991" y="295"/>
                </a:lnTo>
                <a:lnTo>
                  <a:pt x="1000" y="252"/>
                </a:lnTo>
                <a:lnTo>
                  <a:pt x="1059" y="202"/>
                </a:lnTo>
                <a:lnTo>
                  <a:pt x="1047" y="186"/>
                </a:lnTo>
                <a:lnTo>
                  <a:pt x="991" y="147"/>
                </a:lnTo>
                <a:lnTo>
                  <a:pt x="960" y="134"/>
                </a:lnTo>
                <a:lnTo>
                  <a:pt x="898" y="161"/>
                </a:lnTo>
                <a:lnTo>
                  <a:pt x="874" y="171"/>
                </a:lnTo>
                <a:lnTo>
                  <a:pt x="820" y="167"/>
                </a:lnTo>
                <a:lnTo>
                  <a:pt x="832" y="180"/>
                </a:lnTo>
                <a:lnTo>
                  <a:pt x="896" y="206"/>
                </a:lnTo>
                <a:lnTo>
                  <a:pt x="933" y="289"/>
                </a:lnTo>
                <a:lnTo>
                  <a:pt x="933" y="332"/>
                </a:lnTo>
                <a:lnTo>
                  <a:pt x="944" y="368"/>
                </a:lnTo>
                <a:lnTo>
                  <a:pt x="983" y="366"/>
                </a:lnTo>
                <a:lnTo>
                  <a:pt x="1026" y="446"/>
                </a:lnTo>
                <a:lnTo>
                  <a:pt x="1018" y="489"/>
                </a:lnTo>
                <a:lnTo>
                  <a:pt x="1043" y="526"/>
                </a:lnTo>
                <a:lnTo>
                  <a:pt x="1039" y="539"/>
                </a:lnTo>
                <a:lnTo>
                  <a:pt x="1012" y="508"/>
                </a:lnTo>
                <a:lnTo>
                  <a:pt x="993" y="531"/>
                </a:lnTo>
                <a:lnTo>
                  <a:pt x="987" y="504"/>
                </a:lnTo>
                <a:lnTo>
                  <a:pt x="956" y="496"/>
                </a:lnTo>
                <a:lnTo>
                  <a:pt x="903" y="500"/>
                </a:lnTo>
                <a:lnTo>
                  <a:pt x="894" y="516"/>
                </a:lnTo>
                <a:lnTo>
                  <a:pt x="874" y="580"/>
                </a:lnTo>
                <a:lnTo>
                  <a:pt x="836" y="619"/>
                </a:lnTo>
                <a:lnTo>
                  <a:pt x="832" y="648"/>
                </a:lnTo>
                <a:lnTo>
                  <a:pt x="801" y="690"/>
                </a:lnTo>
                <a:lnTo>
                  <a:pt x="822" y="729"/>
                </a:lnTo>
                <a:lnTo>
                  <a:pt x="849" y="756"/>
                </a:lnTo>
                <a:lnTo>
                  <a:pt x="913" y="811"/>
                </a:lnTo>
                <a:lnTo>
                  <a:pt x="903" y="828"/>
                </a:lnTo>
                <a:lnTo>
                  <a:pt x="847" y="847"/>
                </a:lnTo>
                <a:lnTo>
                  <a:pt x="756" y="836"/>
                </a:lnTo>
                <a:lnTo>
                  <a:pt x="713" y="840"/>
                </a:lnTo>
                <a:lnTo>
                  <a:pt x="710" y="826"/>
                </a:lnTo>
                <a:lnTo>
                  <a:pt x="684" y="818"/>
                </a:lnTo>
                <a:lnTo>
                  <a:pt x="642" y="814"/>
                </a:lnTo>
                <a:lnTo>
                  <a:pt x="647" y="834"/>
                </a:lnTo>
                <a:lnTo>
                  <a:pt x="642" y="861"/>
                </a:lnTo>
                <a:lnTo>
                  <a:pt x="632" y="873"/>
                </a:lnTo>
                <a:lnTo>
                  <a:pt x="710" y="929"/>
                </a:lnTo>
                <a:lnTo>
                  <a:pt x="748" y="904"/>
                </a:lnTo>
                <a:lnTo>
                  <a:pt x="789" y="975"/>
                </a:lnTo>
                <a:lnTo>
                  <a:pt x="768" y="975"/>
                </a:lnTo>
                <a:lnTo>
                  <a:pt x="752" y="1006"/>
                </a:lnTo>
                <a:lnTo>
                  <a:pt x="659" y="999"/>
                </a:lnTo>
                <a:lnTo>
                  <a:pt x="607" y="964"/>
                </a:lnTo>
                <a:lnTo>
                  <a:pt x="591" y="975"/>
                </a:lnTo>
                <a:lnTo>
                  <a:pt x="564" y="972"/>
                </a:lnTo>
                <a:lnTo>
                  <a:pt x="547" y="956"/>
                </a:lnTo>
                <a:lnTo>
                  <a:pt x="527" y="900"/>
                </a:lnTo>
                <a:lnTo>
                  <a:pt x="477" y="842"/>
                </a:lnTo>
                <a:lnTo>
                  <a:pt x="479" y="830"/>
                </a:lnTo>
                <a:lnTo>
                  <a:pt x="494" y="822"/>
                </a:lnTo>
                <a:lnTo>
                  <a:pt x="479" y="758"/>
                </a:lnTo>
                <a:lnTo>
                  <a:pt x="463" y="735"/>
                </a:lnTo>
                <a:lnTo>
                  <a:pt x="417" y="712"/>
                </a:lnTo>
                <a:lnTo>
                  <a:pt x="386" y="710"/>
                </a:lnTo>
                <a:lnTo>
                  <a:pt x="376" y="688"/>
                </a:lnTo>
                <a:lnTo>
                  <a:pt x="360" y="688"/>
                </a:lnTo>
                <a:lnTo>
                  <a:pt x="324" y="665"/>
                </a:lnTo>
                <a:lnTo>
                  <a:pt x="260" y="619"/>
                </a:lnTo>
                <a:lnTo>
                  <a:pt x="269" y="599"/>
                </a:lnTo>
                <a:lnTo>
                  <a:pt x="337" y="636"/>
                </a:lnTo>
                <a:lnTo>
                  <a:pt x="415" y="642"/>
                </a:lnTo>
                <a:lnTo>
                  <a:pt x="486" y="661"/>
                </a:lnTo>
                <a:lnTo>
                  <a:pt x="545" y="655"/>
                </a:lnTo>
                <a:lnTo>
                  <a:pt x="611" y="648"/>
                </a:lnTo>
                <a:lnTo>
                  <a:pt x="684" y="650"/>
                </a:lnTo>
                <a:lnTo>
                  <a:pt x="750" y="613"/>
                </a:lnTo>
                <a:lnTo>
                  <a:pt x="801" y="553"/>
                </a:lnTo>
                <a:lnTo>
                  <a:pt x="822" y="489"/>
                </a:lnTo>
                <a:lnTo>
                  <a:pt x="793" y="417"/>
                </a:lnTo>
                <a:lnTo>
                  <a:pt x="750" y="365"/>
                </a:lnTo>
                <a:lnTo>
                  <a:pt x="680" y="335"/>
                </a:lnTo>
                <a:lnTo>
                  <a:pt x="611" y="320"/>
                </a:lnTo>
                <a:lnTo>
                  <a:pt x="582" y="326"/>
                </a:lnTo>
                <a:lnTo>
                  <a:pt x="537" y="289"/>
                </a:lnTo>
                <a:lnTo>
                  <a:pt x="467" y="260"/>
                </a:lnTo>
                <a:lnTo>
                  <a:pt x="391" y="242"/>
                </a:lnTo>
                <a:lnTo>
                  <a:pt x="357" y="244"/>
                </a:lnTo>
                <a:lnTo>
                  <a:pt x="360" y="250"/>
                </a:lnTo>
                <a:lnTo>
                  <a:pt x="358" y="254"/>
                </a:lnTo>
                <a:lnTo>
                  <a:pt x="353" y="256"/>
                </a:lnTo>
                <a:lnTo>
                  <a:pt x="343" y="254"/>
                </a:lnTo>
                <a:lnTo>
                  <a:pt x="333" y="254"/>
                </a:lnTo>
                <a:lnTo>
                  <a:pt x="322" y="254"/>
                </a:lnTo>
                <a:lnTo>
                  <a:pt x="308" y="254"/>
                </a:lnTo>
                <a:lnTo>
                  <a:pt x="296" y="256"/>
                </a:lnTo>
                <a:lnTo>
                  <a:pt x="279" y="254"/>
                </a:lnTo>
                <a:lnTo>
                  <a:pt x="277" y="262"/>
                </a:lnTo>
                <a:lnTo>
                  <a:pt x="269" y="264"/>
                </a:lnTo>
                <a:lnTo>
                  <a:pt x="262" y="268"/>
                </a:lnTo>
                <a:lnTo>
                  <a:pt x="256" y="275"/>
                </a:lnTo>
                <a:lnTo>
                  <a:pt x="254" y="271"/>
                </a:lnTo>
                <a:lnTo>
                  <a:pt x="250" y="268"/>
                </a:lnTo>
                <a:lnTo>
                  <a:pt x="248" y="268"/>
                </a:lnTo>
                <a:lnTo>
                  <a:pt x="242" y="264"/>
                </a:lnTo>
                <a:lnTo>
                  <a:pt x="242" y="252"/>
                </a:lnTo>
                <a:lnTo>
                  <a:pt x="238" y="250"/>
                </a:lnTo>
                <a:lnTo>
                  <a:pt x="232" y="260"/>
                </a:lnTo>
                <a:lnTo>
                  <a:pt x="225" y="270"/>
                </a:lnTo>
                <a:lnTo>
                  <a:pt x="223" y="250"/>
                </a:lnTo>
                <a:lnTo>
                  <a:pt x="217" y="254"/>
                </a:lnTo>
                <a:lnTo>
                  <a:pt x="215" y="260"/>
                </a:lnTo>
                <a:lnTo>
                  <a:pt x="213" y="248"/>
                </a:lnTo>
                <a:lnTo>
                  <a:pt x="209" y="248"/>
                </a:lnTo>
                <a:lnTo>
                  <a:pt x="203" y="250"/>
                </a:lnTo>
                <a:lnTo>
                  <a:pt x="198" y="254"/>
                </a:lnTo>
                <a:lnTo>
                  <a:pt x="192" y="258"/>
                </a:lnTo>
                <a:lnTo>
                  <a:pt x="190" y="260"/>
                </a:lnTo>
                <a:lnTo>
                  <a:pt x="190" y="252"/>
                </a:lnTo>
                <a:lnTo>
                  <a:pt x="188" y="244"/>
                </a:lnTo>
                <a:lnTo>
                  <a:pt x="184" y="240"/>
                </a:lnTo>
                <a:lnTo>
                  <a:pt x="167" y="244"/>
                </a:lnTo>
                <a:lnTo>
                  <a:pt x="167" y="233"/>
                </a:lnTo>
                <a:lnTo>
                  <a:pt x="167" y="215"/>
                </a:lnTo>
                <a:lnTo>
                  <a:pt x="172" y="227"/>
                </a:lnTo>
                <a:lnTo>
                  <a:pt x="180" y="231"/>
                </a:lnTo>
                <a:lnTo>
                  <a:pt x="186" y="227"/>
                </a:lnTo>
                <a:lnTo>
                  <a:pt x="194" y="233"/>
                </a:lnTo>
                <a:lnTo>
                  <a:pt x="205" y="231"/>
                </a:lnTo>
                <a:lnTo>
                  <a:pt x="213" y="231"/>
                </a:lnTo>
                <a:lnTo>
                  <a:pt x="219" y="213"/>
                </a:lnTo>
                <a:lnTo>
                  <a:pt x="217" y="204"/>
                </a:lnTo>
                <a:lnTo>
                  <a:pt x="213" y="202"/>
                </a:lnTo>
                <a:lnTo>
                  <a:pt x="207" y="204"/>
                </a:lnTo>
                <a:lnTo>
                  <a:pt x="205" y="202"/>
                </a:lnTo>
                <a:lnTo>
                  <a:pt x="198" y="202"/>
                </a:lnTo>
                <a:lnTo>
                  <a:pt x="190" y="206"/>
                </a:lnTo>
                <a:lnTo>
                  <a:pt x="182" y="200"/>
                </a:lnTo>
                <a:lnTo>
                  <a:pt x="180" y="196"/>
                </a:lnTo>
                <a:lnTo>
                  <a:pt x="163" y="192"/>
                </a:lnTo>
                <a:lnTo>
                  <a:pt x="151" y="192"/>
                </a:lnTo>
                <a:lnTo>
                  <a:pt x="145" y="188"/>
                </a:lnTo>
                <a:lnTo>
                  <a:pt x="153" y="196"/>
                </a:lnTo>
                <a:lnTo>
                  <a:pt x="155" y="211"/>
                </a:lnTo>
                <a:lnTo>
                  <a:pt x="147" y="215"/>
                </a:lnTo>
                <a:lnTo>
                  <a:pt x="141" y="209"/>
                </a:lnTo>
                <a:lnTo>
                  <a:pt x="141" y="217"/>
                </a:lnTo>
                <a:lnTo>
                  <a:pt x="145" y="227"/>
                </a:lnTo>
                <a:lnTo>
                  <a:pt x="143" y="235"/>
                </a:lnTo>
                <a:lnTo>
                  <a:pt x="134" y="238"/>
                </a:lnTo>
                <a:lnTo>
                  <a:pt x="128" y="233"/>
                </a:lnTo>
                <a:lnTo>
                  <a:pt x="120" y="231"/>
                </a:lnTo>
                <a:lnTo>
                  <a:pt x="110" y="229"/>
                </a:lnTo>
                <a:lnTo>
                  <a:pt x="99" y="225"/>
                </a:lnTo>
                <a:lnTo>
                  <a:pt x="97" y="227"/>
                </a:lnTo>
                <a:lnTo>
                  <a:pt x="101" y="229"/>
                </a:lnTo>
                <a:lnTo>
                  <a:pt x="97" y="262"/>
                </a:lnTo>
                <a:lnTo>
                  <a:pt x="79" y="262"/>
                </a:lnTo>
                <a:lnTo>
                  <a:pt x="64" y="264"/>
                </a:lnTo>
                <a:lnTo>
                  <a:pt x="58" y="297"/>
                </a:lnTo>
                <a:lnTo>
                  <a:pt x="31" y="322"/>
                </a:lnTo>
                <a:lnTo>
                  <a:pt x="19" y="355"/>
                </a:lnTo>
                <a:lnTo>
                  <a:pt x="0" y="378"/>
                </a:lnTo>
                <a:lnTo>
                  <a:pt x="0" y="427"/>
                </a:lnTo>
                <a:lnTo>
                  <a:pt x="17" y="481"/>
                </a:lnTo>
                <a:lnTo>
                  <a:pt x="50" y="491"/>
                </a:lnTo>
                <a:lnTo>
                  <a:pt x="81" y="514"/>
                </a:lnTo>
                <a:lnTo>
                  <a:pt x="112" y="545"/>
                </a:lnTo>
                <a:lnTo>
                  <a:pt x="108" y="611"/>
                </a:lnTo>
                <a:lnTo>
                  <a:pt x="99" y="661"/>
                </a:lnTo>
                <a:lnTo>
                  <a:pt x="116" y="719"/>
                </a:lnTo>
                <a:lnTo>
                  <a:pt x="135" y="756"/>
                </a:lnTo>
                <a:lnTo>
                  <a:pt x="159" y="782"/>
                </a:lnTo>
                <a:lnTo>
                  <a:pt x="180" y="818"/>
                </a:lnTo>
                <a:lnTo>
                  <a:pt x="178" y="871"/>
                </a:lnTo>
                <a:lnTo>
                  <a:pt x="180" y="917"/>
                </a:lnTo>
                <a:lnTo>
                  <a:pt x="190" y="964"/>
                </a:lnTo>
                <a:lnTo>
                  <a:pt x="215" y="989"/>
                </a:lnTo>
                <a:lnTo>
                  <a:pt x="232" y="1032"/>
                </a:lnTo>
                <a:lnTo>
                  <a:pt x="269" y="1063"/>
                </a:lnTo>
                <a:lnTo>
                  <a:pt x="273" y="1109"/>
                </a:lnTo>
                <a:lnTo>
                  <a:pt x="263" y="1150"/>
                </a:lnTo>
                <a:lnTo>
                  <a:pt x="291" y="1185"/>
                </a:lnTo>
                <a:lnTo>
                  <a:pt x="322" y="1198"/>
                </a:lnTo>
                <a:lnTo>
                  <a:pt x="345" y="1226"/>
                </a:lnTo>
                <a:lnTo>
                  <a:pt x="366" y="1235"/>
                </a:lnTo>
                <a:lnTo>
                  <a:pt x="378" y="1284"/>
                </a:lnTo>
                <a:lnTo>
                  <a:pt x="368" y="1338"/>
                </a:lnTo>
                <a:lnTo>
                  <a:pt x="341" y="1400"/>
                </a:lnTo>
                <a:lnTo>
                  <a:pt x="327" y="1435"/>
                </a:lnTo>
                <a:lnTo>
                  <a:pt x="308" y="1468"/>
                </a:lnTo>
                <a:lnTo>
                  <a:pt x="289" y="1509"/>
                </a:lnTo>
                <a:lnTo>
                  <a:pt x="269" y="1540"/>
                </a:lnTo>
                <a:lnTo>
                  <a:pt x="217" y="1619"/>
                </a:lnTo>
                <a:lnTo>
                  <a:pt x="196" y="1650"/>
                </a:lnTo>
                <a:lnTo>
                  <a:pt x="174" y="1666"/>
                </a:lnTo>
                <a:lnTo>
                  <a:pt x="184" y="1668"/>
                </a:lnTo>
                <a:lnTo>
                  <a:pt x="209" y="1666"/>
                </a:lnTo>
                <a:lnTo>
                  <a:pt x="221" y="1646"/>
                </a:lnTo>
                <a:lnTo>
                  <a:pt x="242" y="1629"/>
                </a:lnTo>
                <a:lnTo>
                  <a:pt x="246" y="1637"/>
                </a:lnTo>
                <a:lnTo>
                  <a:pt x="248" y="1670"/>
                </a:lnTo>
                <a:lnTo>
                  <a:pt x="240" y="1660"/>
                </a:lnTo>
                <a:lnTo>
                  <a:pt x="236" y="1658"/>
                </a:lnTo>
                <a:lnTo>
                  <a:pt x="238" y="1679"/>
                </a:lnTo>
                <a:lnTo>
                  <a:pt x="248" y="1689"/>
                </a:lnTo>
                <a:lnTo>
                  <a:pt x="256" y="1689"/>
                </a:lnTo>
                <a:lnTo>
                  <a:pt x="293" y="1709"/>
                </a:lnTo>
                <a:lnTo>
                  <a:pt x="333" y="1693"/>
                </a:lnTo>
                <a:lnTo>
                  <a:pt x="347" y="1695"/>
                </a:lnTo>
                <a:lnTo>
                  <a:pt x="364" y="1701"/>
                </a:lnTo>
                <a:lnTo>
                  <a:pt x="366" y="1714"/>
                </a:lnTo>
                <a:lnTo>
                  <a:pt x="386" y="1716"/>
                </a:lnTo>
                <a:lnTo>
                  <a:pt x="390" y="1724"/>
                </a:lnTo>
                <a:lnTo>
                  <a:pt x="382" y="1732"/>
                </a:lnTo>
                <a:lnTo>
                  <a:pt x="370" y="1734"/>
                </a:lnTo>
                <a:lnTo>
                  <a:pt x="345" y="1734"/>
                </a:lnTo>
                <a:lnTo>
                  <a:pt x="329" y="1732"/>
                </a:lnTo>
                <a:lnTo>
                  <a:pt x="304" y="1734"/>
                </a:lnTo>
                <a:lnTo>
                  <a:pt x="296" y="1755"/>
                </a:lnTo>
                <a:lnTo>
                  <a:pt x="279" y="1773"/>
                </a:lnTo>
                <a:lnTo>
                  <a:pt x="265" y="1767"/>
                </a:lnTo>
                <a:lnTo>
                  <a:pt x="258" y="1773"/>
                </a:lnTo>
                <a:lnTo>
                  <a:pt x="256" y="1788"/>
                </a:lnTo>
                <a:lnTo>
                  <a:pt x="248" y="1794"/>
                </a:lnTo>
                <a:lnTo>
                  <a:pt x="238" y="1786"/>
                </a:lnTo>
                <a:lnTo>
                  <a:pt x="227" y="1784"/>
                </a:lnTo>
                <a:lnTo>
                  <a:pt x="225" y="1798"/>
                </a:lnTo>
                <a:lnTo>
                  <a:pt x="232" y="1819"/>
                </a:lnTo>
                <a:lnTo>
                  <a:pt x="231" y="1829"/>
                </a:lnTo>
                <a:lnTo>
                  <a:pt x="236" y="1829"/>
                </a:lnTo>
                <a:lnTo>
                  <a:pt x="252" y="1840"/>
                </a:lnTo>
                <a:lnTo>
                  <a:pt x="262" y="1850"/>
                </a:lnTo>
                <a:lnTo>
                  <a:pt x="265" y="1871"/>
                </a:lnTo>
                <a:lnTo>
                  <a:pt x="244" y="1914"/>
                </a:lnTo>
                <a:lnTo>
                  <a:pt x="234" y="1922"/>
                </a:lnTo>
                <a:lnTo>
                  <a:pt x="192" y="1941"/>
                </a:lnTo>
                <a:lnTo>
                  <a:pt x="184" y="1951"/>
                </a:lnTo>
                <a:lnTo>
                  <a:pt x="184" y="1963"/>
                </a:lnTo>
                <a:lnTo>
                  <a:pt x="205" y="1992"/>
                </a:lnTo>
                <a:lnTo>
                  <a:pt x="217" y="2027"/>
                </a:lnTo>
                <a:lnTo>
                  <a:pt x="231" y="2029"/>
                </a:lnTo>
                <a:lnTo>
                  <a:pt x="238" y="2050"/>
                </a:lnTo>
                <a:lnTo>
                  <a:pt x="265" y="2075"/>
                </a:lnTo>
                <a:lnTo>
                  <a:pt x="267" y="2087"/>
                </a:lnTo>
                <a:lnTo>
                  <a:pt x="273" y="2096"/>
                </a:lnTo>
                <a:lnTo>
                  <a:pt x="262" y="2102"/>
                </a:lnTo>
                <a:lnTo>
                  <a:pt x="254" y="2126"/>
                </a:lnTo>
                <a:lnTo>
                  <a:pt x="250" y="2137"/>
                </a:lnTo>
                <a:lnTo>
                  <a:pt x="254" y="2149"/>
                </a:lnTo>
                <a:lnTo>
                  <a:pt x="265" y="2157"/>
                </a:lnTo>
                <a:lnTo>
                  <a:pt x="273" y="2166"/>
                </a:lnTo>
                <a:lnTo>
                  <a:pt x="285" y="2170"/>
                </a:lnTo>
                <a:lnTo>
                  <a:pt x="293" y="2182"/>
                </a:lnTo>
                <a:lnTo>
                  <a:pt x="296" y="2191"/>
                </a:lnTo>
                <a:lnTo>
                  <a:pt x="296" y="2217"/>
                </a:lnTo>
                <a:lnTo>
                  <a:pt x="293" y="2242"/>
                </a:lnTo>
                <a:lnTo>
                  <a:pt x="306" y="2244"/>
                </a:lnTo>
                <a:lnTo>
                  <a:pt x="318" y="2250"/>
                </a:lnTo>
                <a:lnTo>
                  <a:pt x="320" y="2261"/>
                </a:lnTo>
                <a:lnTo>
                  <a:pt x="345" y="2290"/>
                </a:lnTo>
                <a:lnTo>
                  <a:pt x="351" y="2304"/>
                </a:lnTo>
                <a:lnTo>
                  <a:pt x="358" y="2312"/>
                </a:lnTo>
                <a:lnTo>
                  <a:pt x="366" y="2349"/>
                </a:lnTo>
                <a:lnTo>
                  <a:pt x="370" y="2362"/>
                </a:lnTo>
                <a:lnTo>
                  <a:pt x="395" y="2352"/>
                </a:lnTo>
                <a:lnTo>
                  <a:pt x="407" y="2356"/>
                </a:lnTo>
                <a:lnTo>
                  <a:pt x="417" y="2364"/>
                </a:lnTo>
                <a:lnTo>
                  <a:pt x="454" y="2356"/>
                </a:lnTo>
                <a:lnTo>
                  <a:pt x="467" y="2362"/>
                </a:lnTo>
                <a:lnTo>
                  <a:pt x="475" y="2366"/>
                </a:lnTo>
                <a:lnTo>
                  <a:pt x="479" y="2397"/>
                </a:lnTo>
                <a:lnTo>
                  <a:pt x="488" y="2391"/>
                </a:lnTo>
                <a:lnTo>
                  <a:pt x="498" y="2382"/>
                </a:lnTo>
                <a:lnTo>
                  <a:pt x="510" y="2376"/>
                </a:lnTo>
                <a:lnTo>
                  <a:pt x="518" y="2366"/>
                </a:lnTo>
                <a:lnTo>
                  <a:pt x="529" y="2362"/>
                </a:lnTo>
                <a:lnTo>
                  <a:pt x="541" y="2358"/>
                </a:lnTo>
                <a:lnTo>
                  <a:pt x="554" y="2358"/>
                </a:lnTo>
                <a:lnTo>
                  <a:pt x="566" y="2362"/>
                </a:lnTo>
                <a:lnTo>
                  <a:pt x="597" y="2385"/>
                </a:lnTo>
                <a:lnTo>
                  <a:pt x="611" y="2385"/>
                </a:lnTo>
                <a:lnTo>
                  <a:pt x="616" y="2403"/>
                </a:lnTo>
                <a:lnTo>
                  <a:pt x="614" y="2416"/>
                </a:lnTo>
                <a:lnTo>
                  <a:pt x="618" y="2428"/>
                </a:lnTo>
                <a:lnTo>
                  <a:pt x="628" y="2438"/>
                </a:lnTo>
                <a:lnTo>
                  <a:pt x="634" y="2447"/>
                </a:lnTo>
                <a:lnTo>
                  <a:pt x="636" y="2475"/>
                </a:lnTo>
                <a:lnTo>
                  <a:pt x="628" y="2484"/>
                </a:lnTo>
                <a:lnTo>
                  <a:pt x="628" y="2498"/>
                </a:lnTo>
                <a:lnTo>
                  <a:pt x="634" y="2510"/>
                </a:lnTo>
                <a:lnTo>
                  <a:pt x="655" y="2523"/>
                </a:lnTo>
                <a:lnTo>
                  <a:pt x="661" y="2537"/>
                </a:lnTo>
                <a:lnTo>
                  <a:pt x="696" y="2577"/>
                </a:lnTo>
                <a:lnTo>
                  <a:pt x="704" y="2587"/>
                </a:lnTo>
                <a:lnTo>
                  <a:pt x="717" y="2591"/>
                </a:lnTo>
                <a:lnTo>
                  <a:pt x="731" y="2595"/>
                </a:lnTo>
                <a:lnTo>
                  <a:pt x="742" y="2603"/>
                </a:lnTo>
                <a:lnTo>
                  <a:pt x="746" y="2614"/>
                </a:lnTo>
                <a:lnTo>
                  <a:pt x="748" y="2628"/>
                </a:lnTo>
                <a:lnTo>
                  <a:pt x="756" y="2639"/>
                </a:lnTo>
                <a:lnTo>
                  <a:pt x="781" y="2628"/>
                </a:lnTo>
                <a:lnTo>
                  <a:pt x="795" y="2624"/>
                </a:lnTo>
                <a:lnTo>
                  <a:pt x="806" y="2630"/>
                </a:lnTo>
                <a:lnTo>
                  <a:pt x="820" y="2632"/>
                </a:lnTo>
                <a:lnTo>
                  <a:pt x="820" y="2645"/>
                </a:lnTo>
                <a:lnTo>
                  <a:pt x="830" y="2653"/>
                </a:lnTo>
                <a:lnTo>
                  <a:pt x="843" y="2651"/>
                </a:lnTo>
                <a:lnTo>
                  <a:pt x="845" y="2651"/>
                </a:lnTo>
                <a:lnTo>
                  <a:pt x="853" y="2672"/>
                </a:lnTo>
                <a:lnTo>
                  <a:pt x="843" y="2684"/>
                </a:lnTo>
                <a:lnTo>
                  <a:pt x="839" y="2696"/>
                </a:lnTo>
                <a:lnTo>
                  <a:pt x="814" y="2729"/>
                </a:lnTo>
                <a:lnTo>
                  <a:pt x="787" y="2733"/>
                </a:lnTo>
                <a:lnTo>
                  <a:pt x="762" y="2719"/>
                </a:lnTo>
                <a:lnTo>
                  <a:pt x="748" y="2723"/>
                </a:lnTo>
                <a:lnTo>
                  <a:pt x="737" y="2729"/>
                </a:lnTo>
                <a:lnTo>
                  <a:pt x="739" y="2744"/>
                </a:lnTo>
                <a:lnTo>
                  <a:pt x="727" y="2752"/>
                </a:lnTo>
                <a:lnTo>
                  <a:pt x="733" y="2766"/>
                </a:lnTo>
                <a:lnTo>
                  <a:pt x="742" y="2773"/>
                </a:lnTo>
                <a:lnTo>
                  <a:pt x="756" y="2777"/>
                </a:lnTo>
                <a:lnTo>
                  <a:pt x="762" y="2791"/>
                </a:lnTo>
                <a:lnTo>
                  <a:pt x="762" y="2804"/>
                </a:lnTo>
                <a:lnTo>
                  <a:pt x="774" y="2812"/>
                </a:lnTo>
                <a:lnTo>
                  <a:pt x="774" y="2826"/>
                </a:lnTo>
                <a:lnTo>
                  <a:pt x="787" y="2830"/>
                </a:lnTo>
                <a:lnTo>
                  <a:pt x="795" y="2841"/>
                </a:lnTo>
                <a:lnTo>
                  <a:pt x="797" y="2855"/>
                </a:lnTo>
                <a:lnTo>
                  <a:pt x="814" y="2890"/>
                </a:lnTo>
                <a:lnTo>
                  <a:pt x="826" y="2895"/>
                </a:lnTo>
                <a:lnTo>
                  <a:pt x="839" y="2897"/>
                </a:lnTo>
                <a:lnTo>
                  <a:pt x="851" y="2888"/>
                </a:lnTo>
                <a:lnTo>
                  <a:pt x="857" y="2876"/>
                </a:lnTo>
                <a:lnTo>
                  <a:pt x="857" y="2861"/>
                </a:lnTo>
                <a:lnTo>
                  <a:pt x="865" y="2849"/>
                </a:lnTo>
                <a:lnTo>
                  <a:pt x="896" y="284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76760" y="4253040"/>
            <a:ext cx="2173320" cy="1149120"/>
          </a:xfrm>
          <a:custGeom>
            <a:avLst/>
            <a:gdLst/>
            <a:ahLst/>
            <a:rect l="l" t="t" r="r" b="b"/>
            <a:pathLst>
              <a:path w="1823" h="1177">
                <a:moveTo>
                  <a:pt x="1374" y="231"/>
                </a:moveTo>
                <a:lnTo>
                  <a:pt x="1385" y="221"/>
                </a:lnTo>
                <a:lnTo>
                  <a:pt x="1401" y="225"/>
                </a:lnTo>
                <a:lnTo>
                  <a:pt x="1414" y="215"/>
                </a:lnTo>
                <a:lnTo>
                  <a:pt x="1459" y="177"/>
                </a:lnTo>
                <a:lnTo>
                  <a:pt x="1474" y="175"/>
                </a:lnTo>
                <a:lnTo>
                  <a:pt x="1519" y="217"/>
                </a:lnTo>
                <a:lnTo>
                  <a:pt x="1544" y="231"/>
                </a:lnTo>
                <a:lnTo>
                  <a:pt x="1558" y="225"/>
                </a:lnTo>
                <a:lnTo>
                  <a:pt x="1560" y="211"/>
                </a:lnTo>
                <a:lnTo>
                  <a:pt x="1573" y="206"/>
                </a:lnTo>
                <a:lnTo>
                  <a:pt x="1587" y="215"/>
                </a:lnTo>
                <a:lnTo>
                  <a:pt x="1600" y="211"/>
                </a:lnTo>
                <a:lnTo>
                  <a:pt x="1616" y="213"/>
                </a:lnTo>
                <a:lnTo>
                  <a:pt x="1630" y="219"/>
                </a:lnTo>
                <a:lnTo>
                  <a:pt x="1643" y="215"/>
                </a:lnTo>
                <a:lnTo>
                  <a:pt x="1655" y="210"/>
                </a:lnTo>
                <a:lnTo>
                  <a:pt x="1684" y="217"/>
                </a:lnTo>
                <a:lnTo>
                  <a:pt x="1697" y="211"/>
                </a:lnTo>
                <a:lnTo>
                  <a:pt x="1725" y="221"/>
                </a:lnTo>
                <a:lnTo>
                  <a:pt x="1742" y="219"/>
                </a:lnTo>
                <a:lnTo>
                  <a:pt x="1756" y="213"/>
                </a:lnTo>
                <a:lnTo>
                  <a:pt x="1769" y="217"/>
                </a:lnTo>
                <a:lnTo>
                  <a:pt x="1759" y="229"/>
                </a:lnTo>
                <a:lnTo>
                  <a:pt x="1789" y="264"/>
                </a:lnTo>
                <a:lnTo>
                  <a:pt x="1783" y="295"/>
                </a:lnTo>
                <a:lnTo>
                  <a:pt x="1769" y="303"/>
                </a:lnTo>
                <a:lnTo>
                  <a:pt x="1758" y="310"/>
                </a:lnTo>
                <a:lnTo>
                  <a:pt x="1771" y="320"/>
                </a:lnTo>
                <a:lnTo>
                  <a:pt x="1787" y="318"/>
                </a:lnTo>
                <a:lnTo>
                  <a:pt x="1798" y="326"/>
                </a:lnTo>
                <a:lnTo>
                  <a:pt x="1787" y="336"/>
                </a:lnTo>
                <a:lnTo>
                  <a:pt x="1775" y="343"/>
                </a:lnTo>
                <a:lnTo>
                  <a:pt x="1775" y="372"/>
                </a:lnTo>
                <a:lnTo>
                  <a:pt x="1789" y="382"/>
                </a:lnTo>
                <a:lnTo>
                  <a:pt x="1798" y="392"/>
                </a:lnTo>
                <a:lnTo>
                  <a:pt x="1802" y="407"/>
                </a:lnTo>
                <a:lnTo>
                  <a:pt x="1816" y="411"/>
                </a:lnTo>
                <a:lnTo>
                  <a:pt x="1823" y="489"/>
                </a:lnTo>
                <a:lnTo>
                  <a:pt x="1812" y="498"/>
                </a:lnTo>
                <a:lnTo>
                  <a:pt x="1796" y="498"/>
                </a:lnTo>
                <a:lnTo>
                  <a:pt x="1783" y="502"/>
                </a:lnTo>
                <a:lnTo>
                  <a:pt x="1769" y="510"/>
                </a:lnTo>
                <a:lnTo>
                  <a:pt x="1754" y="506"/>
                </a:lnTo>
                <a:lnTo>
                  <a:pt x="1738" y="506"/>
                </a:lnTo>
                <a:lnTo>
                  <a:pt x="1723" y="549"/>
                </a:lnTo>
                <a:lnTo>
                  <a:pt x="1711" y="559"/>
                </a:lnTo>
                <a:lnTo>
                  <a:pt x="1699" y="570"/>
                </a:lnTo>
                <a:lnTo>
                  <a:pt x="1695" y="601"/>
                </a:lnTo>
                <a:lnTo>
                  <a:pt x="1703" y="615"/>
                </a:lnTo>
                <a:lnTo>
                  <a:pt x="1649" y="644"/>
                </a:lnTo>
                <a:lnTo>
                  <a:pt x="1635" y="656"/>
                </a:lnTo>
                <a:lnTo>
                  <a:pt x="1624" y="679"/>
                </a:lnTo>
                <a:lnTo>
                  <a:pt x="1608" y="681"/>
                </a:lnTo>
                <a:lnTo>
                  <a:pt x="1597" y="694"/>
                </a:lnTo>
                <a:lnTo>
                  <a:pt x="1579" y="708"/>
                </a:lnTo>
                <a:lnTo>
                  <a:pt x="1581" y="731"/>
                </a:lnTo>
                <a:lnTo>
                  <a:pt x="1554" y="725"/>
                </a:lnTo>
                <a:lnTo>
                  <a:pt x="1519" y="758"/>
                </a:lnTo>
                <a:lnTo>
                  <a:pt x="1515" y="768"/>
                </a:lnTo>
                <a:lnTo>
                  <a:pt x="1509" y="760"/>
                </a:lnTo>
                <a:lnTo>
                  <a:pt x="1492" y="774"/>
                </a:lnTo>
                <a:lnTo>
                  <a:pt x="1478" y="778"/>
                </a:lnTo>
                <a:lnTo>
                  <a:pt x="1469" y="793"/>
                </a:lnTo>
                <a:lnTo>
                  <a:pt x="1457" y="815"/>
                </a:lnTo>
                <a:lnTo>
                  <a:pt x="1451" y="818"/>
                </a:lnTo>
                <a:lnTo>
                  <a:pt x="1447" y="842"/>
                </a:lnTo>
                <a:lnTo>
                  <a:pt x="1438" y="867"/>
                </a:lnTo>
                <a:lnTo>
                  <a:pt x="1426" y="879"/>
                </a:lnTo>
                <a:lnTo>
                  <a:pt x="1428" y="867"/>
                </a:lnTo>
                <a:lnTo>
                  <a:pt x="1438" y="857"/>
                </a:lnTo>
                <a:lnTo>
                  <a:pt x="1443" y="844"/>
                </a:lnTo>
                <a:lnTo>
                  <a:pt x="1436" y="830"/>
                </a:lnTo>
                <a:lnTo>
                  <a:pt x="1426" y="818"/>
                </a:lnTo>
                <a:lnTo>
                  <a:pt x="1418" y="822"/>
                </a:lnTo>
                <a:lnTo>
                  <a:pt x="1418" y="832"/>
                </a:lnTo>
                <a:lnTo>
                  <a:pt x="1416" y="853"/>
                </a:lnTo>
                <a:lnTo>
                  <a:pt x="1408" y="865"/>
                </a:lnTo>
                <a:lnTo>
                  <a:pt x="1403" y="879"/>
                </a:lnTo>
                <a:lnTo>
                  <a:pt x="1416" y="902"/>
                </a:lnTo>
                <a:lnTo>
                  <a:pt x="1422" y="919"/>
                </a:lnTo>
                <a:lnTo>
                  <a:pt x="1412" y="923"/>
                </a:lnTo>
                <a:lnTo>
                  <a:pt x="1410" y="915"/>
                </a:lnTo>
                <a:lnTo>
                  <a:pt x="1393" y="898"/>
                </a:lnTo>
                <a:lnTo>
                  <a:pt x="1393" y="890"/>
                </a:lnTo>
                <a:lnTo>
                  <a:pt x="1387" y="882"/>
                </a:lnTo>
                <a:lnTo>
                  <a:pt x="1377" y="896"/>
                </a:lnTo>
                <a:lnTo>
                  <a:pt x="1374" y="910"/>
                </a:lnTo>
                <a:lnTo>
                  <a:pt x="1368" y="908"/>
                </a:lnTo>
                <a:lnTo>
                  <a:pt x="1372" y="896"/>
                </a:lnTo>
                <a:lnTo>
                  <a:pt x="1364" y="890"/>
                </a:lnTo>
                <a:lnTo>
                  <a:pt x="1350" y="894"/>
                </a:lnTo>
                <a:lnTo>
                  <a:pt x="1339" y="898"/>
                </a:lnTo>
                <a:lnTo>
                  <a:pt x="1335" y="894"/>
                </a:lnTo>
                <a:lnTo>
                  <a:pt x="1329" y="879"/>
                </a:lnTo>
                <a:lnTo>
                  <a:pt x="1319" y="869"/>
                </a:lnTo>
                <a:lnTo>
                  <a:pt x="1323" y="898"/>
                </a:lnTo>
                <a:lnTo>
                  <a:pt x="1319" y="902"/>
                </a:lnTo>
                <a:lnTo>
                  <a:pt x="1310" y="902"/>
                </a:lnTo>
                <a:lnTo>
                  <a:pt x="1288" y="898"/>
                </a:lnTo>
                <a:lnTo>
                  <a:pt x="1282" y="900"/>
                </a:lnTo>
                <a:lnTo>
                  <a:pt x="1292" y="906"/>
                </a:lnTo>
                <a:lnTo>
                  <a:pt x="1306" y="914"/>
                </a:lnTo>
                <a:lnTo>
                  <a:pt x="1313" y="910"/>
                </a:lnTo>
                <a:lnTo>
                  <a:pt x="1319" y="912"/>
                </a:lnTo>
                <a:lnTo>
                  <a:pt x="1327" y="919"/>
                </a:lnTo>
                <a:lnTo>
                  <a:pt x="1331" y="931"/>
                </a:lnTo>
                <a:lnTo>
                  <a:pt x="1341" y="937"/>
                </a:lnTo>
                <a:lnTo>
                  <a:pt x="1343" y="931"/>
                </a:lnTo>
                <a:lnTo>
                  <a:pt x="1343" y="917"/>
                </a:lnTo>
                <a:lnTo>
                  <a:pt x="1352" y="919"/>
                </a:lnTo>
                <a:lnTo>
                  <a:pt x="1360" y="917"/>
                </a:lnTo>
                <a:lnTo>
                  <a:pt x="1372" y="921"/>
                </a:lnTo>
                <a:lnTo>
                  <a:pt x="1381" y="917"/>
                </a:lnTo>
                <a:lnTo>
                  <a:pt x="1381" y="945"/>
                </a:lnTo>
                <a:lnTo>
                  <a:pt x="1385" y="946"/>
                </a:lnTo>
                <a:lnTo>
                  <a:pt x="1397" y="937"/>
                </a:lnTo>
                <a:lnTo>
                  <a:pt x="1401" y="937"/>
                </a:lnTo>
                <a:lnTo>
                  <a:pt x="1403" y="956"/>
                </a:lnTo>
                <a:lnTo>
                  <a:pt x="1416" y="948"/>
                </a:lnTo>
                <a:lnTo>
                  <a:pt x="1426" y="946"/>
                </a:lnTo>
                <a:lnTo>
                  <a:pt x="1443" y="956"/>
                </a:lnTo>
                <a:lnTo>
                  <a:pt x="1451" y="981"/>
                </a:lnTo>
                <a:lnTo>
                  <a:pt x="1461" y="995"/>
                </a:lnTo>
                <a:lnTo>
                  <a:pt x="1465" y="987"/>
                </a:lnTo>
                <a:lnTo>
                  <a:pt x="1492" y="987"/>
                </a:lnTo>
                <a:lnTo>
                  <a:pt x="1502" y="987"/>
                </a:lnTo>
                <a:lnTo>
                  <a:pt x="1500" y="974"/>
                </a:lnTo>
                <a:lnTo>
                  <a:pt x="1527" y="981"/>
                </a:lnTo>
                <a:lnTo>
                  <a:pt x="1540" y="950"/>
                </a:lnTo>
                <a:lnTo>
                  <a:pt x="1550" y="946"/>
                </a:lnTo>
                <a:lnTo>
                  <a:pt x="1556" y="956"/>
                </a:lnTo>
                <a:lnTo>
                  <a:pt x="1569" y="945"/>
                </a:lnTo>
                <a:lnTo>
                  <a:pt x="1593" y="929"/>
                </a:lnTo>
                <a:lnTo>
                  <a:pt x="1616" y="925"/>
                </a:lnTo>
                <a:lnTo>
                  <a:pt x="1618" y="943"/>
                </a:lnTo>
                <a:lnTo>
                  <a:pt x="1610" y="952"/>
                </a:lnTo>
                <a:lnTo>
                  <a:pt x="1614" y="966"/>
                </a:lnTo>
                <a:lnTo>
                  <a:pt x="1618" y="979"/>
                </a:lnTo>
                <a:lnTo>
                  <a:pt x="1620" y="987"/>
                </a:lnTo>
                <a:lnTo>
                  <a:pt x="1616" y="991"/>
                </a:lnTo>
                <a:lnTo>
                  <a:pt x="1585" y="1001"/>
                </a:lnTo>
                <a:lnTo>
                  <a:pt x="1583" y="1003"/>
                </a:lnTo>
                <a:lnTo>
                  <a:pt x="1581" y="1009"/>
                </a:lnTo>
                <a:lnTo>
                  <a:pt x="1560" y="1010"/>
                </a:lnTo>
                <a:lnTo>
                  <a:pt x="1542" y="1009"/>
                </a:lnTo>
                <a:lnTo>
                  <a:pt x="1515" y="1009"/>
                </a:lnTo>
                <a:lnTo>
                  <a:pt x="1502" y="1032"/>
                </a:lnTo>
                <a:lnTo>
                  <a:pt x="1490" y="1053"/>
                </a:lnTo>
                <a:lnTo>
                  <a:pt x="1478" y="1076"/>
                </a:lnTo>
                <a:lnTo>
                  <a:pt x="1453" y="1078"/>
                </a:lnTo>
                <a:lnTo>
                  <a:pt x="1436" y="1088"/>
                </a:lnTo>
                <a:lnTo>
                  <a:pt x="1426" y="1094"/>
                </a:lnTo>
                <a:lnTo>
                  <a:pt x="1439" y="1098"/>
                </a:lnTo>
                <a:lnTo>
                  <a:pt x="1426" y="1104"/>
                </a:lnTo>
                <a:lnTo>
                  <a:pt x="1422" y="1121"/>
                </a:lnTo>
                <a:lnTo>
                  <a:pt x="1422" y="1131"/>
                </a:lnTo>
                <a:lnTo>
                  <a:pt x="1418" y="1138"/>
                </a:lnTo>
                <a:lnTo>
                  <a:pt x="1405" y="1144"/>
                </a:lnTo>
                <a:lnTo>
                  <a:pt x="1387" y="1164"/>
                </a:lnTo>
                <a:lnTo>
                  <a:pt x="1352" y="1171"/>
                </a:lnTo>
                <a:lnTo>
                  <a:pt x="1346" y="1170"/>
                </a:lnTo>
                <a:lnTo>
                  <a:pt x="1319" y="1158"/>
                </a:lnTo>
                <a:lnTo>
                  <a:pt x="1323" y="1142"/>
                </a:lnTo>
                <a:lnTo>
                  <a:pt x="1317" y="1123"/>
                </a:lnTo>
                <a:lnTo>
                  <a:pt x="1317" y="1104"/>
                </a:lnTo>
                <a:lnTo>
                  <a:pt x="1310" y="1086"/>
                </a:lnTo>
                <a:lnTo>
                  <a:pt x="1294" y="1069"/>
                </a:lnTo>
                <a:lnTo>
                  <a:pt x="1282" y="1067"/>
                </a:lnTo>
                <a:lnTo>
                  <a:pt x="1267" y="1073"/>
                </a:lnTo>
                <a:lnTo>
                  <a:pt x="1249" y="1061"/>
                </a:lnTo>
                <a:lnTo>
                  <a:pt x="1224" y="1053"/>
                </a:lnTo>
                <a:lnTo>
                  <a:pt x="1211" y="1059"/>
                </a:lnTo>
                <a:lnTo>
                  <a:pt x="1191" y="1061"/>
                </a:lnTo>
                <a:lnTo>
                  <a:pt x="1189" y="1057"/>
                </a:lnTo>
                <a:lnTo>
                  <a:pt x="1193" y="1043"/>
                </a:lnTo>
                <a:lnTo>
                  <a:pt x="1211" y="1028"/>
                </a:lnTo>
                <a:lnTo>
                  <a:pt x="1215" y="1018"/>
                </a:lnTo>
                <a:lnTo>
                  <a:pt x="1226" y="995"/>
                </a:lnTo>
                <a:lnTo>
                  <a:pt x="1242" y="979"/>
                </a:lnTo>
                <a:lnTo>
                  <a:pt x="1249" y="974"/>
                </a:lnTo>
                <a:lnTo>
                  <a:pt x="1273" y="960"/>
                </a:lnTo>
                <a:lnTo>
                  <a:pt x="1290" y="950"/>
                </a:lnTo>
                <a:lnTo>
                  <a:pt x="1296" y="943"/>
                </a:lnTo>
                <a:lnTo>
                  <a:pt x="1288" y="941"/>
                </a:lnTo>
                <a:lnTo>
                  <a:pt x="1282" y="925"/>
                </a:lnTo>
                <a:lnTo>
                  <a:pt x="1267" y="917"/>
                </a:lnTo>
                <a:lnTo>
                  <a:pt x="1259" y="931"/>
                </a:lnTo>
                <a:lnTo>
                  <a:pt x="1247" y="931"/>
                </a:lnTo>
                <a:lnTo>
                  <a:pt x="1238" y="927"/>
                </a:lnTo>
                <a:lnTo>
                  <a:pt x="1236" y="919"/>
                </a:lnTo>
                <a:lnTo>
                  <a:pt x="1226" y="925"/>
                </a:lnTo>
                <a:lnTo>
                  <a:pt x="1218" y="927"/>
                </a:lnTo>
                <a:lnTo>
                  <a:pt x="1218" y="935"/>
                </a:lnTo>
                <a:lnTo>
                  <a:pt x="1205" y="937"/>
                </a:lnTo>
                <a:lnTo>
                  <a:pt x="1172" y="954"/>
                </a:lnTo>
                <a:lnTo>
                  <a:pt x="1164" y="960"/>
                </a:lnTo>
                <a:lnTo>
                  <a:pt x="1145" y="958"/>
                </a:lnTo>
                <a:lnTo>
                  <a:pt x="1131" y="956"/>
                </a:lnTo>
                <a:lnTo>
                  <a:pt x="1125" y="950"/>
                </a:lnTo>
                <a:lnTo>
                  <a:pt x="1116" y="946"/>
                </a:lnTo>
                <a:lnTo>
                  <a:pt x="1104" y="946"/>
                </a:lnTo>
                <a:lnTo>
                  <a:pt x="1083" y="954"/>
                </a:lnTo>
                <a:lnTo>
                  <a:pt x="1077" y="946"/>
                </a:lnTo>
                <a:lnTo>
                  <a:pt x="1098" y="921"/>
                </a:lnTo>
                <a:lnTo>
                  <a:pt x="1094" y="917"/>
                </a:lnTo>
                <a:lnTo>
                  <a:pt x="1063" y="919"/>
                </a:lnTo>
                <a:lnTo>
                  <a:pt x="1052" y="917"/>
                </a:lnTo>
                <a:lnTo>
                  <a:pt x="1065" y="908"/>
                </a:lnTo>
                <a:lnTo>
                  <a:pt x="1094" y="906"/>
                </a:lnTo>
                <a:lnTo>
                  <a:pt x="1114" y="904"/>
                </a:lnTo>
                <a:lnTo>
                  <a:pt x="1112" y="894"/>
                </a:lnTo>
                <a:lnTo>
                  <a:pt x="1100" y="894"/>
                </a:lnTo>
                <a:lnTo>
                  <a:pt x="1083" y="881"/>
                </a:lnTo>
                <a:lnTo>
                  <a:pt x="1069" y="865"/>
                </a:lnTo>
                <a:lnTo>
                  <a:pt x="1067" y="879"/>
                </a:lnTo>
                <a:lnTo>
                  <a:pt x="1055" y="890"/>
                </a:lnTo>
                <a:lnTo>
                  <a:pt x="1038" y="900"/>
                </a:lnTo>
                <a:lnTo>
                  <a:pt x="1038" y="879"/>
                </a:lnTo>
                <a:lnTo>
                  <a:pt x="1026" y="892"/>
                </a:lnTo>
                <a:lnTo>
                  <a:pt x="1009" y="908"/>
                </a:lnTo>
                <a:lnTo>
                  <a:pt x="993" y="914"/>
                </a:lnTo>
                <a:lnTo>
                  <a:pt x="980" y="921"/>
                </a:lnTo>
                <a:lnTo>
                  <a:pt x="968" y="931"/>
                </a:lnTo>
                <a:lnTo>
                  <a:pt x="955" y="937"/>
                </a:lnTo>
                <a:lnTo>
                  <a:pt x="957" y="954"/>
                </a:lnTo>
                <a:lnTo>
                  <a:pt x="947" y="978"/>
                </a:lnTo>
                <a:lnTo>
                  <a:pt x="941" y="993"/>
                </a:lnTo>
                <a:lnTo>
                  <a:pt x="935" y="993"/>
                </a:lnTo>
                <a:lnTo>
                  <a:pt x="924" y="978"/>
                </a:lnTo>
                <a:lnTo>
                  <a:pt x="916" y="976"/>
                </a:lnTo>
                <a:lnTo>
                  <a:pt x="908" y="978"/>
                </a:lnTo>
                <a:lnTo>
                  <a:pt x="898" y="974"/>
                </a:lnTo>
                <a:lnTo>
                  <a:pt x="906" y="985"/>
                </a:lnTo>
                <a:lnTo>
                  <a:pt x="926" y="995"/>
                </a:lnTo>
                <a:lnTo>
                  <a:pt x="935" y="1016"/>
                </a:lnTo>
                <a:lnTo>
                  <a:pt x="927" y="1040"/>
                </a:lnTo>
                <a:lnTo>
                  <a:pt x="920" y="1051"/>
                </a:lnTo>
                <a:lnTo>
                  <a:pt x="908" y="1055"/>
                </a:lnTo>
                <a:lnTo>
                  <a:pt x="893" y="1059"/>
                </a:lnTo>
                <a:lnTo>
                  <a:pt x="891" y="1069"/>
                </a:lnTo>
                <a:lnTo>
                  <a:pt x="881" y="1076"/>
                </a:lnTo>
                <a:lnTo>
                  <a:pt x="883" y="1092"/>
                </a:lnTo>
                <a:lnTo>
                  <a:pt x="871" y="1090"/>
                </a:lnTo>
                <a:lnTo>
                  <a:pt x="865" y="1071"/>
                </a:lnTo>
                <a:lnTo>
                  <a:pt x="862" y="1065"/>
                </a:lnTo>
                <a:lnTo>
                  <a:pt x="869" y="1102"/>
                </a:lnTo>
                <a:lnTo>
                  <a:pt x="873" y="1117"/>
                </a:lnTo>
                <a:lnTo>
                  <a:pt x="877" y="1131"/>
                </a:lnTo>
                <a:lnTo>
                  <a:pt x="873" y="1133"/>
                </a:lnTo>
                <a:lnTo>
                  <a:pt x="862" y="1131"/>
                </a:lnTo>
                <a:lnTo>
                  <a:pt x="844" y="1133"/>
                </a:lnTo>
                <a:lnTo>
                  <a:pt x="827" y="1142"/>
                </a:lnTo>
                <a:lnTo>
                  <a:pt x="799" y="1154"/>
                </a:lnTo>
                <a:lnTo>
                  <a:pt x="782" y="1173"/>
                </a:lnTo>
                <a:lnTo>
                  <a:pt x="761" y="1177"/>
                </a:lnTo>
                <a:lnTo>
                  <a:pt x="751" y="1170"/>
                </a:lnTo>
                <a:lnTo>
                  <a:pt x="761" y="1152"/>
                </a:lnTo>
                <a:lnTo>
                  <a:pt x="761" y="1137"/>
                </a:lnTo>
                <a:lnTo>
                  <a:pt x="761" y="1121"/>
                </a:lnTo>
                <a:lnTo>
                  <a:pt x="774" y="1111"/>
                </a:lnTo>
                <a:lnTo>
                  <a:pt x="774" y="1094"/>
                </a:lnTo>
                <a:lnTo>
                  <a:pt x="782" y="1080"/>
                </a:lnTo>
                <a:lnTo>
                  <a:pt x="796" y="1071"/>
                </a:lnTo>
                <a:lnTo>
                  <a:pt x="794" y="1053"/>
                </a:lnTo>
                <a:lnTo>
                  <a:pt x="794" y="1040"/>
                </a:lnTo>
                <a:lnTo>
                  <a:pt x="792" y="1022"/>
                </a:lnTo>
                <a:lnTo>
                  <a:pt x="796" y="1007"/>
                </a:lnTo>
                <a:lnTo>
                  <a:pt x="809" y="995"/>
                </a:lnTo>
                <a:lnTo>
                  <a:pt x="819" y="1009"/>
                </a:lnTo>
                <a:lnTo>
                  <a:pt x="832" y="997"/>
                </a:lnTo>
                <a:lnTo>
                  <a:pt x="848" y="999"/>
                </a:lnTo>
                <a:lnTo>
                  <a:pt x="863" y="997"/>
                </a:lnTo>
                <a:lnTo>
                  <a:pt x="879" y="999"/>
                </a:lnTo>
                <a:lnTo>
                  <a:pt x="891" y="987"/>
                </a:lnTo>
                <a:lnTo>
                  <a:pt x="893" y="972"/>
                </a:lnTo>
                <a:lnTo>
                  <a:pt x="885" y="958"/>
                </a:lnTo>
                <a:lnTo>
                  <a:pt x="883" y="943"/>
                </a:lnTo>
                <a:lnTo>
                  <a:pt x="877" y="927"/>
                </a:lnTo>
                <a:lnTo>
                  <a:pt x="869" y="917"/>
                </a:lnTo>
                <a:lnTo>
                  <a:pt x="852" y="914"/>
                </a:lnTo>
                <a:lnTo>
                  <a:pt x="838" y="908"/>
                </a:lnTo>
                <a:lnTo>
                  <a:pt x="829" y="894"/>
                </a:lnTo>
                <a:lnTo>
                  <a:pt x="819" y="884"/>
                </a:lnTo>
                <a:lnTo>
                  <a:pt x="819" y="867"/>
                </a:lnTo>
                <a:lnTo>
                  <a:pt x="809" y="853"/>
                </a:lnTo>
                <a:lnTo>
                  <a:pt x="794" y="853"/>
                </a:lnTo>
                <a:lnTo>
                  <a:pt x="784" y="844"/>
                </a:lnTo>
                <a:lnTo>
                  <a:pt x="770" y="834"/>
                </a:lnTo>
                <a:lnTo>
                  <a:pt x="770" y="818"/>
                </a:lnTo>
                <a:lnTo>
                  <a:pt x="768" y="803"/>
                </a:lnTo>
                <a:lnTo>
                  <a:pt x="768" y="789"/>
                </a:lnTo>
                <a:lnTo>
                  <a:pt x="765" y="774"/>
                </a:lnTo>
                <a:lnTo>
                  <a:pt x="753" y="762"/>
                </a:lnTo>
                <a:lnTo>
                  <a:pt x="739" y="768"/>
                </a:lnTo>
                <a:lnTo>
                  <a:pt x="728" y="758"/>
                </a:lnTo>
                <a:lnTo>
                  <a:pt x="714" y="751"/>
                </a:lnTo>
                <a:lnTo>
                  <a:pt x="699" y="751"/>
                </a:lnTo>
                <a:lnTo>
                  <a:pt x="683" y="754"/>
                </a:lnTo>
                <a:lnTo>
                  <a:pt x="670" y="762"/>
                </a:lnTo>
                <a:lnTo>
                  <a:pt x="654" y="760"/>
                </a:lnTo>
                <a:lnTo>
                  <a:pt x="639" y="753"/>
                </a:lnTo>
                <a:lnTo>
                  <a:pt x="627" y="745"/>
                </a:lnTo>
                <a:lnTo>
                  <a:pt x="613" y="737"/>
                </a:lnTo>
                <a:lnTo>
                  <a:pt x="598" y="731"/>
                </a:lnTo>
                <a:lnTo>
                  <a:pt x="582" y="729"/>
                </a:lnTo>
                <a:lnTo>
                  <a:pt x="567" y="727"/>
                </a:lnTo>
                <a:lnTo>
                  <a:pt x="551" y="733"/>
                </a:lnTo>
                <a:lnTo>
                  <a:pt x="540" y="745"/>
                </a:lnTo>
                <a:lnTo>
                  <a:pt x="524" y="749"/>
                </a:lnTo>
                <a:lnTo>
                  <a:pt x="509" y="747"/>
                </a:lnTo>
                <a:lnTo>
                  <a:pt x="495" y="762"/>
                </a:lnTo>
                <a:lnTo>
                  <a:pt x="495" y="764"/>
                </a:lnTo>
                <a:lnTo>
                  <a:pt x="481" y="756"/>
                </a:lnTo>
                <a:lnTo>
                  <a:pt x="454" y="758"/>
                </a:lnTo>
                <a:lnTo>
                  <a:pt x="396" y="809"/>
                </a:lnTo>
                <a:lnTo>
                  <a:pt x="365" y="815"/>
                </a:lnTo>
                <a:lnTo>
                  <a:pt x="336" y="828"/>
                </a:lnTo>
                <a:lnTo>
                  <a:pt x="307" y="853"/>
                </a:lnTo>
                <a:lnTo>
                  <a:pt x="288" y="844"/>
                </a:lnTo>
                <a:lnTo>
                  <a:pt x="264" y="828"/>
                </a:lnTo>
                <a:lnTo>
                  <a:pt x="237" y="834"/>
                </a:lnTo>
                <a:lnTo>
                  <a:pt x="208" y="848"/>
                </a:lnTo>
                <a:lnTo>
                  <a:pt x="161" y="848"/>
                </a:lnTo>
                <a:lnTo>
                  <a:pt x="128" y="848"/>
                </a:lnTo>
                <a:lnTo>
                  <a:pt x="96" y="851"/>
                </a:lnTo>
                <a:lnTo>
                  <a:pt x="82" y="857"/>
                </a:lnTo>
                <a:lnTo>
                  <a:pt x="72" y="838"/>
                </a:lnTo>
                <a:lnTo>
                  <a:pt x="55" y="824"/>
                </a:lnTo>
                <a:lnTo>
                  <a:pt x="30" y="809"/>
                </a:lnTo>
                <a:lnTo>
                  <a:pt x="0" y="797"/>
                </a:lnTo>
                <a:lnTo>
                  <a:pt x="2" y="789"/>
                </a:lnTo>
                <a:lnTo>
                  <a:pt x="4" y="772"/>
                </a:lnTo>
                <a:lnTo>
                  <a:pt x="8" y="753"/>
                </a:lnTo>
                <a:lnTo>
                  <a:pt x="12" y="737"/>
                </a:lnTo>
                <a:lnTo>
                  <a:pt x="18" y="716"/>
                </a:lnTo>
                <a:lnTo>
                  <a:pt x="24" y="696"/>
                </a:lnTo>
                <a:lnTo>
                  <a:pt x="24" y="683"/>
                </a:lnTo>
                <a:lnTo>
                  <a:pt x="32" y="687"/>
                </a:lnTo>
                <a:lnTo>
                  <a:pt x="51" y="681"/>
                </a:lnTo>
                <a:lnTo>
                  <a:pt x="45" y="658"/>
                </a:lnTo>
                <a:lnTo>
                  <a:pt x="45" y="628"/>
                </a:lnTo>
                <a:lnTo>
                  <a:pt x="68" y="557"/>
                </a:lnTo>
                <a:lnTo>
                  <a:pt x="92" y="520"/>
                </a:lnTo>
                <a:lnTo>
                  <a:pt x="125" y="491"/>
                </a:lnTo>
                <a:lnTo>
                  <a:pt x="154" y="460"/>
                </a:lnTo>
                <a:lnTo>
                  <a:pt x="158" y="433"/>
                </a:lnTo>
                <a:lnTo>
                  <a:pt x="144" y="407"/>
                </a:lnTo>
                <a:lnTo>
                  <a:pt x="144" y="388"/>
                </a:lnTo>
                <a:lnTo>
                  <a:pt x="125" y="370"/>
                </a:lnTo>
                <a:lnTo>
                  <a:pt x="119" y="365"/>
                </a:lnTo>
                <a:lnTo>
                  <a:pt x="115" y="353"/>
                </a:lnTo>
                <a:lnTo>
                  <a:pt x="103" y="334"/>
                </a:lnTo>
                <a:lnTo>
                  <a:pt x="99" y="320"/>
                </a:lnTo>
                <a:lnTo>
                  <a:pt x="99" y="316"/>
                </a:lnTo>
                <a:lnTo>
                  <a:pt x="121" y="295"/>
                </a:lnTo>
                <a:lnTo>
                  <a:pt x="134" y="291"/>
                </a:lnTo>
                <a:lnTo>
                  <a:pt x="148" y="293"/>
                </a:lnTo>
                <a:lnTo>
                  <a:pt x="161" y="285"/>
                </a:lnTo>
                <a:lnTo>
                  <a:pt x="173" y="275"/>
                </a:lnTo>
                <a:lnTo>
                  <a:pt x="183" y="266"/>
                </a:lnTo>
                <a:lnTo>
                  <a:pt x="185" y="252"/>
                </a:lnTo>
                <a:lnTo>
                  <a:pt x="196" y="244"/>
                </a:lnTo>
                <a:lnTo>
                  <a:pt x="210" y="241"/>
                </a:lnTo>
                <a:lnTo>
                  <a:pt x="224" y="235"/>
                </a:lnTo>
                <a:lnTo>
                  <a:pt x="237" y="233"/>
                </a:lnTo>
                <a:lnTo>
                  <a:pt x="251" y="229"/>
                </a:lnTo>
                <a:lnTo>
                  <a:pt x="264" y="225"/>
                </a:lnTo>
                <a:lnTo>
                  <a:pt x="278" y="229"/>
                </a:lnTo>
                <a:lnTo>
                  <a:pt x="293" y="225"/>
                </a:lnTo>
                <a:lnTo>
                  <a:pt x="307" y="225"/>
                </a:lnTo>
                <a:lnTo>
                  <a:pt x="320" y="219"/>
                </a:lnTo>
                <a:lnTo>
                  <a:pt x="336" y="223"/>
                </a:lnTo>
                <a:lnTo>
                  <a:pt x="348" y="229"/>
                </a:lnTo>
                <a:lnTo>
                  <a:pt x="361" y="231"/>
                </a:lnTo>
                <a:lnTo>
                  <a:pt x="377" y="233"/>
                </a:lnTo>
                <a:lnTo>
                  <a:pt x="390" y="233"/>
                </a:lnTo>
                <a:lnTo>
                  <a:pt x="404" y="227"/>
                </a:lnTo>
                <a:lnTo>
                  <a:pt x="415" y="233"/>
                </a:lnTo>
                <a:lnTo>
                  <a:pt x="431" y="233"/>
                </a:lnTo>
                <a:lnTo>
                  <a:pt x="445" y="237"/>
                </a:lnTo>
                <a:lnTo>
                  <a:pt x="448" y="250"/>
                </a:lnTo>
                <a:lnTo>
                  <a:pt x="460" y="258"/>
                </a:lnTo>
                <a:lnTo>
                  <a:pt x="474" y="254"/>
                </a:lnTo>
                <a:lnTo>
                  <a:pt x="489" y="250"/>
                </a:lnTo>
                <a:lnTo>
                  <a:pt x="493" y="264"/>
                </a:lnTo>
                <a:lnTo>
                  <a:pt x="505" y="272"/>
                </a:lnTo>
                <a:lnTo>
                  <a:pt x="514" y="262"/>
                </a:lnTo>
                <a:lnTo>
                  <a:pt x="526" y="254"/>
                </a:lnTo>
                <a:lnTo>
                  <a:pt x="542" y="250"/>
                </a:lnTo>
                <a:lnTo>
                  <a:pt x="549" y="237"/>
                </a:lnTo>
                <a:lnTo>
                  <a:pt x="563" y="244"/>
                </a:lnTo>
                <a:lnTo>
                  <a:pt x="576" y="244"/>
                </a:lnTo>
                <a:lnTo>
                  <a:pt x="590" y="241"/>
                </a:lnTo>
                <a:lnTo>
                  <a:pt x="600" y="250"/>
                </a:lnTo>
                <a:lnTo>
                  <a:pt x="613" y="254"/>
                </a:lnTo>
                <a:lnTo>
                  <a:pt x="619" y="242"/>
                </a:lnTo>
                <a:lnTo>
                  <a:pt x="637" y="219"/>
                </a:lnTo>
                <a:lnTo>
                  <a:pt x="648" y="225"/>
                </a:lnTo>
                <a:lnTo>
                  <a:pt x="660" y="231"/>
                </a:lnTo>
                <a:lnTo>
                  <a:pt x="670" y="244"/>
                </a:lnTo>
                <a:lnTo>
                  <a:pt x="681" y="248"/>
                </a:lnTo>
                <a:lnTo>
                  <a:pt x="693" y="239"/>
                </a:lnTo>
                <a:lnTo>
                  <a:pt x="706" y="237"/>
                </a:lnTo>
                <a:lnTo>
                  <a:pt x="734" y="225"/>
                </a:lnTo>
                <a:lnTo>
                  <a:pt x="747" y="223"/>
                </a:lnTo>
                <a:lnTo>
                  <a:pt x="761" y="225"/>
                </a:lnTo>
                <a:lnTo>
                  <a:pt x="772" y="235"/>
                </a:lnTo>
                <a:lnTo>
                  <a:pt x="786" y="229"/>
                </a:lnTo>
                <a:lnTo>
                  <a:pt x="790" y="215"/>
                </a:lnTo>
                <a:lnTo>
                  <a:pt x="782" y="202"/>
                </a:lnTo>
                <a:lnTo>
                  <a:pt x="780" y="186"/>
                </a:lnTo>
                <a:lnTo>
                  <a:pt x="780" y="173"/>
                </a:lnTo>
                <a:lnTo>
                  <a:pt x="776" y="159"/>
                </a:lnTo>
                <a:lnTo>
                  <a:pt x="780" y="146"/>
                </a:lnTo>
                <a:lnTo>
                  <a:pt x="788" y="132"/>
                </a:lnTo>
                <a:lnTo>
                  <a:pt x="794" y="122"/>
                </a:lnTo>
                <a:lnTo>
                  <a:pt x="801" y="109"/>
                </a:lnTo>
                <a:lnTo>
                  <a:pt x="813" y="99"/>
                </a:lnTo>
                <a:lnTo>
                  <a:pt x="827" y="97"/>
                </a:lnTo>
                <a:lnTo>
                  <a:pt x="838" y="87"/>
                </a:lnTo>
                <a:lnTo>
                  <a:pt x="852" y="85"/>
                </a:lnTo>
                <a:lnTo>
                  <a:pt x="865" y="82"/>
                </a:lnTo>
                <a:lnTo>
                  <a:pt x="871" y="82"/>
                </a:lnTo>
                <a:lnTo>
                  <a:pt x="871" y="78"/>
                </a:lnTo>
                <a:lnTo>
                  <a:pt x="883" y="83"/>
                </a:lnTo>
                <a:lnTo>
                  <a:pt x="896" y="85"/>
                </a:lnTo>
                <a:lnTo>
                  <a:pt x="908" y="76"/>
                </a:lnTo>
                <a:lnTo>
                  <a:pt x="914" y="64"/>
                </a:lnTo>
                <a:lnTo>
                  <a:pt x="914" y="49"/>
                </a:lnTo>
                <a:lnTo>
                  <a:pt x="922" y="37"/>
                </a:lnTo>
                <a:lnTo>
                  <a:pt x="953" y="37"/>
                </a:lnTo>
                <a:lnTo>
                  <a:pt x="966" y="31"/>
                </a:lnTo>
                <a:lnTo>
                  <a:pt x="978" y="23"/>
                </a:lnTo>
                <a:lnTo>
                  <a:pt x="991" y="16"/>
                </a:lnTo>
                <a:lnTo>
                  <a:pt x="1005" y="16"/>
                </a:lnTo>
                <a:lnTo>
                  <a:pt x="1019" y="14"/>
                </a:lnTo>
                <a:lnTo>
                  <a:pt x="1030" y="6"/>
                </a:lnTo>
                <a:lnTo>
                  <a:pt x="1044" y="0"/>
                </a:lnTo>
                <a:lnTo>
                  <a:pt x="1069" y="12"/>
                </a:lnTo>
                <a:lnTo>
                  <a:pt x="1081" y="21"/>
                </a:lnTo>
                <a:lnTo>
                  <a:pt x="1085" y="35"/>
                </a:lnTo>
                <a:lnTo>
                  <a:pt x="1121" y="56"/>
                </a:lnTo>
                <a:lnTo>
                  <a:pt x="1125" y="72"/>
                </a:lnTo>
                <a:lnTo>
                  <a:pt x="1116" y="83"/>
                </a:lnTo>
                <a:lnTo>
                  <a:pt x="1102" y="89"/>
                </a:lnTo>
                <a:lnTo>
                  <a:pt x="1110" y="99"/>
                </a:lnTo>
                <a:lnTo>
                  <a:pt x="1129" y="138"/>
                </a:lnTo>
                <a:lnTo>
                  <a:pt x="1143" y="142"/>
                </a:lnTo>
                <a:lnTo>
                  <a:pt x="1187" y="144"/>
                </a:lnTo>
                <a:lnTo>
                  <a:pt x="1197" y="134"/>
                </a:lnTo>
                <a:lnTo>
                  <a:pt x="1213" y="130"/>
                </a:lnTo>
                <a:lnTo>
                  <a:pt x="1222" y="142"/>
                </a:lnTo>
                <a:lnTo>
                  <a:pt x="1236" y="147"/>
                </a:lnTo>
                <a:lnTo>
                  <a:pt x="1246" y="157"/>
                </a:lnTo>
                <a:lnTo>
                  <a:pt x="1273" y="200"/>
                </a:lnTo>
                <a:lnTo>
                  <a:pt x="1273" y="215"/>
                </a:lnTo>
                <a:lnTo>
                  <a:pt x="1280" y="227"/>
                </a:lnTo>
                <a:lnTo>
                  <a:pt x="1310" y="237"/>
                </a:lnTo>
                <a:lnTo>
                  <a:pt x="1319" y="225"/>
                </a:lnTo>
                <a:lnTo>
                  <a:pt x="1333" y="219"/>
                </a:lnTo>
                <a:lnTo>
                  <a:pt x="1348" y="217"/>
                </a:lnTo>
                <a:lnTo>
                  <a:pt x="1374" y="231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4873680"/>
            <a:ext cx="668520" cy="287280"/>
          </a:xfrm>
          <a:custGeom>
            <a:avLst/>
            <a:gdLst/>
            <a:ahLst/>
            <a:rect l="l" t="t" r="r" b="b"/>
            <a:pathLst>
              <a:path w="561" h="295">
                <a:moveTo>
                  <a:pt x="157" y="0"/>
                </a:moveTo>
                <a:lnTo>
                  <a:pt x="128" y="6"/>
                </a:lnTo>
                <a:lnTo>
                  <a:pt x="97" y="47"/>
                </a:lnTo>
                <a:lnTo>
                  <a:pt x="97" y="72"/>
                </a:lnTo>
                <a:lnTo>
                  <a:pt x="53" y="120"/>
                </a:lnTo>
                <a:lnTo>
                  <a:pt x="24" y="122"/>
                </a:lnTo>
                <a:lnTo>
                  <a:pt x="0" y="155"/>
                </a:lnTo>
                <a:lnTo>
                  <a:pt x="2" y="181"/>
                </a:lnTo>
                <a:lnTo>
                  <a:pt x="14" y="223"/>
                </a:lnTo>
                <a:lnTo>
                  <a:pt x="27" y="245"/>
                </a:lnTo>
                <a:lnTo>
                  <a:pt x="27" y="248"/>
                </a:lnTo>
                <a:lnTo>
                  <a:pt x="39" y="254"/>
                </a:lnTo>
                <a:lnTo>
                  <a:pt x="53" y="262"/>
                </a:lnTo>
                <a:lnTo>
                  <a:pt x="89" y="287"/>
                </a:lnTo>
                <a:lnTo>
                  <a:pt x="101" y="295"/>
                </a:lnTo>
                <a:lnTo>
                  <a:pt x="121" y="293"/>
                </a:lnTo>
                <a:lnTo>
                  <a:pt x="140" y="291"/>
                </a:lnTo>
                <a:lnTo>
                  <a:pt x="153" y="289"/>
                </a:lnTo>
                <a:lnTo>
                  <a:pt x="165" y="291"/>
                </a:lnTo>
                <a:lnTo>
                  <a:pt x="175" y="289"/>
                </a:lnTo>
                <a:lnTo>
                  <a:pt x="183" y="276"/>
                </a:lnTo>
                <a:lnTo>
                  <a:pt x="186" y="272"/>
                </a:lnTo>
                <a:lnTo>
                  <a:pt x="200" y="250"/>
                </a:lnTo>
                <a:lnTo>
                  <a:pt x="227" y="243"/>
                </a:lnTo>
                <a:lnTo>
                  <a:pt x="256" y="231"/>
                </a:lnTo>
                <a:lnTo>
                  <a:pt x="285" y="212"/>
                </a:lnTo>
                <a:lnTo>
                  <a:pt x="318" y="219"/>
                </a:lnTo>
                <a:lnTo>
                  <a:pt x="342" y="204"/>
                </a:lnTo>
                <a:lnTo>
                  <a:pt x="361" y="198"/>
                </a:lnTo>
                <a:lnTo>
                  <a:pt x="369" y="175"/>
                </a:lnTo>
                <a:lnTo>
                  <a:pt x="398" y="155"/>
                </a:lnTo>
                <a:lnTo>
                  <a:pt x="431" y="155"/>
                </a:lnTo>
                <a:lnTo>
                  <a:pt x="452" y="150"/>
                </a:lnTo>
                <a:lnTo>
                  <a:pt x="481" y="155"/>
                </a:lnTo>
                <a:lnTo>
                  <a:pt x="514" y="173"/>
                </a:lnTo>
                <a:lnTo>
                  <a:pt x="537" y="163"/>
                </a:lnTo>
                <a:lnTo>
                  <a:pt x="539" y="155"/>
                </a:lnTo>
                <a:lnTo>
                  <a:pt x="541" y="138"/>
                </a:lnTo>
                <a:lnTo>
                  <a:pt x="545" y="119"/>
                </a:lnTo>
                <a:lnTo>
                  <a:pt x="549" y="103"/>
                </a:lnTo>
                <a:lnTo>
                  <a:pt x="555" y="82"/>
                </a:lnTo>
                <a:lnTo>
                  <a:pt x="561" y="62"/>
                </a:lnTo>
                <a:lnTo>
                  <a:pt x="561" y="49"/>
                </a:lnTo>
                <a:lnTo>
                  <a:pt x="541" y="47"/>
                </a:lnTo>
                <a:lnTo>
                  <a:pt x="520" y="33"/>
                </a:lnTo>
                <a:lnTo>
                  <a:pt x="503" y="18"/>
                </a:lnTo>
                <a:lnTo>
                  <a:pt x="483" y="8"/>
                </a:lnTo>
                <a:lnTo>
                  <a:pt x="458" y="8"/>
                </a:lnTo>
                <a:lnTo>
                  <a:pt x="437" y="14"/>
                </a:lnTo>
                <a:lnTo>
                  <a:pt x="419" y="24"/>
                </a:lnTo>
                <a:lnTo>
                  <a:pt x="406" y="35"/>
                </a:lnTo>
                <a:lnTo>
                  <a:pt x="386" y="24"/>
                </a:lnTo>
                <a:lnTo>
                  <a:pt x="349" y="25"/>
                </a:lnTo>
                <a:lnTo>
                  <a:pt x="334" y="45"/>
                </a:lnTo>
                <a:lnTo>
                  <a:pt x="316" y="55"/>
                </a:lnTo>
                <a:lnTo>
                  <a:pt x="303" y="53"/>
                </a:lnTo>
                <a:lnTo>
                  <a:pt x="289" y="33"/>
                </a:lnTo>
                <a:lnTo>
                  <a:pt x="270" y="16"/>
                </a:lnTo>
                <a:lnTo>
                  <a:pt x="252" y="6"/>
                </a:lnTo>
                <a:lnTo>
                  <a:pt x="235" y="16"/>
                </a:lnTo>
                <a:lnTo>
                  <a:pt x="216" y="24"/>
                </a:lnTo>
                <a:lnTo>
                  <a:pt x="186" y="10"/>
                </a:lnTo>
                <a:lnTo>
                  <a:pt x="157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40160" y="4656240"/>
            <a:ext cx="782640" cy="379440"/>
          </a:xfrm>
          <a:custGeom>
            <a:avLst/>
            <a:gdLst/>
            <a:ahLst/>
            <a:rect l="l" t="t" r="r" b="b"/>
            <a:pathLst>
              <a:path w="655" h="392">
                <a:moveTo>
                  <a:pt x="498" y="378"/>
                </a:moveTo>
                <a:lnTo>
                  <a:pt x="522" y="345"/>
                </a:lnTo>
                <a:lnTo>
                  <a:pt x="551" y="343"/>
                </a:lnTo>
                <a:lnTo>
                  <a:pt x="595" y="295"/>
                </a:lnTo>
                <a:lnTo>
                  <a:pt x="595" y="270"/>
                </a:lnTo>
                <a:lnTo>
                  <a:pt x="626" y="229"/>
                </a:lnTo>
                <a:lnTo>
                  <a:pt x="655" y="223"/>
                </a:lnTo>
                <a:lnTo>
                  <a:pt x="634" y="194"/>
                </a:lnTo>
                <a:lnTo>
                  <a:pt x="619" y="173"/>
                </a:lnTo>
                <a:lnTo>
                  <a:pt x="601" y="165"/>
                </a:lnTo>
                <a:lnTo>
                  <a:pt x="591" y="169"/>
                </a:lnTo>
                <a:lnTo>
                  <a:pt x="576" y="155"/>
                </a:lnTo>
                <a:lnTo>
                  <a:pt x="574" y="142"/>
                </a:lnTo>
                <a:lnTo>
                  <a:pt x="574" y="128"/>
                </a:lnTo>
                <a:lnTo>
                  <a:pt x="560" y="124"/>
                </a:lnTo>
                <a:lnTo>
                  <a:pt x="537" y="124"/>
                </a:lnTo>
                <a:lnTo>
                  <a:pt x="522" y="119"/>
                </a:lnTo>
                <a:lnTo>
                  <a:pt x="506" y="113"/>
                </a:lnTo>
                <a:lnTo>
                  <a:pt x="492" y="109"/>
                </a:lnTo>
                <a:lnTo>
                  <a:pt x="492" y="120"/>
                </a:lnTo>
                <a:lnTo>
                  <a:pt x="496" y="130"/>
                </a:lnTo>
                <a:lnTo>
                  <a:pt x="475" y="146"/>
                </a:lnTo>
                <a:lnTo>
                  <a:pt x="463" y="142"/>
                </a:lnTo>
                <a:lnTo>
                  <a:pt x="446" y="122"/>
                </a:lnTo>
                <a:lnTo>
                  <a:pt x="428" y="109"/>
                </a:lnTo>
                <a:lnTo>
                  <a:pt x="432" y="101"/>
                </a:lnTo>
                <a:lnTo>
                  <a:pt x="434" y="89"/>
                </a:lnTo>
                <a:lnTo>
                  <a:pt x="434" y="84"/>
                </a:lnTo>
                <a:lnTo>
                  <a:pt x="434" y="80"/>
                </a:lnTo>
                <a:lnTo>
                  <a:pt x="413" y="78"/>
                </a:lnTo>
                <a:lnTo>
                  <a:pt x="397" y="55"/>
                </a:lnTo>
                <a:lnTo>
                  <a:pt x="376" y="51"/>
                </a:lnTo>
                <a:lnTo>
                  <a:pt x="359" y="49"/>
                </a:lnTo>
                <a:lnTo>
                  <a:pt x="343" y="51"/>
                </a:lnTo>
                <a:lnTo>
                  <a:pt x="333" y="31"/>
                </a:lnTo>
                <a:lnTo>
                  <a:pt x="316" y="22"/>
                </a:lnTo>
                <a:lnTo>
                  <a:pt x="304" y="33"/>
                </a:lnTo>
                <a:lnTo>
                  <a:pt x="291" y="51"/>
                </a:lnTo>
                <a:lnTo>
                  <a:pt x="279" y="43"/>
                </a:lnTo>
                <a:lnTo>
                  <a:pt x="277" y="41"/>
                </a:lnTo>
                <a:lnTo>
                  <a:pt x="267" y="43"/>
                </a:lnTo>
                <a:lnTo>
                  <a:pt x="256" y="25"/>
                </a:lnTo>
                <a:lnTo>
                  <a:pt x="242" y="4"/>
                </a:lnTo>
                <a:lnTo>
                  <a:pt x="225" y="0"/>
                </a:lnTo>
                <a:lnTo>
                  <a:pt x="223" y="20"/>
                </a:lnTo>
                <a:lnTo>
                  <a:pt x="217" y="41"/>
                </a:lnTo>
                <a:lnTo>
                  <a:pt x="196" y="49"/>
                </a:lnTo>
                <a:lnTo>
                  <a:pt x="169" y="58"/>
                </a:lnTo>
                <a:lnTo>
                  <a:pt x="149" y="64"/>
                </a:lnTo>
                <a:lnTo>
                  <a:pt x="136" y="84"/>
                </a:lnTo>
                <a:lnTo>
                  <a:pt x="107" y="99"/>
                </a:lnTo>
                <a:lnTo>
                  <a:pt x="87" y="105"/>
                </a:lnTo>
                <a:lnTo>
                  <a:pt x="75" y="109"/>
                </a:lnTo>
                <a:lnTo>
                  <a:pt x="60" y="113"/>
                </a:lnTo>
                <a:lnTo>
                  <a:pt x="46" y="120"/>
                </a:lnTo>
                <a:lnTo>
                  <a:pt x="41" y="130"/>
                </a:lnTo>
                <a:lnTo>
                  <a:pt x="37" y="144"/>
                </a:lnTo>
                <a:lnTo>
                  <a:pt x="31" y="146"/>
                </a:lnTo>
                <a:lnTo>
                  <a:pt x="25" y="134"/>
                </a:lnTo>
                <a:lnTo>
                  <a:pt x="6" y="117"/>
                </a:lnTo>
                <a:lnTo>
                  <a:pt x="2" y="124"/>
                </a:lnTo>
                <a:lnTo>
                  <a:pt x="0" y="142"/>
                </a:lnTo>
                <a:lnTo>
                  <a:pt x="15" y="161"/>
                </a:lnTo>
                <a:lnTo>
                  <a:pt x="37" y="171"/>
                </a:lnTo>
                <a:lnTo>
                  <a:pt x="41" y="192"/>
                </a:lnTo>
                <a:lnTo>
                  <a:pt x="39" y="227"/>
                </a:lnTo>
                <a:lnTo>
                  <a:pt x="56" y="250"/>
                </a:lnTo>
                <a:lnTo>
                  <a:pt x="107" y="295"/>
                </a:lnTo>
                <a:lnTo>
                  <a:pt x="126" y="318"/>
                </a:lnTo>
                <a:lnTo>
                  <a:pt x="139" y="334"/>
                </a:lnTo>
                <a:lnTo>
                  <a:pt x="172" y="357"/>
                </a:lnTo>
                <a:lnTo>
                  <a:pt x="180" y="369"/>
                </a:lnTo>
                <a:lnTo>
                  <a:pt x="203" y="378"/>
                </a:lnTo>
                <a:lnTo>
                  <a:pt x="217" y="390"/>
                </a:lnTo>
                <a:lnTo>
                  <a:pt x="238" y="392"/>
                </a:lnTo>
                <a:lnTo>
                  <a:pt x="260" y="390"/>
                </a:lnTo>
                <a:lnTo>
                  <a:pt x="275" y="382"/>
                </a:lnTo>
                <a:lnTo>
                  <a:pt x="295" y="367"/>
                </a:lnTo>
                <a:lnTo>
                  <a:pt x="300" y="351"/>
                </a:lnTo>
                <a:lnTo>
                  <a:pt x="312" y="334"/>
                </a:lnTo>
                <a:lnTo>
                  <a:pt x="341" y="336"/>
                </a:lnTo>
                <a:lnTo>
                  <a:pt x="372" y="336"/>
                </a:lnTo>
                <a:lnTo>
                  <a:pt x="390" y="343"/>
                </a:lnTo>
                <a:lnTo>
                  <a:pt x="417" y="367"/>
                </a:lnTo>
                <a:lnTo>
                  <a:pt x="446" y="363"/>
                </a:lnTo>
                <a:lnTo>
                  <a:pt x="483" y="359"/>
                </a:lnTo>
                <a:lnTo>
                  <a:pt x="498" y="378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1557360"/>
            <a:ext cx="581040" cy="307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2133720"/>
            <a:ext cx="581040" cy="309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2781360"/>
            <a:ext cx="581040" cy="3096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280" y="1557360"/>
            <a:ext cx="86508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из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7840" y="2133720"/>
            <a:ext cx="10083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0200" y="2781360"/>
            <a:ext cx="100692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5600" rIns="75600" tIns="37800" bIns="37800" anchor="t">
            <a:spAutoFit/>
          </a:bodyPr>
          <a:p>
            <a:pPr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48200" y="4971960"/>
            <a:ext cx="931680" cy="370080"/>
          </a:xfrm>
          <a:custGeom>
            <a:avLst/>
            <a:gdLst/>
            <a:ahLst/>
            <a:rect l="l" t="t" r="r" b="b"/>
            <a:pathLst>
              <a:path w="802" h="392">
                <a:moveTo>
                  <a:pt x="457" y="35"/>
                </a:moveTo>
                <a:lnTo>
                  <a:pt x="453" y="50"/>
                </a:lnTo>
                <a:lnTo>
                  <a:pt x="440" y="58"/>
                </a:lnTo>
                <a:lnTo>
                  <a:pt x="422" y="64"/>
                </a:lnTo>
                <a:lnTo>
                  <a:pt x="413" y="77"/>
                </a:lnTo>
                <a:lnTo>
                  <a:pt x="407" y="97"/>
                </a:lnTo>
                <a:lnTo>
                  <a:pt x="364" y="112"/>
                </a:lnTo>
                <a:lnTo>
                  <a:pt x="354" y="134"/>
                </a:lnTo>
                <a:lnTo>
                  <a:pt x="354" y="165"/>
                </a:lnTo>
                <a:lnTo>
                  <a:pt x="366" y="196"/>
                </a:lnTo>
                <a:lnTo>
                  <a:pt x="368" y="211"/>
                </a:lnTo>
                <a:lnTo>
                  <a:pt x="352" y="217"/>
                </a:lnTo>
                <a:lnTo>
                  <a:pt x="345" y="201"/>
                </a:lnTo>
                <a:lnTo>
                  <a:pt x="316" y="200"/>
                </a:lnTo>
                <a:lnTo>
                  <a:pt x="294" y="192"/>
                </a:lnTo>
                <a:lnTo>
                  <a:pt x="287" y="201"/>
                </a:lnTo>
                <a:lnTo>
                  <a:pt x="269" y="203"/>
                </a:lnTo>
                <a:lnTo>
                  <a:pt x="246" y="205"/>
                </a:lnTo>
                <a:lnTo>
                  <a:pt x="224" y="207"/>
                </a:lnTo>
                <a:lnTo>
                  <a:pt x="205" y="219"/>
                </a:lnTo>
                <a:lnTo>
                  <a:pt x="186" y="231"/>
                </a:lnTo>
                <a:lnTo>
                  <a:pt x="159" y="229"/>
                </a:lnTo>
                <a:lnTo>
                  <a:pt x="135" y="211"/>
                </a:lnTo>
                <a:lnTo>
                  <a:pt x="112" y="207"/>
                </a:lnTo>
                <a:lnTo>
                  <a:pt x="98" y="221"/>
                </a:lnTo>
                <a:lnTo>
                  <a:pt x="93" y="231"/>
                </a:lnTo>
                <a:lnTo>
                  <a:pt x="81" y="236"/>
                </a:lnTo>
                <a:lnTo>
                  <a:pt x="64" y="227"/>
                </a:lnTo>
                <a:lnTo>
                  <a:pt x="54" y="209"/>
                </a:lnTo>
                <a:lnTo>
                  <a:pt x="38" y="203"/>
                </a:lnTo>
                <a:lnTo>
                  <a:pt x="19" y="203"/>
                </a:lnTo>
                <a:lnTo>
                  <a:pt x="0" y="211"/>
                </a:lnTo>
                <a:lnTo>
                  <a:pt x="13" y="225"/>
                </a:lnTo>
                <a:lnTo>
                  <a:pt x="5" y="244"/>
                </a:lnTo>
                <a:lnTo>
                  <a:pt x="0" y="262"/>
                </a:lnTo>
                <a:lnTo>
                  <a:pt x="13" y="287"/>
                </a:lnTo>
                <a:lnTo>
                  <a:pt x="25" y="295"/>
                </a:lnTo>
                <a:lnTo>
                  <a:pt x="46" y="306"/>
                </a:lnTo>
                <a:lnTo>
                  <a:pt x="64" y="310"/>
                </a:lnTo>
                <a:lnTo>
                  <a:pt x="77" y="302"/>
                </a:lnTo>
                <a:lnTo>
                  <a:pt x="87" y="308"/>
                </a:lnTo>
                <a:lnTo>
                  <a:pt x="93" y="314"/>
                </a:lnTo>
                <a:lnTo>
                  <a:pt x="98" y="318"/>
                </a:lnTo>
                <a:lnTo>
                  <a:pt x="116" y="324"/>
                </a:lnTo>
                <a:lnTo>
                  <a:pt x="126" y="324"/>
                </a:lnTo>
                <a:lnTo>
                  <a:pt x="157" y="316"/>
                </a:lnTo>
                <a:lnTo>
                  <a:pt x="170" y="310"/>
                </a:lnTo>
                <a:lnTo>
                  <a:pt x="195" y="300"/>
                </a:lnTo>
                <a:lnTo>
                  <a:pt x="232" y="300"/>
                </a:lnTo>
                <a:lnTo>
                  <a:pt x="252" y="298"/>
                </a:lnTo>
                <a:lnTo>
                  <a:pt x="261" y="291"/>
                </a:lnTo>
                <a:lnTo>
                  <a:pt x="273" y="291"/>
                </a:lnTo>
                <a:lnTo>
                  <a:pt x="277" y="295"/>
                </a:lnTo>
                <a:lnTo>
                  <a:pt x="275" y="302"/>
                </a:lnTo>
                <a:lnTo>
                  <a:pt x="279" y="320"/>
                </a:lnTo>
                <a:lnTo>
                  <a:pt x="287" y="333"/>
                </a:lnTo>
                <a:lnTo>
                  <a:pt x="294" y="341"/>
                </a:lnTo>
                <a:lnTo>
                  <a:pt x="308" y="349"/>
                </a:lnTo>
                <a:lnTo>
                  <a:pt x="318" y="351"/>
                </a:lnTo>
                <a:lnTo>
                  <a:pt x="335" y="366"/>
                </a:lnTo>
                <a:lnTo>
                  <a:pt x="354" y="368"/>
                </a:lnTo>
                <a:lnTo>
                  <a:pt x="372" y="372"/>
                </a:lnTo>
                <a:lnTo>
                  <a:pt x="395" y="374"/>
                </a:lnTo>
                <a:lnTo>
                  <a:pt x="413" y="378"/>
                </a:lnTo>
                <a:lnTo>
                  <a:pt x="422" y="384"/>
                </a:lnTo>
                <a:lnTo>
                  <a:pt x="438" y="386"/>
                </a:lnTo>
                <a:lnTo>
                  <a:pt x="471" y="386"/>
                </a:lnTo>
                <a:lnTo>
                  <a:pt x="502" y="390"/>
                </a:lnTo>
                <a:lnTo>
                  <a:pt x="513" y="392"/>
                </a:lnTo>
                <a:lnTo>
                  <a:pt x="527" y="392"/>
                </a:lnTo>
                <a:lnTo>
                  <a:pt x="533" y="390"/>
                </a:lnTo>
                <a:lnTo>
                  <a:pt x="544" y="382"/>
                </a:lnTo>
                <a:lnTo>
                  <a:pt x="552" y="370"/>
                </a:lnTo>
                <a:lnTo>
                  <a:pt x="562" y="362"/>
                </a:lnTo>
                <a:lnTo>
                  <a:pt x="577" y="357"/>
                </a:lnTo>
                <a:lnTo>
                  <a:pt x="587" y="355"/>
                </a:lnTo>
                <a:lnTo>
                  <a:pt x="605" y="359"/>
                </a:lnTo>
                <a:lnTo>
                  <a:pt x="614" y="361"/>
                </a:lnTo>
                <a:lnTo>
                  <a:pt x="624" y="362"/>
                </a:lnTo>
                <a:lnTo>
                  <a:pt x="636" y="347"/>
                </a:lnTo>
                <a:lnTo>
                  <a:pt x="641" y="345"/>
                </a:lnTo>
                <a:lnTo>
                  <a:pt x="661" y="347"/>
                </a:lnTo>
                <a:lnTo>
                  <a:pt x="672" y="349"/>
                </a:lnTo>
                <a:lnTo>
                  <a:pt x="676" y="349"/>
                </a:lnTo>
                <a:lnTo>
                  <a:pt x="680" y="341"/>
                </a:lnTo>
                <a:lnTo>
                  <a:pt x="680" y="333"/>
                </a:lnTo>
                <a:lnTo>
                  <a:pt x="696" y="326"/>
                </a:lnTo>
                <a:lnTo>
                  <a:pt x="700" y="320"/>
                </a:lnTo>
                <a:lnTo>
                  <a:pt x="715" y="304"/>
                </a:lnTo>
                <a:lnTo>
                  <a:pt x="738" y="298"/>
                </a:lnTo>
                <a:lnTo>
                  <a:pt x="735" y="277"/>
                </a:lnTo>
                <a:lnTo>
                  <a:pt x="735" y="260"/>
                </a:lnTo>
                <a:lnTo>
                  <a:pt x="738" y="250"/>
                </a:lnTo>
                <a:lnTo>
                  <a:pt x="750" y="225"/>
                </a:lnTo>
                <a:lnTo>
                  <a:pt x="738" y="207"/>
                </a:lnTo>
                <a:lnTo>
                  <a:pt x="744" y="192"/>
                </a:lnTo>
                <a:lnTo>
                  <a:pt x="766" y="192"/>
                </a:lnTo>
                <a:lnTo>
                  <a:pt x="795" y="192"/>
                </a:lnTo>
                <a:lnTo>
                  <a:pt x="802" y="174"/>
                </a:lnTo>
                <a:lnTo>
                  <a:pt x="802" y="153"/>
                </a:lnTo>
                <a:lnTo>
                  <a:pt x="802" y="137"/>
                </a:lnTo>
                <a:lnTo>
                  <a:pt x="802" y="134"/>
                </a:lnTo>
                <a:lnTo>
                  <a:pt x="789" y="112"/>
                </a:lnTo>
                <a:lnTo>
                  <a:pt x="777" y="70"/>
                </a:lnTo>
                <a:lnTo>
                  <a:pt x="775" y="44"/>
                </a:lnTo>
                <a:lnTo>
                  <a:pt x="760" y="25"/>
                </a:lnTo>
                <a:lnTo>
                  <a:pt x="723" y="29"/>
                </a:lnTo>
                <a:lnTo>
                  <a:pt x="694" y="33"/>
                </a:lnTo>
                <a:lnTo>
                  <a:pt x="667" y="9"/>
                </a:lnTo>
                <a:lnTo>
                  <a:pt x="649" y="2"/>
                </a:lnTo>
                <a:lnTo>
                  <a:pt x="618" y="2"/>
                </a:lnTo>
                <a:lnTo>
                  <a:pt x="589" y="0"/>
                </a:lnTo>
                <a:lnTo>
                  <a:pt x="577" y="17"/>
                </a:lnTo>
                <a:lnTo>
                  <a:pt x="572" y="33"/>
                </a:lnTo>
                <a:lnTo>
                  <a:pt x="552" y="48"/>
                </a:lnTo>
                <a:lnTo>
                  <a:pt x="537" y="56"/>
                </a:lnTo>
                <a:lnTo>
                  <a:pt x="515" y="58"/>
                </a:lnTo>
                <a:lnTo>
                  <a:pt x="494" y="56"/>
                </a:lnTo>
                <a:lnTo>
                  <a:pt x="480" y="44"/>
                </a:lnTo>
                <a:lnTo>
                  <a:pt x="457" y="35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3080" y="3984480"/>
            <a:ext cx="1163520" cy="1233720"/>
          </a:xfrm>
          <a:custGeom>
            <a:avLst/>
            <a:gdLst/>
            <a:ahLst/>
            <a:rect l="l" t="t" r="r" b="b"/>
            <a:pathLst>
              <a:path w="877" h="1181">
                <a:moveTo>
                  <a:pt x="498" y="159"/>
                </a:moveTo>
                <a:lnTo>
                  <a:pt x="500" y="169"/>
                </a:lnTo>
                <a:lnTo>
                  <a:pt x="510" y="161"/>
                </a:lnTo>
                <a:lnTo>
                  <a:pt x="526" y="155"/>
                </a:lnTo>
                <a:lnTo>
                  <a:pt x="535" y="159"/>
                </a:lnTo>
                <a:lnTo>
                  <a:pt x="545" y="161"/>
                </a:lnTo>
                <a:lnTo>
                  <a:pt x="561" y="161"/>
                </a:lnTo>
                <a:lnTo>
                  <a:pt x="555" y="154"/>
                </a:lnTo>
                <a:lnTo>
                  <a:pt x="561" y="152"/>
                </a:lnTo>
                <a:lnTo>
                  <a:pt x="566" y="146"/>
                </a:lnTo>
                <a:lnTo>
                  <a:pt x="580" y="134"/>
                </a:lnTo>
                <a:lnTo>
                  <a:pt x="599" y="130"/>
                </a:lnTo>
                <a:lnTo>
                  <a:pt x="613" y="128"/>
                </a:lnTo>
                <a:lnTo>
                  <a:pt x="613" y="138"/>
                </a:lnTo>
                <a:lnTo>
                  <a:pt x="621" y="134"/>
                </a:lnTo>
                <a:lnTo>
                  <a:pt x="630" y="119"/>
                </a:lnTo>
                <a:lnTo>
                  <a:pt x="638" y="107"/>
                </a:lnTo>
                <a:lnTo>
                  <a:pt x="652" y="91"/>
                </a:lnTo>
                <a:lnTo>
                  <a:pt x="667" y="91"/>
                </a:lnTo>
                <a:lnTo>
                  <a:pt x="677" y="91"/>
                </a:lnTo>
                <a:lnTo>
                  <a:pt x="661" y="99"/>
                </a:lnTo>
                <a:lnTo>
                  <a:pt x="652" y="111"/>
                </a:lnTo>
                <a:lnTo>
                  <a:pt x="648" y="119"/>
                </a:lnTo>
                <a:lnTo>
                  <a:pt x="659" y="111"/>
                </a:lnTo>
                <a:lnTo>
                  <a:pt x="671" y="107"/>
                </a:lnTo>
                <a:lnTo>
                  <a:pt x="687" y="103"/>
                </a:lnTo>
                <a:lnTo>
                  <a:pt x="698" y="103"/>
                </a:lnTo>
                <a:lnTo>
                  <a:pt x="708" y="113"/>
                </a:lnTo>
                <a:lnTo>
                  <a:pt x="718" y="122"/>
                </a:lnTo>
                <a:lnTo>
                  <a:pt x="721" y="134"/>
                </a:lnTo>
                <a:lnTo>
                  <a:pt x="729" y="136"/>
                </a:lnTo>
                <a:lnTo>
                  <a:pt x="737" y="144"/>
                </a:lnTo>
                <a:lnTo>
                  <a:pt x="749" y="144"/>
                </a:lnTo>
                <a:lnTo>
                  <a:pt x="754" y="142"/>
                </a:lnTo>
                <a:lnTo>
                  <a:pt x="760" y="154"/>
                </a:lnTo>
                <a:lnTo>
                  <a:pt x="768" y="167"/>
                </a:lnTo>
                <a:lnTo>
                  <a:pt x="770" y="188"/>
                </a:lnTo>
                <a:lnTo>
                  <a:pt x="784" y="194"/>
                </a:lnTo>
                <a:lnTo>
                  <a:pt x="795" y="200"/>
                </a:lnTo>
                <a:lnTo>
                  <a:pt x="807" y="200"/>
                </a:lnTo>
                <a:lnTo>
                  <a:pt x="813" y="218"/>
                </a:lnTo>
                <a:lnTo>
                  <a:pt x="818" y="233"/>
                </a:lnTo>
                <a:lnTo>
                  <a:pt x="824" y="247"/>
                </a:lnTo>
                <a:lnTo>
                  <a:pt x="824" y="274"/>
                </a:lnTo>
                <a:lnTo>
                  <a:pt x="822" y="295"/>
                </a:lnTo>
                <a:lnTo>
                  <a:pt x="813" y="316"/>
                </a:lnTo>
                <a:lnTo>
                  <a:pt x="805" y="338"/>
                </a:lnTo>
                <a:lnTo>
                  <a:pt x="805" y="349"/>
                </a:lnTo>
                <a:lnTo>
                  <a:pt x="817" y="357"/>
                </a:lnTo>
                <a:lnTo>
                  <a:pt x="828" y="367"/>
                </a:lnTo>
                <a:lnTo>
                  <a:pt x="832" y="382"/>
                </a:lnTo>
                <a:lnTo>
                  <a:pt x="834" y="404"/>
                </a:lnTo>
                <a:lnTo>
                  <a:pt x="836" y="425"/>
                </a:lnTo>
                <a:lnTo>
                  <a:pt x="840" y="441"/>
                </a:lnTo>
                <a:lnTo>
                  <a:pt x="844" y="470"/>
                </a:lnTo>
                <a:lnTo>
                  <a:pt x="842" y="487"/>
                </a:lnTo>
                <a:lnTo>
                  <a:pt x="844" y="505"/>
                </a:lnTo>
                <a:lnTo>
                  <a:pt x="846" y="530"/>
                </a:lnTo>
                <a:lnTo>
                  <a:pt x="857" y="545"/>
                </a:lnTo>
                <a:lnTo>
                  <a:pt x="869" y="559"/>
                </a:lnTo>
                <a:lnTo>
                  <a:pt x="875" y="565"/>
                </a:lnTo>
                <a:lnTo>
                  <a:pt x="877" y="572"/>
                </a:lnTo>
                <a:lnTo>
                  <a:pt x="875" y="607"/>
                </a:lnTo>
                <a:lnTo>
                  <a:pt x="867" y="640"/>
                </a:lnTo>
                <a:lnTo>
                  <a:pt x="863" y="650"/>
                </a:lnTo>
                <a:lnTo>
                  <a:pt x="861" y="652"/>
                </a:lnTo>
                <a:lnTo>
                  <a:pt x="861" y="654"/>
                </a:lnTo>
                <a:lnTo>
                  <a:pt x="859" y="652"/>
                </a:lnTo>
                <a:lnTo>
                  <a:pt x="849" y="654"/>
                </a:lnTo>
                <a:lnTo>
                  <a:pt x="838" y="636"/>
                </a:lnTo>
                <a:lnTo>
                  <a:pt x="824" y="615"/>
                </a:lnTo>
                <a:lnTo>
                  <a:pt x="807" y="611"/>
                </a:lnTo>
                <a:lnTo>
                  <a:pt x="805" y="631"/>
                </a:lnTo>
                <a:lnTo>
                  <a:pt x="799" y="652"/>
                </a:lnTo>
                <a:lnTo>
                  <a:pt x="778" y="660"/>
                </a:lnTo>
                <a:lnTo>
                  <a:pt x="751" y="669"/>
                </a:lnTo>
                <a:lnTo>
                  <a:pt x="731" y="675"/>
                </a:lnTo>
                <a:lnTo>
                  <a:pt x="718" y="695"/>
                </a:lnTo>
                <a:lnTo>
                  <a:pt x="689" y="710"/>
                </a:lnTo>
                <a:lnTo>
                  <a:pt x="669" y="716"/>
                </a:lnTo>
                <a:lnTo>
                  <a:pt x="657" y="720"/>
                </a:lnTo>
                <a:lnTo>
                  <a:pt x="642" y="724"/>
                </a:lnTo>
                <a:lnTo>
                  <a:pt x="628" y="731"/>
                </a:lnTo>
                <a:lnTo>
                  <a:pt x="623" y="741"/>
                </a:lnTo>
                <a:lnTo>
                  <a:pt x="619" y="755"/>
                </a:lnTo>
                <a:lnTo>
                  <a:pt x="613" y="757"/>
                </a:lnTo>
                <a:lnTo>
                  <a:pt x="607" y="745"/>
                </a:lnTo>
                <a:lnTo>
                  <a:pt x="588" y="728"/>
                </a:lnTo>
                <a:lnTo>
                  <a:pt x="584" y="735"/>
                </a:lnTo>
                <a:lnTo>
                  <a:pt x="582" y="753"/>
                </a:lnTo>
                <a:lnTo>
                  <a:pt x="597" y="772"/>
                </a:lnTo>
                <a:lnTo>
                  <a:pt x="619" y="782"/>
                </a:lnTo>
                <a:lnTo>
                  <a:pt x="623" y="803"/>
                </a:lnTo>
                <a:lnTo>
                  <a:pt x="621" y="838"/>
                </a:lnTo>
                <a:lnTo>
                  <a:pt x="638" y="861"/>
                </a:lnTo>
                <a:lnTo>
                  <a:pt x="689" y="906"/>
                </a:lnTo>
                <a:lnTo>
                  <a:pt x="708" y="929"/>
                </a:lnTo>
                <a:lnTo>
                  <a:pt x="721" y="945"/>
                </a:lnTo>
                <a:lnTo>
                  <a:pt x="754" y="968"/>
                </a:lnTo>
                <a:lnTo>
                  <a:pt x="762" y="980"/>
                </a:lnTo>
                <a:lnTo>
                  <a:pt x="758" y="995"/>
                </a:lnTo>
                <a:lnTo>
                  <a:pt x="745" y="1003"/>
                </a:lnTo>
                <a:lnTo>
                  <a:pt x="727" y="1009"/>
                </a:lnTo>
                <a:lnTo>
                  <a:pt x="718" y="1022"/>
                </a:lnTo>
                <a:lnTo>
                  <a:pt x="712" y="1042"/>
                </a:lnTo>
                <a:lnTo>
                  <a:pt x="669" y="1057"/>
                </a:lnTo>
                <a:lnTo>
                  <a:pt x="659" y="1079"/>
                </a:lnTo>
                <a:lnTo>
                  <a:pt x="659" y="1110"/>
                </a:lnTo>
                <a:lnTo>
                  <a:pt x="671" y="1141"/>
                </a:lnTo>
                <a:lnTo>
                  <a:pt x="673" y="1156"/>
                </a:lnTo>
                <a:lnTo>
                  <a:pt x="657" y="1162"/>
                </a:lnTo>
                <a:lnTo>
                  <a:pt x="650" y="1146"/>
                </a:lnTo>
                <a:lnTo>
                  <a:pt x="621" y="1145"/>
                </a:lnTo>
                <a:lnTo>
                  <a:pt x="599" y="1137"/>
                </a:lnTo>
                <a:lnTo>
                  <a:pt x="592" y="1146"/>
                </a:lnTo>
                <a:lnTo>
                  <a:pt x="574" y="1148"/>
                </a:lnTo>
                <a:lnTo>
                  <a:pt x="551" y="1150"/>
                </a:lnTo>
                <a:lnTo>
                  <a:pt x="529" y="1152"/>
                </a:lnTo>
                <a:lnTo>
                  <a:pt x="510" y="1164"/>
                </a:lnTo>
                <a:lnTo>
                  <a:pt x="491" y="1176"/>
                </a:lnTo>
                <a:lnTo>
                  <a:pt x="464" y="1174"/>
                </a:lnTo>
                <a:lnTo>
                  <a:pt x="440" y="1156"/>
                </a:lnTo>
                <a:lnTo>
                  <a:pt x="417" y="1152"/>
                </a:lnTo>
                <a:lnTo>
                  <a:pt x="403" y="1166"/>
                </a:lnTo>
                <a:lnTo>
                  <a:pt x="398" y="1176"/>
                </a:lnTo>
                <a:lnTo>
                  <a:pt x="386" y="1181"/>
                </a:lnTo>
                <a:lnTo>
                  <a:pt x="369" y="1172"/>
                </a:lnTo>
                <a:lnTo>
                  <a:pt x="359" y="1154"/>
                </a:lnTo>
                <a:lnTo>
                  <a:pt x="343" y="1148"/>
                </a:lnTo>
                <a:lnTo>
                  <a:pt x="324" y="1148"/>
                </a:lnTo>
                <a:lnTo>
                  <a:pt x="305" y="1156"/>
                </a:lnTo>
                <a:lnTo>
                  <a:pt x="293" y="1148"/>
                </a:lnTo>
                <a:lnTo>
                  <a:pt x="273" y="1137"/>
                </a:lnTo>
                <a:lnTo>
                  <a:pt x="254" y="1127"/>
                </a:lnTo>
                <a:lnTo>
                  <a:pt x="235" y="1123"/>
                </a:lnTo>
                <a:lnTo>
                  <a:pt x="184" y="1127"/>
                </a:lnTo>
                <a:lnTo>
                  <a:pt x="161" y="1127"/>
                </a:lnTo>
                <a:lnTo>
                  <a:pt x="134" y="1127"/>
                </a:lnTo>
                <a:lnTo>
                  <a:pt x="118" y="1129"/>
                </a:lnTo>
                <a:lnTo>
                  <a:pt x="105" y="1117"/>
                </a:lnTo>
                <a:lnTo>
                  <a:pt x="105" y="1117"/>
                </a:lnTo>
                <a:lnTo>
                  <a:pt x="101" y="1110"/>
                </a:lnTo>
                <a:lnTo>
                  <a:pt x="101" y="1092"/>
                </a:lnTo>
                <a:lnTo>
                  <a:pt x="103" y="1067"/>
                </a:lnTo>
                <a:lnTo>
                  <a:pt x="109" y="1040"/>
                </a:lnTo>
                <a:lnTo>
                  <a:pt x="128" y="995"/>
                </a:lnTo>
                <a:lnTo>
                  <a:pt x="136" y="972"/>
                </a:lnTo>
                <a:lnTo>
                  <a:pt x="155" y="953"/>
                </a:lnTo>
                <a:lnTo>
                  <a:pt x="173" y="933"/>
                </a:lnTo>
                <a:lnTo>
                  <a:pt x="178" y="912"/>
                </a:lnTo>
                <a:lnTo>
                  <a:pt x="155" y="898"/>
                </a:lnTo>
                <a:lnTo>
                  <a:pt x="128" y="887"/>
                </a:lnTo>
                <a:lnTo>
                  <a:pt x="83" y="867"/>
                </a:lnTo>
                <a:lnTo>
                  <a:pt x="68" y="863"/>
                </a:lnTo>
                <a:lnTo>
                  <a:pt x="47" y="859"/>
                </a:lnTo>
                <a:lnTo>
                  <a:pt x="39" y="840"/>
                </a:lnTo>
                <a:lnTo>
                  <a:pt x="29" y="825"/>
                </a:lnTo>
                <a:lnTo>
                  <a:pt x="17" y="813"/>
                </a:lnTo>
                <a:lnTo>
                  <a:pt x="8" y="801"/>
                </a:lnTo>
                <a:lnTo>
                  <a:pt x="8" y="803"/>
                </a:lnTo>
                <a:lnTo>
                  <a:pt x="17" y="790"/>
                </a:lnTo>
                <a:lnTo>
                  <a:pt x="17" y="770"/>
                </a:lnTo>
                <a:lnTo>
                  <a:pt x="14" y="757"/>
                </a:lnTo>
                <a:lnTo>
                  <a:pt x="6" y="741"/>
                </a:lnTo>
                <a:lnTo>
                  <a:pt x="8" y="728"/>
                </a:lnTo>
                <a:lnTo>
                  <a:pt x="14" y="716"/>
                </a:lnTo>
                <a:lnTo>
                  <a:pt x="0" y="704"/>
                </a:lnTo>
                <a:lnTo>
                  <a:pt x="0" y="706"/>
                </a:lnTo>
                <a:lnTo>
                  <a:pt x="21" y="679"/>
                </a:lnTo>
                <a:lnTo>
                  <a:pt x="23" y="664"/>
                </a:lnTo>
                <a:lnTo>
                  <a:pt x="17" y="646"/>
                </a:lnTo>
                <a:lnTo>
                  <a:pt x="16" y="631"/>
                </a:lnTo>
                <a:lnTo>
                  <a:pt x="16" y="627"/>
                </a:lnTo>
                <a:lnTo>
                  <a:pt x="8" y="615"/>
                </a:lnTo>
                <a:lnTo>
                  <a:pt x="10" y="603"/>
                </a:lnTo>
                <a:lnTo>
                  <a:pt x="8" y="590"/>
                </a:lnTo>
                <a:lnTo>
                  <a:pt x="6" y="572"/>
                </a:lnTo>
                <a:lnTo>
                  <a:pt x="8" y="559"/>
                </a:lnTo>
                <a:lnTo>
                  <a:pt x="21" y="547"/>
                </a:lnTo>
                <a:lnTo>
                  <a:pt x="25" y="514"/>
                </a:lnTo>
                <a:lnTo>
                  <a:pt x="29" y="495"/>
                </a:lnTo>
                <a:lnTo>
                  <a:pt x="29" y="475"/>
                </a:lnTo>
                <a:lnTo>
                  <a:pt x="27" y="448"/>
                </a:lnTo>
                <a:lnTo>
                  <a:pt x="29" y="435"/>
                </a:lnTo>
                <a:lnTo>
                  <a:pt x="47" y="437"/>
                </a:lnTo>
                <a:lnTo>
                  <a:pt x="68" y="448"/>
                </a:lnTo>
                <a:lnTo>
                  <a:pt x="81" y="446"/>
                </a:lnTo>
                <a:lnTo>
                  <a:pt x="93" y="431"/>
                </a:lnTo>
                <a:lnTo>
                  <a:pt x="97" y="411"/>
                </a:lnTo>
                <a:lnTo>
                  <a:pt x="116" y="400"/>
                </a:lnTo>
                <a:lnTo>
                  <a:pt x="130" y="386"/>
                </a:lnTo>
                <a:lnTo>
                  <a:pt x="136" y="367"/>
                </a:lnTo>
                <a:lnTo>
                  <a:pt x="105" y="347"/>
                </a:lnTo>
                <a:lnTo>
                  <a:pt x="105" y="332"/>
                </a:lnTo>
                <a:lnTo>
                  <a:pt x="113" y="328"/>
                </a:lnTo>
                <a:lnTo>
                  <a:pt x="132" y="316"/>
                </a:lnTo>
                <a:lnTo>
                  <a:pt x="138" y="299"/>
                </a:lnTo>
                <a:lnTo>
                  <a:pt x="144" y="282"/>
                </a:lnTo>
                <a:lnTo>
                  <a:pt x="149" y="264"/>
                </a:lnTo>
                <a:lnTo>
                  <a:pt x="155" y="249"/>
                </a:lnTo>
                <a:lnTo>
                  <a:pt x="157" y="241"/>
                </a:lnTo>
                <a:lnTo>
                  <a:pt x="184" y="239"/>
                </a:lnTo>
                <a:lnTo>
                  <a:pt x="190" y="252"/>
                </a:lnTo>
                <a:lnTo>
                  <a:pt x="194" y="256"/>
                </a:lnTo>
                <a:lnTo>
                  <a:pt x="190" y="239"/>
                </a:lnTo>
                <a:lnTo>
                  <a:pt x="184" y="231"/>
                </a:lnTo>
                <a:lnTo>
                  <a:pt x="175" y="223"/>
                </a:lnTo>
                <a:lnTo>
                  <a:pt x="165" y="219"/>
                </a:lnTo>
                <a:lnTo>
                  <a:pt x="159" y="216"/>
                </a:lnTo>
                <a:lnTo>
                  <a:pt x="157" y="212"/>
                </a:lnTo>
                <a:lnTo>
                  <a:pt x="163" y="200"/>
                </a:lnTo>
                <a:lnTo>
                  <a:pt x="171" y="194"/>
                </a:lnTo>
                <a:lnTo>
                  <a:pt x="178" y="181"/>
                </a:lnTo>
                <a:lnTo>
                  <a:pt x="196" y="179"/>
                </a:lnTo>
                <a:lnTo>
                  <a:pt x="225" y="179"/>
                </a:lnTo>
                <a:lnTo>
                  <a:pt x="250" y="186"/>
                </a:lnTo>
                <a:lnTo>
                  <a:pt x="258" y="202"/>
                </a:lnTo>
                <a:lnTo>
                  <a:pt x="258" y="223"/>
                </a:lnTo>
                <a:lnTo>
                  <a:pt x="272" y="223"/>
                </a:lnTo>
                <a:lnTo>
                  <a:pt x="273" y="206"/>
                </a:lnTo>
                <a:lnTo>
                  <a:pt x="285" y="212"/>
                </a:lnTo>
                <a:lnTo>
                  <a:pt x="293" y="233"/>
                </a:lnTo>
                <a:lnTo>
                  <a:pt x="301" y="247"/>
                </a:lnTo>
                <a:lnTo>
                  <a:pt x="293" y="212"/>
                </a:lnTo>
                <a:lnTo>
                  <a:pt x="295" y="200"/>
                </a:lnTo>
                <a:lnTo>
                  <a:pt x="297" y="181"/>
                </a:lnTo>
                <a:lnTo>
                  <a:pt x="301" y="175"/>
                </a:lnTo>
                <a:lnTo>
                  <a:pt x="308" y="163"/>
                </a:lnTo>
                <a:lnTo>
                  <a:pt x="318" y="165"/>
                </a:lnTo>
                <a:lnTo>
                  <a:pt x="345" y="165"/>
                </a:lnTo>
                <a:lnTo>
                  <a:pt x="349" y="161"/>
                </a:lnTo>
                <a:lnTo>
                  <a:pt x="337" y="154"/>
                </a:lnTo>
                <a:lnTo>
                  <a:pt x="328" y="144"/>
                </a:lnTo>
                <a:lnTo>
                  <a:pt x="330" y="132"/>
                </a:lnTo>
                <a:lnTo>
                  <a:pt x="337" y="130"/>
                </a:lnTo>
                <a:lnTo>
                  <a:pt x="339" y="124"/>
                </a:lnTo>
                <a:lnTo>
                  <a:pt x="334" y="117"/>
                </a:lnTo>
                <a:lnTo>
                  <a:pt x="330" y="107"/>
                </a:lnTo>
                <a:lnTo>
                  <a:pt x="334" y="97"/>
                </a:lnTo>
                <a:lnTo>
                  <a:pt x="326" y="91"/>
                </a:lnTo>
                <a:lnTo>
                  <a:pt x="316" y="90"/>
                </a:lnTo>
                <a:lnTo>
                  <a:pt x="324" y="82"/>
                </a:lnTo>
                <a:lnTo>
                  <a:pt x="324" y="76"/>
                </a:lnTo>
                <a:lnTo>
                  <a:pt x="337" y="70"/>
                </a:lnTo>
                <a:lnTo>
                  <a:pt x="347" y="64"/>
                </a:lnTo>
                <a:lnTo>
                  <a:pt x="343" y="53"/>
                </a:lnTo>
                <a:lnTo>
                  <a:pt x="336" y="41"/>
                </a:lnTo>
                <a:lnTo>
                  <a:pt x="330" y="27"/>
                </a:lnTo>
                <a:lnTo>
                  <a:pt x="324" y="16"/>
                </a:lnTo>
                <a:lnTo>
                  <a:pt x="326" y="8"/>
                </a:lnTo>
                <a:lnTo>
                  <a:pt x="326" y="0"/>
                </a:lnTo>
                <a:lnTo>
                  <a:pt x="339" y="0"/>
                </a:lnTo>
                <a:lnTo>
                  <a:pt x="376" y="14"/>
                </a:lnTo>
                <a:lnTo>
                  <a:pt x="388" y="8"/>
                </a:lnTo>
                <a:lnTo>
                  <a:pt x="398" y="8"/>
                </a:lnTo>
                <a:lnTo>
                  <a:pt x="392" y="8"/>
                </a:lnTo>
                <a:lnTo>
                  <a:pt x="388" y="16"/>
                </a:lnTo>
                <a:lnTo>
                  <a:pt x="401" y="16"/>
                </a:lnTo>
                <a:lnTo>
                  <a:pt x="413" y="22"/>
                </a:lnTo>
                <a:lnTo>
                  <a:pt x="425" y="27"/>
                </a:lnTo>
                <a:lnTo>
                  <a:pt x="433" y="45"/>
                </a:lnTo>
                <a:lnTo>
                  <a:pt x="433" y="58"/>
                </a:lnTo>
                <a:lnTo>
                  <a:pt x="421" y="72"/>
                </a:lnTo>
                <a:lnTo>
                  <a:pt x="425" y="78"/>
                </a:lnTo>
                <a:lnTo>
                  <a:pt x="438" y="80"/>
                </a:lnTo>
                <a:lnTo>
                  <a:pt x="438" y="91"/>
                </a:lnTo>
                <a:lnTo>
                  <a:pt x="448" y="91"/>
                </a:lnTo>
                <a:lnTo>
                  <a:pt x="454" y="84"/>
                </a:lnTo>
                <a:lnTo>
                  <a:pt x="475" y="91"/>
                </a:lnTo>
                <a:lnTo>
                  <a:pt x="481" y="103"/>
                </a:lnTo>
                <a:lnTo>
                  <a:pt x="491" y="103"/>
                </a:lnTo>
                <a:lnTo>
                  <a:pt x="510" y="99"/>
                </a:lnTo>
                <a:lnTo>
                  <a:pt x="520" y="95"/>
                </a:lnTo>
                <a:lnTo>
                  <a:pt x="526" y="101"/>
                </a:lnTo>
                <a:lnTo>
                  <a:pt x="526" y="117"/>
                </a:lnTo>
                <a:lnTo>
                  <a:pt x="516" y="128"/>
                </a:lnTo>
                <a:lnTo>
                  <a:pt x="502" y="136"/>
                </a:lnTo>
                <a:lnTo>
                  <a:pt x="497" y="150"/>
                </a:lnTo>
                <a:lnTo>
                  <a:pt x="498" y="159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37372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ссия имеет огромный потенциал в развитии рынка, но и высокие р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3933720"/>
            <a:ext cx="143964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7a0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сийский рынок Д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481640"/>
            <a:ext cx="8136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директ-мейл в России растет быстрыми темпами, но остается значительный потенциал развития по сравнению со странами со сравнимым уровнем среднедушевых доходов: до 30-50 отправлений директ-мейл на человека к 2008 г, по сравнению с 10 в 2003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00720" y="1341360"/>
            <a:ext cx="4111560" cy="1695240"/>
            <a:chOff x="4500720" y="1341360"/>
            <a:chExt cx="4111560" cy="1695240"/>
          </a:xfrm>
        </p:grpSpPr>
        <p:graphicFrame>
          <p:nvGraphicFramePr>
            <p:cNvPr id="142" name=""/>
            <p:cNvGraphicFramePr/>
            <p:nvPr/>
          </p:nvGraphicFramePr>
          <p:xfrm>
            <a:off x="4573800" y="1341360"/>
            <a:ext cx="4038480" cy="154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3800" y="1341360"/>
                      <a:ext cx="4038480" cy="15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"/>
            <p:cNvSpPr/>
            <p:nvPr/>
          </p:nvSpPr>
          <p:spPr>
            <a:xfrm>
              <a:off x="4500720" y="2853720"/>
              <a:ext cx="99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Моск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65800" y="2853720"/>
              <a:ext cx="13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.-Петербур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16720" y="2853720"/>
              <a:ext cx="116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Краснод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13800" y="2853720"/>
              <a:ext cx="56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Рос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572000" y="3360600"/>
            <a:ext cx="4176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оцент директ-мейл корреспонденции* от почтового потока адресной корреспонденции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197000"/>
          <a:ext cx="3851280" cy="2082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97000"/>
                    <a:ext cx="385128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324000" y="3080160"/>
            <a:ext cx="3998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редняя доля директ-мейл в крупных горо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7080" y="836640"/>
            <a:ext cx="75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м рынка – 1425 млн. шт. адресных и безадресных отпра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5832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ЧТА СЕГОД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628640"/>
            <a:ext cx="42116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1 Управление федеральной почтовой связи – филиала ФГУП «Почта Росс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 400 почтовых отделений по всей территории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олее 330 000 сотруд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ставка 1.2 млрд. писем, 3 млрд.шт. печатных изданий, 13.1 млн. посылок и 73.8 млн. денежных перев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537080" cy="2622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427640" y="1268280"/>
            <a:ext cx="4248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оссийская практика: результаты маркетинговых исследов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5400" y="1218960"/>
            <a:ext cx="8751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24000" y="1773360"/>
          <a:ext cx="8496000" cy="47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849600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4165560" y="6507000"/>
            <a:ext cx="32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Использующие прямую рассылку 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[</a:t>
            </a: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407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79640" y="1700280"/>
            <a:ext cx="4753080" cy="11912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ее половины компаний рассылают более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писем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476360" y="1268280"/>
            <a:ext cx="65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аков общий объем рассылки в г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ВП и рекламные расходы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а душу населения,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6192720" cy="474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56000" y="6308640"/>
            <a:ext cx="53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кламные расходы на душу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1186920" y="2276640"/>
            <a:ext cx="485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ВП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а душу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36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исслед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5400" y="1218960"/>
            <a:ext cx="8751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907920"/>
            <a:ext cx="65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аков общий объем рассылки в го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30320" y="1509840"/>
          <a:ext cx="88185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" y="1509840"/>
                    <a:ext cx="88185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165560" y="6519960"/>
            <a:ext cx="32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Использующие прямую рассылку 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[</a:t>
            </a: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407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75160" y="1539720"/>
            <a:ext cx="12600" cy="473400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езультаты исслед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85400" y="1218960"/>
            <a:ext cx="8751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79560" y="1519200"/>
          <a:ext cx="7130880" cy="476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9560" y="1519200"/>
                    <a:ext cx="7130880" cy="47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3360" y="1171440"/>
            <a:ext cx="88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зменился ли за последние 12 месяцев объем рассылки по сравнению с предыдущим периодом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165560" y="6519960"/>
            <a:ext cx="32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Использующие прямую рассылку 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[</a:t>
            </a: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407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6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исследов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5400" y="1218960"/>
            <a:ext cx="8751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165560" y="6507000"/>
            <a:ext cx="32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Использующие прямую рассылку 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[</a:t>
            </a: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407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981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акие документы и материалы рассылает Ваша комп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31760" y="1590840"/>
          <a:ext cx="891684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590840"/>
                    <a:ext cx="891684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052880" y="1557360"/>
            <a:ext cx="0" cy="48229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4960" y="1547640"/>
            <a:ext cx="0" cy="4822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88200" y="1547640"/>
            <a:ext cx="0" cy="4822920"/>
          </a:xfrm>
          <a:prstGeom prst="line">
            <a:avLst/>
          </a:prstGeom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48200" y="1568520"/>
            <a:ext cx="0" cy="482292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1520" y="1577880"/>
            <a:ext cx="0" cy="4822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98920" y="1560600"/>
            <a:ext cx="0" cy="4822560"/>
          </a:xfrm>
          <a:prstGeom prst="line">
            <a:avLst/>
          </a:prstGeom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94480" y="1546200"/>
            <a:ext cx="0" cy="48229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73920" y="1557360"/>
            <a:ext cx="0" cy="4822920"/>
          </a:xfrm>
          <a:prstGeom prst="line">
            <a:avLst/>
          </a:prstGeom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исследов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85400" y="1218960"/>
            <a:ext cx="8751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981000"/>
            <a:ext cx="65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му Ваша компания рассылает материал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5560" y="6519960"/>
            <a:ext cx="32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Использующие прямую рассылку 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[</a:t>
            </a: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407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1557360"/>
          <a:ext cx="8818560" cy="475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8818560" cy="47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211640" y="1552680"/>
            <a:ext cx="0" cy="482256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06960" y="1562040"/>
            <a:ext cx="0" cy="482292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78280" y="1573200"/>
            <a:ext cx="0" cy="4822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2080" y="1581120"/>
            <a:ext cx="0" cy="4822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72280" y="1569960"/>
            <a:ext cx="0" cy="482292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61240" y="1573200"/>
            <a:ext cx="0" cy="4822920"/>
          </a:xfrm>
          <a:prstGeom prst="line">
            <a:avLst/>
          </a:prstGeom>
          <a:ln w="12600">
            <a:solidFill>
              <a:srgbClr val="33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зультаты исследова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5400" y="1218960"/>
            <a:ext cx="875196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just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190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76360" y="981000"/>
            <a:ext cx="65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уда Ваша компания рассылает материалы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65560" y="6519960"/>
            <a:ext cx="32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Использующие прямую рассылку 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[</a:t>
            </a:r>
            <a:r>
              <a:rPr b="0" lang="ru-RU" sz="1100" spc="-1" strike="noStrike">
                <a:solidFill>
                  <a:srgbClr val="f8f8f8"/>
                </a:solidFill>
                <a:latin typeface="Tahoma"/>
              </a:rPr>
              <a:t>407</a:t>
            </a:r>
            <a:r>
              <a:rPr b="0" lang="en-US" sz="1100" spc="-1" strike="noStrike">
                <a:solidFill>
                  <a:srgbClr val="f8f8f8"/>
                </a:solidFill>
                <a:latin typeface="Tahoma"/>
              </a:rPr>
              <a:t>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41120" y="1623960"/>
          <a:ext cx="8818560" cy="475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623960"/>
                    <a:ext cx="8818560" cy="47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440240" y="1601640"/>
            <a:ext cx="0" cy="48229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00960" y="1611360"/>
            <a:ext cx="0" cy="4822920"/>
          </a:xfrm>
          <a:prstGeom prst="line">
            <a:avLst/>
          </a:prstGeom>
          <a:ln w="1260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05320" y="1611360"/>
            <a:ext cx="0" cy="4822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18480" y="1611360"/>
            <a:ext cx="0" cy="4822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42040" y="1612800"/>
            <a:ext cx="0" cy="482292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692360" y="1988640"/>
            <a:ext cx="619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Спасибо з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905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Доля директ мэйл </a:t>
            </a:r>
            <a:br>
              <a:rPr sz="3400"/>
            </a:b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 общих расходах на реклам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748980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Директ маркетинг</a:t>
            </a:r>
            <a:br>
              <a:rPr sz="34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почтения кли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162864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иенты предпочитают директ мэйл телемаркетингу (опыт СШ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14400" y="2565360"/>
          <a:ext cx="7905600" cy="3662280"/>
        </p:xfrm>
        <a:graphic>
          <a:graphicData uri="http://schemas.openxmlformats.org/drawingml/2006/table">
            <a:tbl>
              <a:tblPr/>
              <a:tblGrid>
                <a:gridCol w="3649680"/>
                <a:gridCol w="2168640"/>
                <a:gridCol w="208728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ись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Телефо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звон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олее  удоб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олее  содержа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ольше  убеждает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и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стимулир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треб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6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ольшее  давле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н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потреб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Более  навязчи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8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99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менение предпочтений кан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М-коммуникации (опыт СШ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6840720" cy="3946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63640" y="2637000"/>
            <a:ext cx="590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почитают получать рекламу товаров и у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08640"/>
            <a:ext cx="590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азываются знакомиться с содерж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3357720"/>
            <a:ext cx="865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357720"/>
            <a:ext cx="1296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леф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16720" y="3357720"/>
            <a:ext cx="1150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Директ маркетинг</a:t>
            </a:r>
            <a:br>
              <a:rPr sz="34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почтения клиент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Рекламная письменная корреспонденция 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очтовая служба США, прогно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853272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072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дресная/безадресная рассыл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692280"/>
            <a:ext cx="8675640" cy="13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циональные почтовые операторы  – подавляющая доля адресной рекламной рассылки и гораздо меньшая доля рынка безадресной рассы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реднем по странам ЕС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адресных отпр./на 1 семью в г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езадресных отпр./на 1 семью в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55640" y="3141720"/>
            <a:ext cx="8002440" cy="3456000"/>
            <a:chOff x="755640" y="3141720"/>
            <a:chExt cx="8002440" cy="34560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755640" y="3141720"/>
              <a:ext cx="800244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 txBox="1"/>
            <p:nvPr/>
          </p:nvSpPr>
          <p:spPr>
            <a:xfrm>
              <a:off x="755640" y="3141720"/>
              <a:ext cx="8002440" cy="34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55640" y="285264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59280" y="2852640"/>
            <a:ext cx="21600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278136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Адресные отправления/на 1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10200" y="2781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езадресные отправления/на 1 сем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адиционная реклама и ДМ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7416720" cy="432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4360" y="155736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значительный рост расходов на ДМ после 2000 года, несмотря на сокращение расходов на рекламу в 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2257560"/>
            <a:ext cx="7559640" cy="440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Традиционная реклама и ДМ</a:t>
            </a:r>
            <a:br>
              <a:rPr sz="34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62864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ост расходов на ДМ – в 3 раза с 1988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10:53:22Z</dcterms:created>
  <dc:creator>Olga V. Kryuchkova</dc:creator>
  <dc:description/>
  <dc:language>en-US</dc:language>
  <cp:lastModifiedBy>Olga V. Kryuchkova</cp:lastModifiedBy>
  <dcterms:modified xsi:type="dcterms:W3CDTF">2005-09-14T14:19:08Z</dcterms:modified>
  <cp:revision>7</cp:revision>
  <dc:subject/>
  <dc:title>Слайд 1</dc:title>
</cp:coreProperties>
</file>