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.wmf" ContentType="image/x-wmf"/>
  <Override PartName="/ppt/media/image25.png" ContentType="image/png"/>
  <Override PartName="/ppt/media/image23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7.png" ContentType="image/png"/>
  <Override PartName="/ppt/media/image12.png" ContentType="image/png"/>
  <Override PartName="/ppt/media/image6.wmf" ContentType="image/x-wmf"/>
  <Override PartName="/ppt/media/image11.png" ContentType="image/png"/>
  <Override PartName="/ppt/media/image30.jpeg" ContentType="image/jpeg"/>
  <Override PartName="/ppt/media/image1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31.gif" ContentType="image/gif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6EC6-FA49-4A98-8E78-8ABC615C8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 завершение, мне бы хотелось еще раз остановиться на принципах цивилизованного маркетинга с помощь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mail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а. Главная идея – откажитесь от спама. Он вреден и не-эффектив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ите разрешение у получателей Ваших писем (или используйте корректный список рассыл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вестите адресата о том, откуда у Вас его адрес и почему Вы пишите 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оставьте возможность отказаться от рассы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скрывайте свои координаты (адрес отправителя и контакт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ажитесь от слепых массовых рассылок, действуйте адрес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ите за заголовком Вашего письма (избегайте кричащих символ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ите ЗАКОН О РЕКЛАМ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вводите пользователя в заблужд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AC35-FCD7-4F62-BC6C-FA5ECA1BA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лияние на взаимоотношения с клиентами оказывают 3 ключевых фактора маркетинговых коммуникаций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Частота брендированного контакта (сколько раз в неделю клиент получает сообщение от бренда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ип содержания (специальные предложения или просто информация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ункциональность (насколько просто найти информацию на сайте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Эти коммуникации могут и должны быть максимально персонализированы: в зависимости от профиля клиента, компания может доносить до них разные сообщения и использовать для этого различные каналы. Кроме того, интернет и электронная почта позволяют сделать эти коммуникации интерактивными, то есть предоставить покупателю возможность поиска информации, составлять запросы, делиться комментариями и еще много путей взаимодействия с компанией или с другими покупателям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лезные Интернет-сервисы позволяют кардинально улучшить взаимоотношения с покупателями. Польза может быть самая разнообразна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экономленное врем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экономленные деньг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лезная информа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добство обслужи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звлеч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держ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E9EC-C6A8-4E07-88CD-311D1CF07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9D28-E8FF-4DAE-A45D-AF589FE6A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2501-E68E-43F1-A302-3A8C2638A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4130640"/>
            <a:ext cx="838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98108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98108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413064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413064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413064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6091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838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914040" y="6400440"/>
            <a:ext cx="4800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0840" y="640080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46F8-38A2-403D-A10C-039C0EAF582A}" type="slidenum">
              <a:rPr b="1" lang="en-US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dni.ru/news/sport/2002/1/25/4950.html" TargetMode="External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2.jpeg"/><Relationship Id="rId5" Type="http://schemas.openxmlformats.org/officeDocument/2006/relationships/image" Target="../media/image32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jpeg"/><Relationship Id="rId3" Type="http://schemas.openxmlformats.org/officeDocument/2006/relationships/image" Target="../media/image32.jpeg"/><Relationship Id="rId4" Type="http://schemas.openxmlformats.org/officeDocument/2006/relationships/image" Target="../media/image32.jpeg"/><Relationship Id="rId5" Type="http://schemas.openxmlformats.org/officeDocument/2006/relationships/image" Target="../media/image32.jpeg"/><Relationship Id="rId6" Type="http://schemas.openxmlformats.org/officeDocument/2006/relationships/image" Target="../media/image31.gif"/><Relationship Id="rId7" Type="http://schemas.openxmlformats.org/officeDocument/2006/relationships/image" Target="../media/image31.gi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79280" y="2276640"/>
            <a:ext cx="8702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800000"/>
                </a:solidFill>
                <a:latin typeface="Arial"/>
              </a:rPr>
              <a:t>ДМ в интернет-технологиях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2880" y="358920"/>
            <a:ext cx="301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X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ке. 16.09.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6520" y="5589720"/>
            <a:ext cx="24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рилл Чис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ts@subscribe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348000" y="3429000"/>
            <a:ext cx="1933560" cy="20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880" y="259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 Black"/>
              </a:rPr>
              <a:t>Дайте больше информации!</a:t>
            </a: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Информация нужна людям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и не только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До заказа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«изобразите» на сайте вашего лучшего продавца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тветы на вопрос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лезные совет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Акции и событ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овости и новин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бзоры и аналитик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Юмор и интеракти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После заказа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«изобразите» на сайте самого внимательного менеджера клиентской службы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ерсональное внимани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чета / Напоминан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тгрузки / Возвра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акопительные программ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554960" y="2781360"/>
            <a:ext cx="762120" cy="72396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6402240" y="2852640"/>
            <a:ext cx="762120" cy="7146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5322960" y="2781360"/>
            <a:ext cx="676080" cy="8096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4221000" y="2984400"/>
            <a:ext cx="762120" cy="4572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5867280" y="4941720"/>
            <a:ext cx="1714680" cy="100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259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 Black"/>
              </a:rPr>
              <a:t>Создайте общество лояльности!</a:t>
            </a: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6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Чтобы научиться слушать?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обрать анкет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ценить реакцию на «контент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лучить новые идеи (вскрыть новые проблемы?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Чтобы научиться говорить (когда есть, что сказать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-mail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ассылк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лог на сайт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стинг в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@-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онференция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Откройте «сарафанное радио» (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viral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vibrant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нлайн-дискуссия (форум,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@-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групп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ограммы «Отправь коллег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Ядро аудитории сайта – наиболее лояльные и активные потребители (чаще всего клиенты, партнеры, сотрудники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оздайте «Виртуальную экспертную группу»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ольнонаемна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одерируема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ощряема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7885080" y="191628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7812000" y="2997360"/>
            <a:ext cx="762120" cy="7333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6804000" y="1916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7308720" y="4005360"/>
            <a:ext cx="762120" cy="5140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>
            <a:off x="7308720" y="5157720"/>
            <a:ext cx="989280" cy="10080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6"/>
          <a:stretch/>
        </p:blipFill>
        <p:spPr>
          <a:xfrm>
            <a:off x="6732720" y="3068640"/>
            <a:ext cx="761760" cy="57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 Black"/>
              </a:rPr>
              <a:t>Соблюдайте </a:t>
            </a:r>
            <a:r>
              <a:rPr b="0" lang="en-US" sz="3200" spc="-1" strike="noStrike">
                <a:solidFill>
                  <a:srgbClr val="800000"/>
                </a:solidFill>
                <a:latin typeface="Arial Black"/>
              </a:rPr>
              <a:t>Privacy</a:t>
            </a:r>
            <a:r>
              <a:rPr b="0" lang="ru-RU" sz="3200" spc="-1" strike="noStrike">
                <a:solidFill>
                  <a:srgbClr val="800000"/>
                </a:solidFill>
                <a:latin typeface="Arial Black"/>
              </a:rPr>
              <a:t>!</a:t>
            </a: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50560" y="2492280"/>
            <a:ext cx="87138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33"/>
                </a:solidFill>
                <a:latin typeface="Arial"/>
              </a:rPr>
              <a:t>СОГЛАСИЕ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9933"/>
                </a:solidFill>
                <a:latin typeface="Arial"/>
              </a:rPr>
              <a:t>ДОВЕРИЕ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9933"/>
                </a:solidFill>
                <a:latin typeface="Arial"/>
              </a:rPr>
              <a:t>ОТНОШЕНИЯ </a:t>
            </a:r>
            <a:r>
              <a:rPr b="1" lang="ru-RU" sz="2000" spc="-1" strike="noStrike">
                <a:solidFill>
                  <a:srgbClr val="339933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9933"/>
                </a:solidFill>
                <a:latin typeface="Arial"/>
              </a:rPr>
              <a:t>ВЫСОКИЙ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RO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33"/>
                </a:solidFill>
                <a:latin typeface="Arial"/>
              </a:rPr>
              <a:t>Действуйте адресно и персонально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33"/>
                </a:solidFill>
                <a:latin typeface="Arial"/>
              </a:rPr>
              <a:t>Рассылайте только тем, кто подписался (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Double Opt-i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33"/>
                </a:solidFill>
                <a:latin typeface="Arial"/>
              </a:rPr>
              <a:t>Рассылайте им только то, на что они подписалис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33"/>
                </a:solidFill>
                <a:latin typeface="Arial"/>
              </a:rPr>
              <a:t>Не ставьте незнакомых людей в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“To:”</a:t>
            </a:r>
            <a:r>
              <a:rPr b="1" lang="ru-RU" sz="2000" spc="-1" strike="noStrike">
                <a:solidFill>
                  <a:srgbClr val="339933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“CC:” </a:t>
            </a:r>
            <a:r>
              <a:rPr b="1" lang="ru-RU" sz="2000" spc="-1" strike="noStrike">
                <a:solidFill>
                  <a:srgbClr val="339933"/>
                </a:solidFill>
                <a:latin typeface="Arial"/>
              </a:rPr>
              <a:t>(и в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“BCC: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33"/>
                </a:solidFill>
                <a:latin typeface="Arial"/>
              </a:rPr>
              <a:t>Только реальное имя отправителя (</a:t>
            </a:r>
            <a:r>
              <a:rPr b="1" lang="ru-RU" sz="2000" spc="-1" strike="noStrike">
                <a:solidFill>
                  <a:srgbClr val="99cc00"/>
                </a:solidFill>
                <a:latin typeface="Arial"/>
              </a:rPr>
              <a:t>никаких </a:t>
            </a:r>
            <a:r>
              <a:rPr b="1" lang="en-US" sz="2000" spc="-1" strike="noStrike" u="sng">
                <a:solidFill>
                  <a:srgbClr val="99cc00"/>
                </a:solidFill>
                <a:uFillTx/>
                <a:latin typeface="Arial"/>
              </a:rPr>
              <a:t>fsdhjh@free.net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33"/>
                </a:solidFill>
                <a:latin typeface="Arial"/>
              </a:rPr>
              <a:t>Дайте возможность отказаться от рассылки (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unsubscribe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33"/>
                </a:solidFill>
                <a:latin typeface="Arial"/>
              </a:rPr>
              <a:t>Арендуйте внимательно! (проверьте процесс подписки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33"/>
                </a:solidFill>
                <a:latin typeface="Arial"/>
              </a:rPr>
              <a:t>Никогда не покупайте базы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e-mail </a:t>
            </a:r>
            <a:r>
              <a:rPr b="1" lang="ru-RU" sz="2000" spc="-1" strike="noStrike">
                <a:solidFill>
                  <a:srgbClr val="339933"/>
                </a:solidFill>
                <a:latin typeface="Arial"/>
              </a:rPr>
              <a:t>адресов для рассылки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0"/>
            <a:ext cx="2494080" cy="15382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250920" y="1628640"/>
            <a:ext cx="648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ЗАКОН ПЕРЕХОДА КАЧЕСТВА В КОЛИЧЕ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7000"/>
                            </p:stCondLst>
                            <p:childTnLst>
                              <p:par>
                                <p:cTn id="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8000"/>
                            </p:stCondLst>
                            <p:childTnLst>
                              <p:par>
                                <p:cTn id="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9000"/>
                            </p:stCondLst>
                            <p:childTnLst>
                              <p:par>
                                <p:cTn id="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8000" y="25992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 Black"/>
              </a:rPr>
              <a:t>Тестируйте кампании перед стартом!</a:t>
            </a: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Тестирование помогает планировать и оптимизировать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OI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Что тестировать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Заголовки (Слоганы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едложения (УТП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изуальные элемент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екламные площад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екламные позиции, ключевые слова, параметры выбор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екламные формат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еханизм обратной связи (промо-страница, БД,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all-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центр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?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лиентский сервис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бработка купонов, жалобы клиентов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Учитывайте тестовый период при медиапланировании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ам понадобится время, чтобы внести корректив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7169040" y="2133720"/>
            <a:ext cx="1454400" cy="17269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7236000" y="3860640"/>
            <a:ext cx="1152360" cy="11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8000" y="25992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 Black"/>
              </a:rPr>
              <a:t>Собирайте статистику с умом!</a:t>
            </a: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7201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Реклама,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Траффик (Источники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сетители («Сезонность», увеличение «ядра»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лючевые слова, которые привлекают посетител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Увеличение БД клиентов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Траффик (Целевые страницы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Анкет /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сетител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Анкет / Рекламная площадк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Электронная коммерция /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2B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купатели (Источники, пути, время на страницах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онверсия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#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Заказов /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сетителей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тери (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Заказов /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Заявок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Клиентский сервис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(CRM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етители (Новые vs. Старые vs. Странны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аффик (Точки входа и точки выход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6948360" y="2781360"/>
            <a:ext cx="1621080" cy="12603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34920" y="1700280"/>
            <a:ext cx="1727280" cy="720720"/>
          </a:xfrm>
          <a:custGeom>
            <a:avLst/>
            <a:gdLst>
              <a:gd name="textAreaLeft" fmla="*/ 250200 w 1727280"/>
              <a:gd name="textAreaRight" fmla="*/ 1477080 w 1727280"/>
              <a:gd name="textAreaTop" fmla="*/ 104400 h 720720"/>
              <a:gd name="textAreaBottom" fmla="*/ 6163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118" y="21600"/>
                </a:lnTo>
                <a:lnTo>
                  <a:pt x="2482" y="21600"/>
                </a:lnTo>
                <a:close/>
              </a:path>
            </a:pathLst>
          </a:cu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24000" y="2781360"/>
            <a:ext cx="1295280" cy="576360"/>
          </a:xfrm>
          <a:custGeom>
            <a:avLst/>
            <a:gdLst>
              <a:gd name="textAreaLeft" fmla="*/ 190440 w 1295280"/>
              <a:gd name="textAreaRight" fmla="*/ 1104840 w 1295280"/>
              <a:gd name="textAreaTop" fmla="*/ 84600 h 576360"/>
              <a:gd name="textAreaBottom" fmla="*/ 491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032" y="21600"/>
                </a:lnTo>
                <a:lnTo>
                  <a:pt x="2568" y="21600"/>
                </a:lnTo>
                <a:close/>
              </a:path>
            </a:pathLst>
          </a:cu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68360" y="3789360"/>
            <a:ext cx="1008000" cy="576360"/>
          </a:xfrm>
          <a:custGeom>
            <a:avLst/>
            <a:gdLst>
              <a:gd name="textAreaLeft" fmla="*/ 195480 w 1008000"/>
              <a:gd name="textAreaRight" fmla="*/ 812520 w 1008000"/>
              <a:gd name="textAreaTop" fmla="*/ 111600 h 576360"/>
              <a:gd name="textAreaBottom" fmla="*/ 46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212" y="21600"/>
                </a:lnTo>
                <a:lnTo>
                  <a:pt x="4388" y="21600"/>
                </a:lnTo>
                <a:close/>
              </a:path>
            </a:pathLst>
          </a:cu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84360" y="4797360"/>
            <a:ext cx="574560" cy="576360"/>
          </a:xfrm>
          <a:custGeom>
            <a:avLst/>
            <a:gdLst>
              <a:gd name="textAreaLeft" fmla="*/ 111240 w 574560"/>
              <a:gd name="textAreaRight" fmla="*/ 463320 w 574560"/>
              <a:gd name="textAreaTop" fmla="*/ 111600 h 576360"/>
              <a:gd name="textAreaBottom" fmla="*/ 46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212" y="21600"/>
                </a:lnTo>
                <a:lnTo>
                  <a:pt x="4388" y="21600"/>
                </a:lnTo>
                <a:close/>
              </a:path>
            </a:pathLst>
          </a:cu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79280" y="1484280"/>
            <a:ext cx="720720" cy="410544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042920" y="1484280"/>
            <a:ext cx="720720" cy="410544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68360" y="1484280"/>
            <a:ext cx="503280" cy="410544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971640" y="1484280"/>
            <a:ext cx="504720" cy="410544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95160" y="1484280"/>
            <a:ext cx="997200" cy="1152720"/>
          </a:xfrm>
          <a:custGeom>
            <a:avLst/>
            <a:gdLst/>
            <a:ahLst/>
            <a:rect l="l" t="t" r="r" b="b"/>
            <a:pathLst>
              <a:path w="854" h="726">
                <a:moveTo>
                  <a:pt x="83" y="0"/>
                </a:moveTo>
                <a:cubicBezTo>
                  <a:pt x="41" y="234"/>
                  <a:pt x="0" y="469"/>
                  <a:pt x="129" y="590"/>
                </a:cubicBezTo>
                <a:cubicBezTo>
                  <a:pt x="258" y="711"/>
                  <a:pt x="718" y="703"/>
                  <a:pt x="854" y="726"/>
                </a:cubicBezTo>
              </a:path>
            </a:pathLst>
          </a:custGeom>
          <a:noFill/>
          <a:ln w="93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24000" y="1484280"/>
            <a:ext cx="863280" cy="2232000"/>
          </a:xfrm>
          <a:custGeom>
            <a:avLst/>
            <a:gdLst/>
            <a:ahLst/>
            <a:rect l="l" t="t" r="r" b="b"/>
            <a:pathLst>
              <a:path w="854" h="726">
                <a:moveTo>
                  <a:pt x="83" y="0"/>
                </a:moveTo>
                <a:cubicBezTo>
                  <a:pt x="41" y="234"/>
                  <a:pt x="0" y="469"/>
                  <a:pt x="129" y="590"/>
                </a:cubicBezTo>
                <a:cubicBezTo>
                  <a:pt x="258" y="711"/>
                  <a:pt x="718" y="703"/>
                  <a:pt x="854" y="726"/>
                </a:cubicBezTo>
              </a:path>
            </a:pathLst>
          </a:custGeom>
          <a:noFill/>
          <a:ln w="93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900000" y="1484280"/>
            <a:ext cx="432000" cy="3240000"/>
          </a:xfrm>
          <a:custGeom>
            <a:avLst/>
            <a:gdLst/>
            <a:ahLst/>
            <a:rect l="l" t="t" r="r" b="b"/>
            <a:pathLst>
              <a:path w="854" h="726">
                <a:moveTo>
                  <a:pt x="83" y="0"/>
                </a:moveTo>
                <a:cubicBezTo>
                  <a:pt x="41" y="234"/>
                  <a:pt x="0" y="469"/>
                  <a:pt x="129" y="590"/>
                </a:cubicBezTo>
                <a:cubicBezTo>
                  <a:pt x="258" y="711"/>
                  <a:pt x="718" y="703"/>
                  <a:pt x="854" y="726"/>
                </a:cubicBezTo>
              </a:path>
            </a:pathLst>
          </a:custGeom>
          <a:noFill/>
          <a:ln w="93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324000" y="1557360"/>
            <a:ext cx="863280" cy="2951280"/>
          </a:xfrm>
          <a:custGeom>
            <a:avLst/>
            <a:gdLst/>
            <a:ahLst/>
            <a:rect l="l" t="t" r="r" b="b"/>
            <a:pathLst>
              <a:path w="854" h="726">
                <a:moveTo>
                  <a:pt x="83" y="0"/>
                </a:moveTo>
                <a:cubicBezTo>
                  <a:pt x="41" y="234"/>
                  <a:pt x="0" y="469"/>
                  <a:pt x="129" y="590"/>
                </a:cubicBezTo>
                <a:cubicBezTo>
                  <a:pt x="258" y="711"/>
                  <a:pt x="718" y="703"/>
                  <a:pt x="854" y="726"/>
                </a:cubicBezTo>
              </a:path>
            </a:pathLst>
          </a:custGeom>
          <a:noFill/>
          <a:ln w="93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395280" y="1484280"/>
            <a:ext cx="1008000" cy="3673440"/>
          </a:xfrm>
          <a:custGeom>
            <a:avLst/>
            <a:gdLst/>
            <a:ahLst/>
            <a:rect l="l" t="t" r="r" b="b"/>
            <a:pathLst>
              <a:path w="854" h="726">
                <a:moveTo>
                  <a:pt x="83" y="0"/>
                </a:moveTo>
                <a:cubicBezTo>
                  <a:pt x="41" y="234"/>
                  <a:pt x="0" y="469"/>
                  <a:pt x="129" y="590"/>
                </a:cubicBezTo>
                <a:cubicBezTo>
                  <a:pt x="258" y="711"/>
                  <a:pt x="718" y="703"/>
                  <a:pt x="854" y="726"/>
                </a:cubicBezTo>
              </a:path>
            </a:pathLst>
          </a:custGeom>
          <a:noFill/>
          <a:ln w="93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26920" y="1484280"/>
            <a:ext cx="432000" cy="3889440"/>
          </a:xfrm>
          <a:custGeom>
            <a:avLst/>
            <a:gdLst/>
            <a:ahLst/>
            <a:rect l="l" t="t" r="r" b="b"/>
            <a:pathLst>
              <a:path w="854" h="726">
                <a:moveTo>
                  <a:pt x="83" y="0"/>
                </a:moveTo>
                <a:cubicBezTo>
                  <a:pt x="41" y="234"/>
                  <a:pt x="0" y="469"/>
                  <a:pt x="129" y="590"/>
                </a:cubicBezTo>
                <a:cubicBezTo>
                  <a:pt x="258" y="711"/>
                  <a:pt x="718" y="703"/>
                  <a:pt x="854" y="726"/>
                </a:cubicBezTo>
              </a:path>
            </a:pathLst>
          </a:custGeom>
          <a:noFill/>
          <a:ln w="93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611280" y="5661000"/>
            <a:ext cx="720720" cy="52704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1763640" y="1628640"/>
            <a:ext cx="295200" cy="3603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1763640" y="2708280"/>
            <a:ext cx="295200" cy="3603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5"/>
          <a:stretch/>
        </p:blipFill>
        <p:spPr>
          <a:xfrm>
            <a:off x="1763640" y="3789360"/>
            <a:ext cx="295200" cy="3603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6"/>
          <a:stretch/>
        </p:blipFill>
        <p:spPr>
          <a:xfrm>
            <a:off x="1763640" y="4869000"/>
            <a:ext cx="295200" cy="3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 Black"/>
              </a:rPr>
              <a:t>Оптимизируйте</a:t>
            </a:r>
            <a:r>
              <a:rPr b="0" lang="en-US" sz="3200" spc="-1" strike="noStrike">
                <a:solidFill>
                  <a:srgbClr val="800000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Arial Black"/>
              </a:rPr>
              <a:t>и выращивайте </a:t>
            </a:r>
            <a:r>
              <a:rPr b="0" lang="en-US" sz="3200" spc="-1" strike="noStrike">
                <a:solidFill>
                  <a:srgbClr val="800000"/>
                </a:solidFill>
                <a:latin typeface="Arial Black"/>
              </a:rPr>
              <a:t>ROI</a:t>
            </a:r>
            <a:r>
              <a:rPr b="0" lang="ru-RU" sz="3200" spc="-1" strike="noStrike">
                <a:solidFill>
                  <a:srgbClr val="800000"/>
                </a:solidFill>
                <a:latin typeface="Arial Black"/>
              </a:rPr>
              <a:t>!</a:t>
            </a: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819440" y="1773360"/>
            <a:ext cx="7648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Реклама,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R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$ / 1000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целевых контакт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$ / 1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 целевой отклик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$ / 1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целевое действие на сайт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Увеличение БД клиентов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$ /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Правильная анкет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$ /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Обновление анкет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$ /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Подписка (согласие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M |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Электронная коммерция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$ /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Заявк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$ /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Заказ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$ /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Оплаченный закааз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Клиентский сервис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(CRM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 /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величение лояльности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позитивное отношение при проведении опрос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 /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стоянный заказч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 /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величение частоты / суммы заказов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$Cross-, Up-Sa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 /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влечение «знакомых» (вирусный маркетинг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5796000" y="1916280"/>
          <a:ext cx="3095640" cy="1699920"/>
        </p:xfrm>
        <a:graphic>
          <a:graphicData uri="http://schemas.openxmlformats.org/drawingml/2006/table">
            <a:tbl>
              <a:tblPr/>
              <a:tblGrid>
                <a:gridCol w="1871640"/>
                <a:gridCol w="1224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ламный ка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$ / Le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M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.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не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а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M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и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"/>
          <p:cNvSpPr/>
          <p:nvPr/>
        </p:nvSpPr>
        <p:spPr>
          <a:xfrm>
            <a:off x="179280" y="1700280"/>
            <a:ext cx="1582920" cy="720720"/>
          </a:xfrm>
          <a:custGeom>
            <a:avLst/>
            <a:gdLst>
              <a:gd name="textAreaLeft" fmla="*/ 229320 w 1582920"/>
              <a:gd name="textAreaRight" fmla="*/ 1353600 w 1582920"/>
              <a:gd name="textAreaTop" fmla="*/ 104400 h 720720"/>
              <a:gd name="textAreaBottom" fmla="*/ 6163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118" y="21600"/>
                </a:lnTo>
                <a:lnTo>
                  <a:pt x="2482" y="21600"/>
                </a:lnTo>
                <a:close/>
              </a:path>
            </a:pathLst>
          </a:cu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95280" y="2781360"/>
            <a:ext cx="1152360" cy="576360"/>
          </a:xfrm>
          <a:custGeom>
            <a:avLst/>
            <a:gdLst>
              <a:gd name="textAreaLeft" fmla="*/ 169200 w 1152360"/>
              <a:gd name="textAreaRight" fmla="*/ 983160 w 1152360"/>
              <a:gd name="textAreaTop" fmla="*/ 84600 h 576360"/>
              <a:gd name="textAreaBottom" fmla="*/ 491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032" y="21600"/>
                </a:lnTo>
                <a:lnTo>
                  <a:pt x="2568" y="21600"/>
                </a:lnTo>
                <a:close/>
              </a:path>
            </a:pathLst>
          </a:cu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68360" y="3789360"/>
            <a:ext cx="1008000" cy="576360"/>
          </a:xfrm>
          <a:custGeom>
            <a:avLst/>
            <a:gdLst>
              <a:gd name="textAreaLeft" fmla="*/ 195480 w 1008000"/>
              <a:gd name="textAreaRight" fmla="*/ 812520 w 1008000"/>
              <a:gd name="textAreaTop" fmla="*/ 111600 h 576360"/>
              <a:gd name="textAreaBottom" fmla="*/ 46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212" y="21600"/>
                </a:lnTo>
                <a:lnTo>
                  <a:pt x="4388" y="21600"/>
                </a:lnTo>
                <a:close/>
              </a:path>
            </a:pathLst>
          </a:cu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4360" y="4797360"/>
            <a:ext cx="574560" cy="576360"/>
          </a:xfrm>
          <a:custGeom>
            <a:avLst/>
            <a:gdLst>
              <a:gd name="textAreaLeft" fmla="*/ 111240 w 574560"/>
              <a:gd name="textAreaRight" fmla="*/ 463320 w 574560"/>
              <a:gd name="textAreaTop" fmla="*/ 111600 h 576360"/>
              <a:gd name="textAreaBottom" fmla="*/ 4647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212" y="21600"/>
                </a:lnTo>
                <a:lnTo>
                  <a:pt x="4388" y="21600"/>
                </a:lnTo>
                <a:close/>
              </a:path>
            </a:pathLst>
          </a:cu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50920" y="1484280"/>
            <a:ext cx="649080" cy="410544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1042920" y="1484280"/>
            <a:ext cx="720720" cy="410544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68360" y="1484280"/>
            <a:ext cx="503280" cy="410544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971640" y="1484280"/>
            <a:ext cx="504720" cy="410544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95160" y="1484280"/>
            <a:ext cx="997200" cy="1152720"/>
          </a:xfrm>
          <a:custGeom>
            <a:avLst/>
            <a:gdLst/>
            <a:ahLst/>
            <a:rect l="l" t="t" r="r" b="b"/>
            <a:pathLst>
              <a:path w="854" h="726">
                <a:moveTo>
                  <a:pt x="83" y="0"/>
                </a:moveTo>
                <a:cubicBezTo>
                  <a:pt x="41" y="234"/>
                  <a:pt x="0" y="469"/>
                  <a:pt x="129" y="590"/>
                </a:cubicBezTo>
                <a:cubicBezTo>
                  <a:pt x="258" y="711"/>
                  <a:pt x="718" y="703"/>
                  <a:pt x="854" y="726"/>
                </a:cubicBezTo>
              </a:path>
            </a:pathLst>
          </a:custGeom>
          <a:noFill/>
          <a:ln w="93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324000" y="1484280"/>
            <a:ext cx="863280" cy="2232000"/>
          </a:xfrm>
          <a:custGeom>
            <a:avLst/>
            <a:gdLst/>
            <a:ahLst/>
            <a:rect l="l" t="t" r="r" b="b"/>
            <a:pathLst>
              <a:path w="854" h="726">
                <a:moveTo>
                  <a:pt x="83" y="0"/>
                </a:moveTo>
                <a:cubicBezTo>
                  <a:pt x="41" y="234"/>
                  <a:pt x="0" y="469"/>
                  <a:pt x="129" y="590"/>
                </a:cubicBezTo>
                <a:cubicBezTo>
                  <a:pt x="258" y="711"/>
                  <a:pt x="718" y="703"/>
                  <a:pt x="854" y="726"/>
                </a:cubicBezTo>
              </a:path>
            </a:pathLst>
          </a:custGeom>
          <a:noFill/>
          <a:ln w="93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00000" y="1484280"/>
            <a:ext cx="432000" cy="3240000"/>
          </a:xfrm>
          <a:custGeom>
            <a:avLst/>
            <a:gdLst/>
            <a:ahLst/>
            <a:rect l="l" t="t" r="r" b="b"/>
            <a:pathLst>
              <a:path w="854" h="726">
                <a:moveTo>
                  <a:pt x="83" y="0"/>
                </a:moveTo>
                <a:cubicBezTo>
                  <a:pt x="41" y="234"/>
                  <a:pt x="0" y="469"/>
                  <a:pt x="129" y="590"/>
                </a:cubicBezTo>
                <a:cubicBezTo>
                  <a:pt x="258" y="711"/>
                  <a:pt x="718" y="703"/>
                  <a:pt x="854" y="726"/>
                </a:cubicBezTo>
              </a:path>
            </a:pathLst>
          </a:custGeom>
          <a:noFill/>
          <a:ln w="93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24000" y="1557360"/>
            <a:ext cx="863280" cy="2951280"/>
          </a:xfrm>
          <a:custGeom>
            <a:avLst/>
            <a:gdLst/>
            <a:ahLst/>
            <a:rect l="l" t="t" r="r" b="b"/>
            <a:pathLst>
              <a:path w="854" h="726">
                <a:moveTo>
                  <a:pt x="83" y="0"/>
                </a:moveTo>
                <a:cubicBezTo>
                  <a:pt x="41" y="234"/>
                  <a:pt x="0" y="469"/>
                  <a:pt x="129" y="590"/>
                </a:cubicBezTo>
                <a:cubicBezTo>
                  <a:pt x="258" y="711"/>
                  <a:pt x="718" y="703"/>
                  <a:pt x="854" y="726"/>
                </a:cubicBezTo>
              </a:path>
            </a:pathLst>
          </a:custGeom>
          <a:noFill/>
          <a:ln w="93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95280" y="1484280"/>
            <a:ext cx="1008000" cy="3673440"/>
          </a:xfrm>
          <a:custGeom>
            <a:avLst/>
            <a:gdLst/>
            <a:ahLst/>
            <a:rect l="l" t="t" r="r" b="b"/>
            <a:pathLst>
              <a:path w="854" h="726">
                <a:moveTo>
                  <a:pt x="83" y="0"/>
                </a:moveTo>
                <a:cubicBezTo>
                  <a:pt x="41" y="234"/>
                  <a:pt x="0" y="469"/>
                  <a:pt x="129" y="590"/>
                </a:cubicBezTo>
                <a:cubicBezTo>
                  <a:pt x="258" y="711"/>
                  <a:pt x="718" y="703"/>
                  <a:pt x="854" y="726"/>
                </a:cubicBezTo>
              </a:path>
            </a:pathLst>
          </a:custGeom>
          <a:noFill/>
          <a:ln w="93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26920" y="1484280"/>
            <a:ext cx="432000" cy="3889440"/>
          </a:xfrm>
          <a:custGeom>
            <a:avLst/>
            <a:gdLst/>
            <a:ahLst/>
            <a:rect l="l" t="t" r="r" b="b"/>
            <a:pathLst>
              <a:path w="854" h="726">
                <a:moveTo>
                  <a:pt x="83" y="0"/>
                </a:moveTo>
                <a:cubicBezTo>
                  <a:pt x="41" y="234"/>
                  <a:pt x="0" y="469"/>
                  <a:pt x="129" y="590"/>
                </a:cubicBezTo>
                <a:cubicBezTo>
                  <a:pt x="258" y="711"/>
                  <a:pt x="718" y="703"/>
                  <a:pt x="854" y="726"/>
                </a:cubicBezTo>
              </a:path>
            </a:pathLst>
          </a:custGeom>
          <a:noFill/>
          <a:ln w="93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82560" y="5661000"/>
            <a:ext cx="720720" cy="52704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1900080" y="1773360"/>
            <a:ext cx="295560" cy="3603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1900080" y="2781360"/>
            <a:ext cx="295560" cy="36036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4"/>
          <a:stretch/>
        </p:blipFill>
        <p:spPr>
          <a:xfrm>
            <a:off x="1900080" y="3718080"/>
            <a:ext cx="295560" cy="36036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5"/>
          <a:stretch/>
        </p:blipFill>
        <p:spPr>
          <a:xfrm>
            <a:off x="1893960" y="4724280"/>
            <a:ext cx="295200" cy="36036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0" y="2421000"/>
            <a:ext cx="1979640" cy="0"/>
          </a:xfrm>
          <a:prstGeom prst="line">
            <a:avLst/>
          </a:prstGeom>
          <a:ln w="38160">
            <a:solidFill>
              <a:srgbClr val="99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3357720"/>
            <a:ext cx="1978200" cy="0"/>
          </a:xfrm>
          <a:prstGeom prst="line">
            <a:avLst/>
          </a:prstGeom>
          <a:ln w="38160">
            <a:solidFill>
              <a:srgbClr val="99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4365720"/>
            <a:ext cx="1908000" cy="0"/>
          </a:xfrm>
          <a:prstGeom prst="line">
            <a:avLst/>
          </a:prstGeom>
          <a:ln w="38160">
            <a:solidFill>
              <a:srgbClr val="99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5373720"/>
            <a:ext cx="1908000" cy="0"/>
          </a:xfrm>
          <a:prstGeom prst="line">
            <a:avLst/>
          </a:prstGeom>
          <a:ln w="38160">
            <a:solidFill>
              <a:srgbClr val="99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2421000"/>
            <a:ext cx="0" cy="93672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619280" y="2421000"/>
            <a:ext cx="0" cy="93672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4000" y="3429000"/>
            <a:ext cx="0" cy="93672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619280" y="3429000"/>
            <a:ext cx="0" cy="93672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24000" y="4437000"/>
            <a:ext cx="0" cy="151308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619280" y="4437000"/>
            <a:ext cx="0" cy="151308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6"/>
          <a:stretch/>
        </p:blipFill>
        <p:spPr>
          <a:xfrm>
            <a:off x="0" y="5661000"/>
            <a:ext cx="720720" cy="52704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7"/>
          <a:stretch/>
        </p:blipFill>
        <p:spPr>
          <a:xfrm>
            <a:off x="1258920" y="5661000"/>
            <a:ext cx="720720" cy="52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 Black"/>
              </a:rPr>
              <a:t>Сколько вы платите за результат?</a:t>
            </a: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179280" y="2147760"/>
            <a:ext cx="8856720" cy="276552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 Black"/>
              </a:rPr>
              <a:t>Заведите себе </a:t>
            </a:r>
            <a:r>
              <a:rPr b="0" lang="en-US" sz="3200" spc="-1" strike="noStrike">
                <a:solidFill>
                  <a:srgbClr val="800000"/>
                </a:solidFill>
                <a:latin typeface="Arial Black"/>
              </a:rPr>
              <a:t>ROI</a:t>
            </a:r>
            <a:r>
              <a:rPr b="0" lang="ru-RU" sz="3200" spc="-1" strike="noStrike">
                <a:solidFill>
                  <a:srgbClr val="800000"/>
                </a:solidFill>
                <a:latin typeface="Arial Black"/>
              </a:rPr>
              <a:t> - калькулятор!</a:t>
            </a: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1042920" y="1773360"/>
          <a:ext cx="7201080" cy="3035160"/>
        </p:xfrm>
        <a:graphic>
          <a:graphicData uri="http://schemas.openxmlformats.org/drawingml/2006/table">
            <a:tbl>
              <a:tblPr/>
              <a:tblGrid>
                <a:gridCol w="4235400"/>
                <a:gridCol w="2965680"/>
              </a:tblGrid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кламный ка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$ / </a:t>
                      </a:r>
                      <a:r>
                        <a:rPr b="0" lang="ru-RU" sz="18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Потенц. кли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rect Ma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9.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l-цен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3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еб-сай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3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исковые маш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,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t-in E-Mail рассыл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S-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кетин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0,50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250920" y="5013360"/>
            <a:ext cx="856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cc00"/>
                </a:solidFill>
                <a:latin typeface="Arial"/>
              </a:rPr>
              <a:t>Горяча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линия поддержки и консультаций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экспресс-аудит Вашего сайта: </a:t>
            </a: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events@subscribe.ru?subject=DMXX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51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800000"/>
                </a:solidFill>
                <a:latin typeface="Arial Black"/>
              </a:rPr>
              <a:t>Спасибо за внимание!!!</a:t>
            </a:r>
            <a:endParaRPr b="0" lang="en-US" sz="38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83" name=""/>
          <p:cNvSpPr/>
          <p:nvPr/>
        </p:nvSpPr>
        <p:spPr>
          <a:xfrm>
            <a:off x="539640" y="1700280"/>
            <a:ext cx="6553440" cy="38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www.marketingpro.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www.subscribe.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www.optimization.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33"/>
                </a:solidFill>
                <a:latin typeface="Arial"/>
              </a:rPr>
              <a:t>http://direct.yandex.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www.clickz.co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www.marketinsherpa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6600"/>
                </a:solidFill>
                <a:latin typeface="Arial"/>
              </a:rPr>
              <a:t>www.marketingvox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89000"/>
            <a:ext cx="87631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 Black"/>
              </a:rPr>
              <a:t>Интегрированный маркетинг.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3654360" y="1557360"/>
            <a:ext cx="1854360" cy="6415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здание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азы да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алгоритм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16720" y="2265480"/>
            <a:ext cx="2087640" cy="2241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ренд-сообщ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Последовательное позиционирование бренда, большая красивая идея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бота со СМ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бота с коммьюнит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нтерактивный маркет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Творческий подход к оформлению обстоятельств контакта с брендом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37080" y="4797360"/>
            <a:ext cx="1871640" cy="459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истема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ношений с бренд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2041560"/>
            <a:ext cx="2087640" cy="7333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WOT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-анализ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ла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определение функций МК, независящих от канала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4129200"/>
            <a:ext cx="2087640" cy="7333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ждепартаметная оптим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Мониторинг и оценка качества взаимоотношений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 брендом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4000" y="5734080"/>
            <a:ext cx="1871640" cy="459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дажи, Прибыль,  Капита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92360" y="2565360"/>
            <a:ext cx="2159280" cy="16167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Рекла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Клиентский серви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irect Mark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-Comme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Упаков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Личные продаж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ublic Rel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Промо-ак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Спонсорств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Выставки и т.д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96360" y="29242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55" idx="3"/>
            <a:endCxn id="56" idx="0"/>
          </p:cNvCxnSpPr>
          <p:nvPr/>
        </p:nvCxnSpPr>
        <p:spPr>
          <a:xfrm>
            <a:off x="5508720" y="1882440"/>
            <a:ext cx="2053080" cy="38340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6" idx="2"/>
            <a:endCxn id="57" idx="3"/>
          </p:cNvCxnSpPr>
          <p:nvPr/>
        </p:nvCxnSpPr>
        <p:spPr>
          <a:xfrm rot="5400000">
            <a:off x="6227640" y="3789360"/>
            <a:ext cx="614880" cy="205308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57" idx="1"/>
            <a:endCxn id="60" idx="1"/>
          </p:cNvCxnSpPr>
          <p:nvPr/>
        </p:nvCxnSpPr>
        <p:spPr>
          <a:xfrm flipV="1" rot="10800000">
            <a:off x="3563280" y="5122440"/>
            <a:ext cx="73800" cy="845280"/>
          </a:xfrm>
          <a:prstGeom prst="curvedConnector5">
            <a:avLst>
              <a:gd name="adj1" fmla="val 1203921"/>
              <a:gd name="adj2" fmla="val 49978"/>
              <a:gd name="adj3" fmla="val 1203921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7" idx="1"/>
            <a:endCxn id="59" idx="2"/>
          </p:cNvCxnSpPr>
          <p:nvPr/>
        </p:nvCxnSpPr>
        <p:spPr>
          <a:xfrm rot="10800000">
            <a:off x="1512000" y="4868280"/>
            <a:ext cx="2125080" cy="2545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9" idx="0"/>
            <a:endCxn id="58" idx="2"/>
          </p:cNvCxnSpPr>
          <p:nvPr/>
        </p:nvCxnSpPr>
        <p:spPr>
          <a:xfrm flipV="1">
            <a:off x="1512360" y="2781000"/>
            <a:ext cx="1080" cy="13485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8" idx="0"/>
            <a:endCxn id="55" idx="1"/>
          </p:cNvCxnSpPr>
          <p:nvPr/>
        </p:nvCxnSpPr>
        <p:spPr>
          <a:xfrm flipH="1" flipV="1" rot="5400000">
            <a:off x="2503800" y="890640"/>
            <a:ext cx="159480" cy="21423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5" idx="2"/>
            <a:endCxn id="61" idx="0"/>
          </p:cNvCxnSpPr>
          <p:nvPr/>
        </p:nvCxnSpPr>
        <p:spPr>
          <a:xfrm flipH="1">
            <a:off x="4571640" y="2206800"/>
            <a:ext cx="10080" cy="358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0" name=""/>
          <p:cNvCxnSpPr>
            <a:stCxn id="61" idx="2"/>
            <a:endCxn id="57" idx="0"/>
          </p:cNvCxnSpPr>
          <p:nvPr/>
        </p:nvCxnSpPr>
        <p:spPr>
          <a:xfrm>
            <a:off x="4572000" y="4191120"/>
            <a:ext cx="2160" cy="606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1" name=""/>
          <p:cNvCxnSpPr>
            <a:stCxn id="61" idx="3"/>
            <a:endCxn id="56" idx="1"/>
          </p:cNvCxnSpPr>
          <p:nvPr/>
        </p:nvCxnSpPr>
        <p:spPr>
          <a:xfrm>
            <a:off x="5651280" y="3378240"/>
            <a:ext cx="8658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2" name=""/>
          <p:cNvCxnSpPr>
            <a:stCxn id="58" idx="3"/>
            <a:endCxn id="61" idx="1"/>
          </p:cNvCxnSpPr>
          <p:nvPr/>
        </p:nvCxnSpPr>
        <p:spPr>
          <a:xfrm>
            <a:off x="2555640" y="2411280"/>
            <a:ext cx="937080" cy="967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3" name=""/>
          <p:cNvCxnSpPr>
            <a:stCxn id="59" idx="3"/>
            <a:endCxn id="61" idx="1"/>
          </p:cNvCxnSpPr>
          <p:nvPr/>
        </p:nvCxnSpPr>
        <p:spPr>
          <a:xfrm flipV="1">
            <a:off x="2555640" y="3377520"/>
            <a:ext cx="937080" cy="1121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468360" y="2997360"/>
            <a:ext cx="2087640" cy="962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search</a:t>
            </a:r>
            <a:br>
              <a:rPr sz="1200"/>
            </a:b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Offline </a:t>
            </a: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опрос / исследова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Анализ посещаемости сайт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Конкурентный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анализ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Поисковый анализ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Online </a:t>
            </a: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опрос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 Black"/>
              </a:rPr>
              <a:t>РАБОТА С КЛИЕНТАМИ В 21 ВЕКЕ</a:t>
            </a: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76" name=""/>
          <p:cNvSpPr/>
          <p:nvPr/>
        </p:nvSpPr>
        <p:spPr>
          <a:xfrm>
            <a:off x="4002120" y="1628640"/>
            <a:ext cx="1131840" cy="4343400"/>
          </a:xfrm>
          <a:prstGeom prst="downArrow">
            <a:avLst>
              <a:gd name="adj1" fmla="val 46556"/>
              <a:gd name="adj2" fmla="val 70957"/>
            </a:avLst>
          </a:prstGeom>
          <a:gradFill rotWithShape="0">
            <a:gsLst>
              <a:gs pos="0">
                <a:srgbClr val="99cc00">
                  <a:alpha val="80392"/>
                </a:srgbClr>
              </a:gs>
              <a:gs pos="50000">
                <a:srgbClr val="dfff85">
                  <a:alpha val="80392"/>
                </a:srgbClr>
              </a:gs>
              <a:gs pos="100000">
                <a:srgbClr val="99cc00">
                  <a:alpha val="8039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59160" y="2085840"/>
            <a:ext cx="2438280" cy="2362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44280">
            <a:solidFill>
              <a:srgbClr val="70a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45040" y="2938320"/>
            <a:ext cx="866520" cy="1800"/>
          </a:xfrm>
          <a:prstGeom prst="line">
            <a:avLst/>
          </a:prstGeom>
          <a:ln w="38160">
            <a:solidFill>
              <a:srgbClr val="70a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09960" y="3463920"/>
            <a:ext cx="1336680" cy="1440"/>
          </a:xfrm>
          <a:prstGeom prst="line">
            <a:avLst/>
          </a:prstGeom>
          <a:ln w="38160">
            <a:solidFill>
              <a:srgbClr val="70a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73440" y="3922560"/>
            <a:ext cx="1809720" cy="1800"/>
          </a:xfrm>
          <a:prstGeom prst="line">
            <a:avLst/>
          </a:prstGeom>
          <a:ln w="38160">
            <a:solidFill>
              <a:srgbClr val="70a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935520" y="3533760"/>
            <a:ext cx="153720" cy="333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167360" y="3533760"/>
            <a:ext cx="153720" cy="333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397400" y="3533760"/>
            <a:ext cx="154080" cy="333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4630680" y="3533760"/>
            <a:ext cx="154080" cy="333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4862520" y="3533760"/>
            <a:ext cx="154080" cy="333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5092560" y="3533760"/>
            <a:ext cx="154080" cy="333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3755880" y="4010040"/>
            <a:ext cx="154080" cy="324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3938760" y="4010040"/>
            <a:ext cx="155520" cy="324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4125960" y="4010040"/>
            <a:ext cx="155520" cy="324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0"/>
          <a:stretch/>
        </p:blipFill>
        <p:spPr>
          <a:xfrm>
            <a:off x="4314960" y="4010040"/>
            <a:ext cx="153720" cy="324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1"/>
          <a:stretch/>
        </p:blipFill>
        <p:spPr>
          <a:xfrm>
            <a:off x="4500720" y="4010040"/>
            <a:ext cx="155520" cy="324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2"/>
          <a:stretch/>
        </p:blipFill>
        <p:spPr>
          <a:xfrm>
            <a:off x="4687920" y="4010040"/>
            <a:ext cx="154080" cy="324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3"/>
          <a:stretch/>
        </p:blipFill>
        <p:spPr>
          <a:xfrm>
            <a:off x="4875120" y="4010040"/>
            <a:ext cx="155520" cy="324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4"/>
          <a:stretch/>
        </p:blipFill>
        <p:spPr>
          <a:xfrm>
            <a:off x="5062680" y="4010040"/>
            <a:ext cx="155520" cy="324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5"/>
          <a:stretch/>
        </p:blipFill>
        <p:spPr>
          <a:xfrm>
            <a:off x="5249880" y="4010040"/>
            <a:ext cx="154080" cy="324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6"/>
          <a:stretch/>
        </p:blipFill>
        <p:spPr>
          <a:xfrm>
            <a:off x="4402080" y="3030480"/>
            <a:ext cx="157320" cy="341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7"/>
          <a:stretch/>
        </p:blipFill>
        <p:spPr>
          <a:xfrm>
            <a:off x="4627440" y="3030480"/>
            <a:ext cx="157320" cy="341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8"/>
          <a:stretch/>
        </p:blipFill>
        <p:spPr>
          <a:xfrm>
            <a:off x="4853160" y="3030480"/>
            <a:ext cx="158400" cy="341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9"/>
          <a:stretch/>
        </p:blipFill>
        <p:spPr>
          <a:xfrm>
            <a:off x="4172040" y="3030480"/>
            <a:ext cx="156960" cy="341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894120" y="1484280"/>
            <a:ext cx="139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Информация </a:t>
            </a:r>
            <a:br>
              <a:rPr sz="1400"/>
            </a:b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и серви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89520" y="5435640"/>
            <a:ext cx="1162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Откл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Arial"/>
              </a:rPr>
              <a:t>отнош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325680" y="4456080"/>
            <a:ext cx="960480" cy="1676520"/>
            <a:chOff x="3325680" y="4456080"/>
            <a:chExt cx="960480" cy="1676520"/>
          </a:xfrm>
        </p:grpSpPr>
        <p:sp>
          <p:nvSpPr>
            <p:cNvPr id="103" name=""/>
            <p:cNvSpPr/>
            <p:nvPr/>
          </p:nvSpPr>
          <p:spPr>
            <a:xfrm>
              <a:off x="3651480" y="4623840"/>
              <a:ext cx="293400" cy="219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25680" y="4456080"/>
              <a:ext cx="960480" cy="1676520"/>
            </a:xfrm>
            <a:custGeom>
              <a:avLst/>
              <a:gdLst/>
              <a:ahLst/>
              <a:rect l="l" t="t" r="r" b="b"/>
              <a:pathLst>
                <a:path w="1315" h="2294">
                  <a:moveTo>
                    <a:pt x="407" y="887"/>
                  </a:moveTo>
                  <a:cubicBezTo>
                    <a:pt x="412" y="1140"/>
                    <a:pt x="405" y="1979"/>
                    <a:pt x="402" y="2202"/>
                  </a:cubicBezTo>
                  <a:cubicBezTo>
                    <a:pt x="423" y="2294"/>
                    <a:pt x="632" y="2280"/>
                    <a:pt x="625" y="2204"/>
                  </a:cubicBezTo>
                  <a:cubicBezTo>
                    <a:pt x="625" y="1761"/>
                    <a:pt x="618" y="1464"/>
                    <a:pt x="625" y="1317"/>
                  </a:cubicBezTo>
                  <a:cubicBezTo>
                    <a:pt x="630" y="1283"/>
                    <a:pt x="667" y="1294"/>
                    <a:pt x="667" y="1317"/>
                  </a:cubicBezTo>
                  <a:cubicBezTo>
                    <a:pt x="674" y="1788"/>
                    <a:pt x="669" y="2039"/>
                    <a:pt x="674" y="2200"/>
                  </a:cubicBezTo>
                  <a:cubicBezTo>
                    <a:pt x="674" y="2289"/>
                    <a:pt x="892" y="2289"/>
                    <a:pt x="892" y="2200"/>
                  </a:cubicBezTo>
                  <a:cubicBezTo>
                    <a:pt x="890" y="1542"/>
                    <a:pt x="890" y="887"/>
                    <a:pt x="890" y="887"/>
                  </a:cubicBezTo>
                  <a:cubicBezTo>
                    <a:pt x="1032" y="892"/>
                    <a:pt x="1098" y="872"/>
                    <a:pt x="1113" y="807"/>
                  </a:cubicBezTo>
                  <a:cubicBezTo>
                    <a:pt x="1193" y="467"/>
                    <a:pt x="1246" y="315"/>
                    <a:pt x="1299" y="122"/>
                  </a:cubicBezTo>
                  <a:cubicBezTo>
                    <a:pt x="1315" y="62"/>
                    <a:pt x="1161" y="0"/>
                    <a:pt x="1113" y="113"/>
                  </a:cubicBezTo>
                  <a:cubicBezTo>
                    <a:pt x="989" y="542"/>
                    <a:pt x="1010" y="482"/>
                    <a:pt x="989" y="542"/>
                  </a:cubicBezTo>
                  <a:cubicBezTo>
                    <a:pt x="968" y="602"/>
                    <a:pt x="944" y="594"/>
                    <a:pt x="893" y="595"/>
                  </a:cubicBezTo>
                  <a:cubicBezTo>
                    <a:pt x="794" y="598"/>
                    <a:pt x="644" y="593"/>
                    <a:pt x="400" y="593"/>
                  </a:cubicBezTo>
                  <a:cubicBezTo>
                    <a:pt x="359" y="586"/>
                    <a:pt x="342" y="589"/>
                    <a:pt x="324" y="552"/>
                  </a:cubicBezTo>
                  <a:cubicBezTo>
                    <a:pt x="306" y="515"/>
                    <a:pt x="315" y="536"/>
                    <a:pt x="193" y="115"/>
                  </a:cubicBezTo>
                  <a:cubicBezTo>
                    <a:pt x="172" y="28"/>
                    <a:pt x="5" y="37"/>
                    <a:pt x="0" y="117"/>
                  </a:cubicBezTo>
                  <a:cubicBezTo>
                    <a:pt x="99" y="457"/>
                    <a:pt x="198" y="798"/>
                    <a:pt x="198" y="798"/>
                  </a:cubicBezTo>
                  <a:cubicBezTo>
                    <a:pt x="236" y="919"/>
                    <a:pt x="363" y="871"/>
                    <a:pt x="407" y="887"/>
                  </a:cubicBezTo>
                  <a:close/>
                </a:path>
              </a:pathLst>
            </a:custGeom>
            <a:solidFill>
              <a:srgbClr val="ffcc00"/>
            </a:solidFill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910040" y="4457880"/>
            <a:ext cx="960480" cy="1676160"/>
            <a:chOff x="4910040" y="4457880"/>
            <a:chExt cx="960480" cy="1676160"/>
          </a:xfrm>
        </p:grpSpPr>
        <p:sp>
          <p:nvSpPr>
            <p:cNvPr id="106" name=""/>
            <p:cNvSpPr/>
            <p:nvPr/>
          </p:nvSpPr>
          <p:spPr>
            <a:xfrm>
              <a:off x="5235840" y="4625640"/>
              <a:ext cx="293400" cy="219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10040" y="4457880"/>
              <a:ext cx="960480" cy="1676160"/>
            </a:xfrm>
            <a:custGeom>
              <a:avLst/>
              <a:gdLst/>
              <a:ahLst/>
              <a:rect l="l" t="t" r="r" b="b"/>
              <a:pathLst>
                <a:path w="1315" h="2294">
                  <a:moveTo>
                    <a:pt x="407" y="887"/>
                  </a:moveTo>
                  <a:cubicBezTo>
                    <a:pt x="412" y="1140"/>
                    <a:pt x="405" y="1979"/>
                    <a:pt x="402" y="2202"/>
                  </a:cubicBezTo>
                  <a:cubicBezTo>
                    <a:pt x="423" y="2294"/>
                    <a:pt x="632" y="2280"/>
                    <a:pt x="625" y="2204"/>
                  </a:cubicBezTo>
                  <a:cubicBezTo>
                    <a:pt x="625" y="1761"/>
                    <a:pt x="618" y="1464"/>
                    <a:pt x="625" y="1317"/>
                  </a:cubicBezTo>
                  <a:cubicBezTo>
                    <a:pt x="630" y="1283"/>
                    <a:pt x="667" y="1294"/>
                    <a:pt x="667" y="1317"/>
                  </a:cubicBezTo>
                  <a:cubicBezTo>
                    <a:pt x="674" y="1788"/>
                    <a:pt x="669" y="2039"/>
                    <a:pt x="674" y="2200"/>
                  </a:cubicBezTo>
                  <a:cubicBezTo>
                    <a:pt x="674" y="2289"/>
                    <a:pt x="892" y="2289"/>
                    <a:pt x="892" y="2200"/>
                  </a:cubicBezTo>
                  <a:cubicBezTo>
                    <a:pt x="890" y="1542"/>
                    <a:pt x="890" y="887"/>
                    <a:pt x="890" y="887"/>
                  </a:cubicBezTo>
                  <a:cubicBezTo>
                    <a:pt x="1032" y="892"/>
                    <a:pt x="1098" y="872"/>
                    <a:pt x="1113" y="807"/>
                  </a:cubicBezTo>
                  <a:cubicBezTo>
                    <a:pt x="1193" y="467"/>
                    <a:pt x="1246" y="315"/>
                    <a:pt x="1299" y="122"/>
                  </a:cubicBezTo>
                  <a:cubicBezTo>
                    <a:pt x="1315" y="62"/>
                    <a:pt x="1161" y="0"/>
                    <a:pt x="1113" y="113"/>
                  </a:cubicBezTo>
                  <a:cubicBezTo>
                    <a:pt x="989" y="542"/>
                    <a:pt x="1010" y="482"/>
                    <a:pt x="989" y="542"/>
                  </a:cubicBezTo>
                  <a:cubicBezTo>
                    <a:pt x="968" y="602"/>
                    <a:pt x="944" y="594"/>
                    <a:pt x="893" y="595"/>
                  </a:cubicBezTo>
                  <a:cubicBezTo>
                    <a:pt x="794" y="598"/>
                    <a:pt x="644" y="593"/>
                    <a:pt x="400" y="593"/>
                  </a:cubicBezTo>
                  <a:cubicBezTo>
                    <a:pt x="359" y="586"/>
                    <a:pt x="342" y="589"/>
                    <a:pt x="324" y="552"/>
                  </a:cubicBezTo>
                  <a:cubicBezTo>
                    <a:pt x="306" y="515"/>
                    <a:pt x="315" y="536"/>
                    <a:pt x="193" y="115"/>
                  </a:cubicBezTo>
                  <a:cubicBezTo>
                    <a:pt x="172" y="28"/>
                    <a:pt x="5" y="37"/>
                    <a:pt x="0" y="117"/>
                  </a:cubicBezTo>
                  <a:cubicBezTo>
                    <a:pt x="99" y="457"/>
                    <a:pt x="198" y="798"/>
                    <a:pt x="198" y="798"/>
                  </a:cubicBezTo>
                  <a:cubicBezTo>
                    <a:pt x="236" y="919"/>
                    <a:pt x="363" y="871"/>
                    <a:pt x="407" y="887"/>
                  </a:cubicBezTo>
                  <a:close/>
                </a:path>
              </a:pathLst>
            </a:custGeom>
            <a:solidFill>
              <a:srgbClr val="ffcc00"/>
            </a:solidFill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419720" y="2546280"/>
            <a:ext cx="142920" cy="311400"/>
            <a:chOff x="4419720" y="2546280"/>
            <a:chExt cx="142920" cy="311400"/>
          </a:xfrm>
        </p:grpSpPr>
        <p:sp>
          <p:nvSpPr>
            <p:cNvPr id="109" name=""/>
            <p:cNvSpPr/>
            <p:nvPr/>
          </p:nvSpPr>
          <p:spPr>
            <a:xfrm>
              <a:off x="4464720" y="2546280"/>
              <a:ext cx="50760" cy="43920"/>
            </a:xfrm>
            <a:prstGeom prst="ellipse">
              <a:avLst/>
            </a:prstGeom>
            <a:noFill/>
            <a:ln cap="rnd" w="6480">
              <a:solidFill>
                <a:srgbClr val="777777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19720" y="2597040"/>
              <a:ext cx="142920" cy="260640"/>
            </a:xfrm>
            <a:custGeom>
              <a:avLst/>
              <a:gdLst/>
              <a:ahLst/>
              <a:rect l="l" t="t" r="r" b="b"/>
              <a:pathLst>
                <a:path w="552" h="971">
                  <a:moveTo>
                    <a:pt x="155" y="171"/>
                  </a:moveTo>
                  <a:cubicBezTo>
                    <a:pt x="158" y="315"/>
                    <a:pt x="154" y="792"/>
                    <a:pt x="153" y="919"/>
                  </a:cubicBezTo>
                  <a:cubicBezTo>
                    <a:pt x="163" y="971"/>
                    <a:pt x="267" y="963"/>
                    <a:pt x="264" y="920"/>
                  </a:cubicBezTo>
                  <a:cubicBezTo>
                    <a:pt x="264" y="668"/>
                    <a:pt x="260" y="499"/>
                    <a:pt x="264" y="416"/>
                  </a:cubicBezTo>
                  <a:cubicBezTo>
                    <a:pt x="266" y="396"/>
                    <a:pt x="285" y="403"/>
                    <a:pt x="285" y="416"/>
                  </a:cubicBezTo>
                  <a:cubicBezTo>
                    <a:pt x="288" y="683"/>
                    <a:pt x="286" y="826"/>
                    <a:pt x="288" y="918"/>
                  </a:cubicBezTo>
                  <a:cubicBezTo>
                    <a:pt x="288" y="968"/>
                    <a:pt x="397" y="968"/>
                    <a:pt x="397" y="918"/>
                  </a:cubicBezTo>
                  <a:cubicBezTo>
                    <a:pt x="396" y="544"/>
                    <a:pt x="395" y="183"/>
                    <a:pt x="395" y="183"/>
                  </a:cubicBezTo>
                  <a:cubicBezTo>
                    <a:pt x="414" y="164"/>
                    <a:pt x="435" y="173"/>
                    <a:pt x="444" y="182"/>
                  </a:cubicBezTo>
                  <a:cubicBezTo>
                    <a:pt x="440" y="488"/>
                    <a:pt x="443" y="354"/>
                    <a:pt x="440" y="491"/>
                  </a:cubicBezTo>
                  <a:cubicBezTo>
                    <a:pt x="444" y="521"/>
                    <a:pt x="516" y="549"/>
                    <a:pt x="545" y="491"/>
                  </a:cubicBezTo>
                  <a:cubicBezTo>
                    <a:pt x="552" y="128"/>
                    <a:pt x="545" y="489"/>
                    <a:pt x="551" y="123"/>
                  </a:cubicBezTo>
                  <a:cubicBezTo>
                    <a:pt x="552" y="6"/>
                    <a:pt x="414" y="3"/>
                    <a:pt x="397" y="5"/>
                  </a:cubicBezTo>
                  <a:cubicBezTo>
                    <a:pt x="348" y="7"/>
                    <a:pt x="273" y="4"/>
                    <a:pt x="152" y="4"/>
                  </a:cubicBezTo>
                  <a:cubicBezTo>
                    <a:pt x="131" y="0"/>
                    <a:pt x="6" y="3"/>
                    <a:pt x="3" y="111"/>
                  </a:cubicBezTo>
                  <a:cubicBezTo>
                    <a:pt x="0" y="219"/>
                    <a:pt x="3" y="111"/>
                    <a:pt x="0" y="489"/>
                  </a:cubicBezTo>
                  <a:cubicBezTo>
                    <a:pt x="21" y="548"/>
                    <a:pt x="110" y="527"/>
                    <a:pt x="108" y="483"/>
                  </a:cubicBezTo>
                  <a:cubicBezTo>
                    <a:pt x="108" y="174"/>
                    <a:pt x="108" y="171"/>
                    <a:pt x="108" y="171"/>
                  </a:cubicBezTo>
                  <a:cubicBezTo>
                    <a:pt x="125" y="159"/>
                    <a:pt x="137" y="158"/>
                    <a:pt x="155" y="171"/>
                  </a:cubicBezTo>
                  <a:close/>
                </a:path>
              </a:pathLst>
            </a:custGeom>
            <a:noFill/>
            <a:ln cap="rnd" w="6480">
              <a:solidFill>
                <a:srgbClr val="777777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600440" y="2546280"/>
            <a:ext cx="142920" cy="311400"/>
            <a:chOff x="4600440" y="2546280"/>
            <a:chExt cx="142920" cy="311400"/>
          </a:xfrm>
        </p:grpSpPr>
        <p:sp>
          <p:nvSpPr>
            <p:cNvPr id="112" name=""/>
            <p:cNvSpPr/>
            <p:nvPr/>
          </p:nvSpPr>
          <p:spPr>
            <a:xfrm>
              <a:off x="4645440" y="2546280"/>
              <a:ext cx="50760" cy="43920"/>
            </a:xfrm>
            <a:prstGeom prst="ellipse">
              <a:avLst/>
            </a:prstGeom>
            <a:noFill/>
            <a:ln cap="rnd" w="6480">
              <a:solidFill>
                <a:srgbClr val="777777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00440" y="2597040"/>
              <a:ext cx="142920" cy="260640"/>
            </a:xfrm>
            <a:custGeom>
              <a:avLst/>
              <a:gdLst/>
              <a:ahLst/>
              <a:rect l="l" t="t" r="r" b="b"/>
              <a:pathLst>
                <a:path w="552" h="971">
                  <a:moveTo>
                    <a:pt x="155" y="171"/>
                  </a:moveTo>
                  <a:cubicBezTo>
                    <a:pt x="158" y="315"/>
                    <a:pt x="154" y="792"/>
                    <a:pt x="153" y="919"/>
                  </a:cubicBezTo>
                  <a:cubicBezTo>
                    <a:pt x="163" y="971"/>
                    <a:pt x="267" y="963"/>
                    <a:pt x="264" y="920"/>
                  </a:cubicBezTo>
                  <a:cubicBezTo>
                    <a:pt x="264" y="668"/>
                    <a:pt x="260" y="499"/>
                    <a:pt x="264" y="416"/>
                  </a:cubicBezTo>
                  <a:cubicBezTo>
                    <a:pt x="266" y="396"/>
                    <a:pt x="285" y="403"/>
                    <a:pt x="285" y="416"/>
                  </a:cubicBezTo>
                  <a:cubicBezTo>
                    <a:pt x="288" y="683"/>
                    <a:pt x="286" y="826"/>
                    <a:pt x="288" y="918"/>
                  </a:cubicBezTo>
                  <a:cubicBezTo>
                    <a:pt x="288" y="968"/>
                    <a:pt x="397" y="968"/>
                    <a:pt x="397" y="918"/>
                  </a:cubicBezTo>
                  <a:cubicBezTo>
                    <a:pt x="396" y="544"/>
                    <a:pt x="395" y="183"/>
                    <a:pt x="395" y="183"/>
                  </a:cubicBezTo>
                  <a:cubicBezTo>
                    <a:pt x="414" y="164"/>
                    <a:pt x="435" y="173"/>
                    <a:pt x="444" y="182"/>
                  </a:cubicBezTo>
                  <a:cubicBezTo>
                    <a:pt x="440" y="488"/>
                    <a:pt x="443" y="354"/>
                    <a:pt x="440" y="491"/>
                  </a:cubicBezTo>
                  <a:cubicBezTo>
                    <a:pt x="444" y="521"/>
                    <a:pt x="516" y="549"/>
                    <a:pt x="545" y="491"/>
                  </a:cubicBezTo>
                  <a:cubicBezTo>
                    <a:pt x="552" y="128"/>
                    <a:pt x="545" y="489"/>
                    <a:pt x="551" y="123"/>
                  </a:cubicBezTo>
                  <a:cubicBezTo>
                    <a:pt x="552" y="6"/>
                    <a:pt x="414" y="3"/>
                    <a:pt x="397" y="5"/>
                  </a:cubicBezTo>
                  <a:cubicBezTo>
                    <a:pt x="348" y="7"/>
                    <a:pt x="273" y="4"/>
                    <a:pt x="152" y="4"/>
                  </a:cubicBezTo>
                  <a:cubicBezTo>
                    <a:pt x="131" y="0"/>
                    <a:pt x="6" y="3"/>
                    <a:pt x="3" y="111"/>
                  </a:cubicBezTo>
                  <a:cubicBezTo>
                    <a:pt x="0" y="219"/>
                    <a:pt x="3" y="111"/>
                    <a:pt x="0" y="489"/>
                  </a:cubicBezTo>
                  <a:cubicBezTo>
                    <a:pt x="21" y="548"/>
                    <a:pt x="110" y="527"/>
                    <a:pt x="108" y="483"/>
                  </a:cubicBezTo>
                  <a:cubicBezTo>
                    <a:pt x="108" y="174"/>
                    <a:pt x="108" y="171"/>
                    <a:pt x="108" y="171"/>
                  </a:cubicBezTo>
                  <a:cubicBezTo>
                    <a:pt x="125" y="159"/>
                    <a:pt x="137" y="158"/>
                    <a:pt x="155" y="171"/>
                  </a:cubicBezTo>
                  <a:close/>
                </a:path>
              </a:pathLst>
            </a:custGeom>
            <a:noFill/>
            <a:ln cap="rnd" w="6480">
              <a:solidFill>
                <a:srgbClr val="777777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2843280" y="2695680"/>
            <a:ext cx="1604880" cy="2309760"/>
          </a:xfrm>
          <a:custGeom>
            <a:avLst/>
            <a:gdLst/>
            <a:ahLst/>
            <a:rect l="l" t="t" r="r" b="b"/>
            <a:pathLst>
              <a:path w="1011" h="1455">
                <a:moveTo>
                  <a:pt x="1011" y="0"/>
                </a:moveTo>
                <a:cubicBezTo>
                  <a:pt x="875" y="142"/>
                  <a:pt x="386" y="414"/>
                  <a:pt x="192" y="851"/>
                </a:cubicBezTo>
                <a:cubicBezTo>
                  <a:pt x="0" y="1347"/>
                  <a:pt x="308" y="1329"/>
                  <a:pt x="338" y="1455"/>
                </a:cubicBezTo>
              </a:path>
            </a:pathLst>
          </a:custGeom>
          <a:noFill/>
          <a:ln w="7632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723560" y="2695680"/>
            <a:ext cx="1605240" cy="2309760"/>
          </a:xfrm>
          <a:custGeom>
            <a:avLst/>
            <a:gdLst/>
            <a:ahLst/>
            <a:rect l="l" t="t" r="r" b="b"/>
            <a:pathLst>
              <a:path w="1011" h="1455">
                <a:moveTo>
                  <a:pt x="1011" y="0"/>
                </a:moveTo>
                <a:cubicBezTo>
                  <a:pt x="875" y="142"/>
                  <a:pt x="386" y="414"/>
                  <a:pt x="192" y="851"/>
                </a:cubicBezTo>
                <a:cubicBezTo>
                  <a:pt x="0" y="1347"/>
                  <a:pt x="308" y="1329"/>
                  <a:pt x="338" y="1455"/>
                </a:cubicBezTo>
              </a:path>
            </a:pathLst>
          </a:custGeom>
          <a:noFill/>
          <a:ln w="7632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2840" y="1916280"/>
            <a:ext cx="2735280" cy="1368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ренд-коммуника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асто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ункциона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56360" y="1916280"/>
            <a:ext cx="2735280" cy="1368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ервис </a:t>
            </a:r>
            <a:br>
              <a:rPr sz="16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ценность для клиента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ффектив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ступ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деж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3284640"/>
            <a:ext cx="2592360" cy="8650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сонал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27640" y="3284640"/>
            <a:ext cx="2592360" cy="8650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акт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4149720"/>
            <a:ext cx="2735280" cy="1368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клик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аффик на сай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мер базы да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версия (заказы / визи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56360" y="4149720"/>
            <a:ext cx="2735280" cy="1368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5680" indent="-8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нош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яльность и вовлеч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астота и сумма покуп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веты знаком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 Black"/>
              </a:rPr>
              <a:t>ЦИКЛ ОТНОШЕНИЙ С КЛИЕНТОМ</a:t>
            </a: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2014560"/>
            <a:ext cx="4876560" cy="35812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317af"/>
                </a:solidFill>
                <a:latin typeface="FranklinGothic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163368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знавае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88000" y="4005360"/>
            <a:ext cx="255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бор данных перед заказ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та с возражен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80000" y="567216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аз /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пл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76360" y="51577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тгруз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3429000"/>
            <a:ext cx="198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держк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л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даж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2302200">
            <a:off x="6019560" y="4833720"/>
            <a:ext cx="533160" cy="533160"/>
          </a:xfrm>
          <a:prstGeom prst="downArrow">
            <a:avLst>
              <a:gd name="adj1" fmla="val 43750"/>
              <a:gd name="adj2" fmla="val 46727"/>
            </a:avLst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9822600">
            <a:off x="1980720" y="3995280"/>
            <a:ext cx="533520" cy="533520"/>
          </a:xfrm>
          <a:prstGeom prst="downArrow">
            <a:avLst>
              <a:gd name="adj1" fmla="val 43750"/>
              <a:gd name="adj2" fmla="val 46727"/>
            </a:avLst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8519600">
            <a:off x="6400800" y="2547360"/>
            <a:ext cx="533160" cy="533520"/>
          </a:xfrm>
          <a:prstGeom prst="downArrow">
            <a:avLst>
              <a:gd name="adj1" fmla="val 43750"/>
              <a:gd name="adj2" fmla="val 46758"/>
            </a:avLst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6964800">
            <a:off x="3124080" y="5062320"/>
            <a:ext cx="533160" cy="533520"/>
          </a:xfrm>
          <a:prstGeom prst="downArrow">
            <a:avLst>
              <a:gd name="adj1" fmla="val 43750"/>
              <a:gd name="adj2" fmla="val 46758"/>
            </a:avLst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1773360"/>
            <a:ext cx="223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тие отнош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предпочт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2828600">
            <a:off x="2209680" y="2700360"/>
            <a:ext cx="533520" cy="533520"/>
          </a:xfrm>
          <a:prstGeom prst="downArrow">
            <a:avLst>
              <a:gd name="adj1" fmla="val 43750"/>
              <a:gd name="adj2" fmla="val 46727"/>
            </a:avLst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1557360"/>
            <a:ext cx="4114800" cy="609480"/>
          </a:xfrm>
          <a:prstGeom prst="ellipse">
            <a:avLst/>
          </a:prstGeom>
          <a:noFill/>
          <a:ln w="38160">
            <a:solidFill>
              <a:srgbClr val="131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00800" y="254808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дание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тие интер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1280" y="1557360"/>
            <a:ext cx="2916360" cy="3456000"/>
          </a:xfrm>
          <a:prstGeom prst="ellipse">
            <a:avLst/>
          </a:prstGeom>
          <a:noFill/>
          <a:ln w="38160">
            <a:solidFill>
              <a:srgbClr val="131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2276640"/>
            <a:ext cx="3168720" cy="3744720"/>
          </a:xfrm>
          <a:prstGeom prst="ellipse">
            <a:avLst/>
          </a:prstGeom>
          <a:noFill/>
          <a:ln w="38160">
            <a:solidFill>
              <a:srgbClr val="131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6920" y="4941720"/>
            <a:ext cx="6193080" cy="1366920"/>
          </a:xfrm>
          <a:prstGeom prst="ellipse">
            <a:avLst/>
          </a:prstGeom>
          <a:noFill/>
          <a:ln w="38160">
            <a:solidFill>
              <a:srgbClr val="131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3400" y="189000"/>
            <a:ext cx="8381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 Black"/>
              </a:rPr>
              <a:t>Q&amp;A</a:t>
            </a:r>
            <a:r>
              <a:rPr b="0" lang="ru-RU" sz="3600" spc="-1" strike="noStrike">
                <a:solidFill>
                  <a:srgbClr val="800000"/>
                </a:solidFill>
                <a:latin typeface="Arial Black"/>
              </a:rPr>
              <a:t>: 1) Как лучше?</a:t>
            </a: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4038480" y="1905120"/>
            <a:ext cx="2057400" cy="182880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17" y="0"/>
                </a:lnTo>
                <a:lnTo>
                  <a:pt x="21600" y="10800"/>
                </a:lnTo>
                <a:lnTo>
                  <a:pt x="541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9bf2d"/>
              </a:gs>
              <a:gs pos="100000">
                <a:srgbClr val="bee7b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63400" y="4114800"/>
            <a:ext cx="1410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ходные страниц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лавна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мо-ак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пец. страниц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 E-mail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пис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200840" y="2296080"/>
            <a:ext cx="969840" cy="969840"/>
            <a:chOff x="4200840" y="2296080"/>
            <a:chExt cx="969840" cy="969840"/>
          </a:xfrm>
        </p:grpSpPr>
        <p:sp>
          <p:nvSpPr>
            <p:cNvPr id="144" name=""/>
            <p:cNvSpPr/>
            <p:nvPr/>
          </p:nvSpPr>
          <p:spPr>
            <a:xfrm rot="18900000">
              <a:off x="4344120" y="2439000"/>
              <a:ext cx="684360" cy="68472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684720"/>
                <a:gd name="textAreaBottom" fmla="*/ 685080 h 68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8108608"/>
                  <a:lnTo>
                    <a:pt x="3144" y="3182"/>
                  </a:lnTo>
                  <a:arcTo wR="10800" hR="10800" stAng="-8108608" swAng="8108608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87878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8100000">
              <a:off x="4342680" y="2437920"/>
              <a:ext cx="685800" cy="6858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7987422"/>
                  <a:lnTo>
                    <a:pt x="3417" y="2917"/>
                  </a:lnTo>
                  <a:arcTo wR="10800" hR="10800" stAng="-7987422" swAng="7987422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87878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32560" y="4114800"/>
            <a:ext cx="1512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аркетинг Мик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исковые машин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артнерские ссыл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Баннерная рекла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 Email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рассыл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 Direct Ma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дио рекла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ыставки и форум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елерекла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09880" y="152892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авига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152892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74440" y="4114800"/>
            <a:ext cx="1351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ака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гистра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 E-mail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пис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апрос доп. инф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57200" y="4114800"/>
            <a:ext cx="1494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ерви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ис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тало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Брошюры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по продукта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вой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лькулято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- Сравн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- Вызов консультан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19520" y="15289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Точки вхо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15289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Усилия по привлечен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543800" y="1828800"/>
            <a:ext cx="1295280" cy="205740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933" y="0"/>
                </a:lnTo>
                <a:lnTo>
                  <a:pt x="21600" y="10800"/>
                </a:lnTo>
                <a:lnTo>
                  <a:pt x="1393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9bf2d"/>
              </a:gs>
              <a:gs pos="100000">
                <a:srgbClr val="bee7b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38880" y="1752480"/>
            <a:ext cx="0" cy="2057400"/>
          </a:xfrm>
          <a:prstGeom prst="line">
            <a:avLst/>
          </a:prstGeom>
          <a:ln w="57240">
            <a:solidFill>
              <a:srgbClr val="e1d7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0" y="1143000"/>
            <a:ext cx="4157640" cy="304920"/>
          </a:xfrm>
          <a:prstGeom prst="rect">
            <a:avLst/>
          </a:prstGeom>
          <a:solidFill>
            <a:srgbClr val="70a1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интересовать и удерж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659640" y="1143000"/>
            <a:ext cx="2255760" cy="304920"/>
          </a:xfrm>
          <a:prstGeom prst="rect">
            <a:avLst/>
          </a:prstGeom>
          <a:solidFill>
            <a:srgbClr val="70a1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помнить и верну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67480" y="1528920"/>
            <a:ext cx="12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осле заказ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221600" y="3949560"/>
            <a:ext cx="2152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осле заказ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оп. продук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озвраты и обме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ех. серви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Опрос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-mail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пис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143000"/>
            <a:ext cx="1676520" cy="304920"/>
          </a:xfrm>
          <a:prstGeom prst="rect">
            <a:avLst/>
          </a:prstGeom>
          <a:solidFill>
            <a:srgbClr val="70a1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ивлеч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1828800"/>
            <a:ext cx="2438280" cy="220968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765" y="0"/>
                </a:lnTo>
                <a:lnTo>
                  <a:pt x="21600" y="10800"/>
                </a:lnTo>
                <a:lnTo>
                  <a:pt x="976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9bf2d"/>
              </a:gs>
              <a:gs pos="100000">
                <a:srgbClr val="bee7b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21040" y="1828800"/>
            <a:ext cx="0" cy="2057400"/>
          </a:xfrm>
          <a:prstGeom prst="line">
            <a:avLst/>
          </a:prstGeom>
          <a:ln w="57240">
            <a:solidFill>
              <a:srgbClr val="e1d7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914400" cy="773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57200" y="2971800"/>
            <a:ext cx="871560" cy="703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2268360" y="2205000"/>
            <a:ext cx="1872000" cy="14032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5219640" y="2205000"/>
            <a:ext cx="1944720" cy="1459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7667640" y="2060640"/>
            <a:ext cx="914400" cy="7729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7596360" y="2997360"/>
            <a:ext cx="871200" cy="70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 rot="5400000">
            <a:off x="1866240" y="2751840"/>
            <a:ext cx="576000" cy="1067040"/>
          </a:xfrm>
          <a:custGeom>
            <a:avLst/>
            <a:gdLst/>
            <a:ahLst/>
            <a:rect l="l" t="t" r="r" b="b"/>
            <a:pathLst>
              <a:path w="4168" h="1128">
                <a:moveTo>
                  <a:pt x="0" y="0"/>
                </a:moveTo>
                <a:cubicBezTo>
                  <a:pt x="0" y="563"/>
                  <a:pt x="0" y="1128"/>
                  <a:pt x="0" y="1128"/>
                </a:cubicBezTo>
                <a:cubicBezTo>
                  <a:pt x="2113" y="442"/>
                  <a:pt x="3088" y="872"/>
                  <a:pt x="4168" y="976"/>
                </a:cubicBezTo>
                <a:cubicBezTo>
                  <a:pt x="4168" y="976"/>
                  <a:pt x="4168" y="520"/>
                  <a:pt x="4168" y="104"/>
                </a:cubicBezTo>
                <a:cubicBezTo>
                  <a:pt x="1376" y="592"/>
                  <a:pt x="632" y="0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99cc00">
                  <a:alpha val="80392"/>
                </a:srgbClr>
              </a:gs>
              <a:gs pos="50000">
                <a:srgbClr val="dfff85">
                  <a:alpha val="80392"/>
                </a:srgbClr>
              </a:gs>
              <a:gs pos="100000">
                <a:srgbClr val="99cc00">
                  <a:alpha val="8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 Black"/>
              </a:rPr>
              <a:t>Q&amp;A</a:t>
            </a:r>
            <a:r>
              <a:rPr b="0" lang="ru-RU" sz="3600" spc="-1" strike="noStrike">
                <a:solidFill>
                  <a:srgbClr val="800000"/>
                </a:solidFill>
                <a:latin typeface="Arial Black"/>
              </a:rPr>
              <a:t>: </a:t>
            </a:r>
            <a:r>
              <a:rPr b="0" lang="en-US" sz="3600" spc="-1" strike="noStrike">
                <a:solidFill>
                  <a:srgbClr val="800000"/>
                </a:solidFill>
                <a:latin typeface="Arial Black"/>
              </a:rPr>
              <a:t>2</a:t>
            </a:r>
            <a:r>
              <a:rPr b="0" lang="ru-RU" sz="3600" spc="-1" strike="noStrike">
                <a:solidFill>
                  <a:srgbClr val="800000"/>
                </a:solidFill>
                <a:latin typeface="Arial Black"/>
              </a:rPr>
              <a:t>) Как считать </a:t>
            </a:r>
            <a:r>
              <a:rPr b="0" lang="en-US" sz="3600" spc="-1" strike="noStrike">
                <a:solidFill>
                  <a:srgbClr val="800000"/>
                </a:solidFill>
                <a:latin typeface="Arial Black"/>
              </a:rPr>
              <a:t>ROI?</a:t>
            </a:r>
            <a:endParaRPr b="0" lang="en-US" sz="36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70" name=""/>
          <p:cNvSpPr/>
          <p:nvPr/>
        </p:nvSpPr>
        <p:spPr>
          <a:xfrm rot="10660200">
            <a:off x="5824080" y="1522080"/>
            <a:ext cx="1752840" cy="722160"/>
          </a:xfrm>
          <a:custGeom>
            <a:avLst/>
            <a:gdLst/>
            <a:ahLst/>
            <a:rect l="l" t="t" r="r" b="b"/>
            <a:pathLst>
              <a:path w="4168" h="1128">
                <a:moveTo>
                  <a:pt x="0" y="0"/>
                </a:moveTo>
                <a:cubicBezTo>
                  <a:pt x="0" y="563"/>
                  <a:pt x="0" y="1128"/>
                  <a:pt x="0" y="1128"/>
                </a:cubicBezTo>
                <a:cubicBezTo>
                  <a:pt x="2113" y="442"/>
                  <a:pt x="3088" y="872"/>
                  <a:pt x="4168" y="976"/>
                </a:cubicBezTo>
                <a:cubicBezTo>
                  <a:pt x="4168" y="976"/>
                  <a:pt x="4168" y="520"/>
                  <a:pt x="4168" y="104"/>
                </a:cubicBezTo>
                <a:cubicBezTo>
                  <a:pt x="1376" y="592"/>
                  <a:pt x="632" y="0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99cc00">
                  <a:alpha val="80392"/>
                </a:srgbClr>
              </a:gs>
              <a:gs pos="50000">
                <a:srgbClr val="dfff85">
                  <a:alpha val="80392"/>
                </a:srgbClr>
              </a:gs>
              <a:gs pos="100000">
                <a:srgbClr val="99cc00">
                  <a:alpha val="80392"/>
                </a:srgbClr>
              </a:gs>
            </a:gsLst>
            <a:lin ang="1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5400000">
            <a:off x="4870080" y="2171880"/>
            <a:ext cx="1143000" cy="1066680"/>
          </a:xfrm>
          <a:custGeom>
            <a:avLst/>
            <a:gdLst/>
            <a:ahLst/>
            <a:rect l="l" t="t" r="r" b="b"/>
            <a:pathLst>
              <a:path w="4168" h="1128">
                <a:moveTo>
                  <a:pt x="0" y="0"/>
                </a:moveTo>
                <a:cubicBezTo>
                  <a:pt x="0" y="563"/>
                  <a:pt x="0" y="1128"/>
                  <a:pt x="0" y="1128"/>
                </a:cubicBezTo>
                <a:cubicBezTo>
                  <a:pt x="2113" y="442"/>
                  <a:pt x="3088" y="872"/>
                  <a:pt x="4168" y="976"/>
                </a:cubicBezTo>
                <a:cubicBezTo>
                  <a:pt x="4168" y="976"/>
                  <a:pt x="4168" y="520"/>
                  <a:pt x="4168" y="104"/>
                </a:cubicBezTo>
                <a:cubicBezTo>
                  <a:pt x="1376" y="592"/>
                  <a:pt x="632" y="0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99cc00">
                  <a:alpha val="80392"/>
                </a:srgbClr>
              </a:gs>
              <a:gs pos="50000">
                <a:srgbClr val="dfff85">
                  <a:alpha val="80392"/>
                </a:srgbClr>
              </a:gs>
              <a:gs pos="100000">
                <a:srgbClr val="99cc00">
                  <a:alpha val="8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5254800">
            <a:off x="5284800" y="2798640"/>
            <a:ext cx="381240" cy="117360"/>
          </a:xfrm>
          <a:prstGeom prst="rightArrow">
            <a:avLst>
              <a:gd name="adj1" fmla="val 34722"/>
              <a:gd name="adj2" fmla="val 114869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84360" y="1523880"/>
            <a:ext cx="3497400" cy="993960"/>
          </a:xfrm>
          <a:custGeom>
            <a:avLst/>
            <a:gdLst/>
            <a:ahLst/>
            <a:rect l="l" t="t" r="r" b="b"/>
            <a:pathLst>
              <a:path w="4168" h="1128">
                <a:moveTo>
                  <a:pt x="0" y="0"/>
                </a:moveTo>
                <a:cubicBezTo>
                  <a:pt x="0" y="563"/>
                  <a:pt x="0" y="1128"/>
                  <a:pt x="0" y="1128"/>
                </a:cubicBezTo>
                <a:cubicBezTo>
                  <a:pt x="2113" y="442"/>
                  <a:pt x="3088" y="872"/>
                  <a:pt x="4168" y="976"/>
                </a:cubicBezTo>
                <a:cubicBezTo>
                  <a:pt x="4168" y="976"/>
                  <a:pt x="4168" y="520"/>
                  <a:pt x="4168" y="104"/>
                </a:cubicBezTo>
                <a:cubicBezTo>
                  <a:pt x="1376" y="592"/>
                  <a:pt x="632" y="0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99cc00">
                  <a:alpha val="80392"/>
                </a:srgbClr>
              </a:gs>
              <a:gs pos="50000">
                <a:srgbClr val="dfff85">
                  <a:alpha val="80392"/>
                </a:srgbClr>
              </a:gs>
              <a:gs pos="100000">
                <a:srgbClr val="99cc00">
                  <a:alpha val="8039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76920" y="3124080"/>
            <a:ext cx="1174680" cy="12193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08600" y="1447920"/>
            <a:ext cx="1101600" cy="11430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62520" y="1905120"/>
            <a:ext cx="466560" cy="163440"/>
          </a:xfrm>
          <a:prstGeom prst="rightArrow">
            <a:avLst>
              <a:gd name="adj1" fmla="val 34722"/>
              <a:gd name="adj2" fmla="val 100943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227240" y="4648320"/>
            <a:ext cx="1790640" cy="228600"/>
            <a:chOff x="1227240" y="4648320"/>
            <a:chExt cx="1790640" cy="228600"/>
          </a:xfrm>
        </p:grpSpPr>
        <p:sp>
          <p:nvSpPr>
            <p:cNvPr id="178" name=""/>
            <p:cNvSpPr/>
            <p:nvPr/>
          </p:nvSpPr>
          <p:spPr>
            <a:xfrm>
              <a:off x="1245960" y="4648320"/>
              <a:ext cx="0" cy="2286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98800" y="4648320"/>
              <a:ext cx="0" cy="2286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27240" y="4648320"/>
              <a:ext cx="17906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965840" y="4641840"/>
            <a:ext cx="110484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51600" y="4648320"/>
            <a:ext cx="0" cy="2286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84920" y="4648320"/>
            <a:ext cx="0" cy="2286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442120" y="4343400"/>
            <a:ext cx="0" cy="3049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4360" y="1628640"/>
            <a:ext cx="304560" cy="457200"/>
          </a:xfrm>
          <a:prstGeom prst="ellipse">
            <a:avLst/>
          </a:prstGeom>
          <a:solidFill>
            <a:srgbClr val="0000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1773360"/>
            <a:ext cx="304560" cy="457200"/>
          </a:xfrm>
          <a:prstGeom prst="ellipse">
            <a:avLst/>
          </a:prstGeom>
          <a:solidFill>
            <a:srgbClr val="0000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29440" y="1341360"/>
            <a:ext cx="304560" cy="457200"/>
          </a:xfrm>
          <a:prstGeom prst="ellipse">
            <a:avLst/>
          </a:prstGeom>
          <a:solidFill>
            <a:srgbClr val="0000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29440" y="2637000"/>
            <a:ext cx="304560" cy="457200"/>
          </a:xfrm>
          <a:prstGeom prst="ellipse">
            <a:avLst/>
          </a:prstGeom>
          <a:solidFill>
            <a:srgbClr val="0000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167160" y="1905120"/>
            <a:ext cx="493560" cy="2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37080" y="3284640"/>
            <a:ext cx="304560" cy="457200"/>
          </a:xfrm>
          <a:prstGeom prst="ellipse">
            <a:avLst/>
          </a:prstGeom>
          <a:solidFill>
            <a:srgbClr val="0000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35240" y="2997360"/>
            <a:ext cx="0" cy="16380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35240" y="4648320"/>
            <a:ext cx="0" cy="2286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16191" t="52288" r="3882" b="29715"/>
          <a:stretch/>
        </p:blipFill>
        <p:spPr>
          <a:xfrm>
            <a:off x="144360" y="4869000"/>
            <a:ext cx="7812360" cy="13190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4984920" y="1844640"/>
            <a:ext cx="1009440" cy="50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984920" y="3573360"/>
            <a:ext cx="1009440" cy="50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298520" y="1557360"/>
            <a:ext cx="1944720" cy="14587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6804000" y="1484280"/>
            <a:ext cx="1692360" cy="1270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227240" y="1844640"/>
            <a:ext cx="1655640" cy="14436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20720" y="3213000"/>
            <a:ext cx="1175040" cy="12193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нали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916000" y="3860640"/>
            <a:ext cx="1871640" cy="3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627200" y="2868480"/>
            <a:ext cx="1755720" cy="51120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21240" y="3006720"/>
            <a:ext cx="12852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Прод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509840" y="1730520"/>
            <a:ext cx="2035080" cy="1116000"/>
            <a:chOff x="1509840" y="1730520"/>
            <a:chExt cx="2035080" cy="1116000"/>
          </a:xfrm>
        </p:grpSpPr>
        <p:sp>
          <p:nvSpPr>
            <p:cNvPr id="204" name=""/>
            <p:cNvSpPr/>
            <p:nvPr/>
          </p:nvSpPr>
          <p:spPr>
            <a:xfrm>
              <a:off x="1509840" y="1730520"/>
              <a:ext cx="2035080" cy="1116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08240" y="2117880"/>
              <a:ext cx="627120" cy="4158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40240" y="1816200"/>
              <a:ext cx="144684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3200" bIns="43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5720"/>
                  <a:tab algn="l" pos="1711440"/>
                  <a:tab algn="l" pos="2567160"/>
                  <a:tab algn="l" pos="3422520"/>
                  <a:tab algn="l" pos="4278240"/>
                  <a:tab algn="l" pos="5133960"/>
                  <a:tab algn="l" pos="5989680"/>
                  <a:tab algn="l" pos="6845400"/>
                  <a:tab algn="l" pos="7701120"/>
                  <a:tab algn="l" pos="8556480"/>
                  <a:tab algn="l" pos="9412200"/>
                  <a:tab algn="l" pos="1026792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ЗАКАЗЧИ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544760" y="3454560"/>
            <a:ext cx="600120" cy="159840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6200000">
            <a:off x="1247400" y="4044240"/>
            <a:ext cx="128232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M / C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97080" y="3889440"/>
            <a:ext cx="598680" cy="121428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6200000">
            <a:off x="1896840" y="4338000"/>
            <a:ext cx="121212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97080" y="5167440"/>
            <a:ext cx="598680" cy="14760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97080" y="5403960"/>
            <a:ext cx="598680" cy="14580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97080" y="3654360"/>
            <a:ext cx="598680" cy="14760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67040" y="3975120"/>
            <a:ext cx="596880" cy="159876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2972880" y="4860360"/>
            <a:ext cx="46692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28640" y="5608800"/>
            <a:ext cx="1787760" cy="38088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20600" y="5661000"/>
            <a:ext cx="121968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97080" y="3443400"/>
            <a:ext cx="598680" cy="14760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157800" y="1730520"/>
            <a:ext cx="2158920" cy="4279680"/>
            <a:chOff x="6157800" y="1730520"/>
            <a:chExt cx="2158920" cy="4279680"/>
          </a:xfrm>
        </p:grpSpPr>
        <p:sp>
          <p:nvSpPr>
            <p:cNvPr id="220" name=""/>
            <p:cNvSpPr/>
            <p:nvPr/>
          </p:nvSpPr>
          <p:spPr>
            <a:xfrm>
              <a:off x="6157800" y="1730520"/>
              <a:ext cx="2158920" cy="1415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99040" y="2219400"/>
              <a:ext cx="665280" cy="4381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88040" y="2379600"/>
              <a:ext cx="2046240" cy="1173240"/>
            </a:xfrm>
            <a:prstGeom prst="triangle">
              <a:avLst>
                <a:gd name="adj" fmla="val 50495"/>
              </a:avLst>
            </a:prstGeom>
            <a:solidFill>
              <a:srgbClr val="b2b2b2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878880" y="3027240"/>
              <a:ext cx="68472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3200" bIns="43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5720"/>
                  <a:tab algn="l" pos="1711440"/>
                  <a:tab algn="l" pos="2567160"/>
                  <a:tab algn="l" pos="3422520"/>
                  <a:tab algn="l" pos="4278240"/>
                  <a:tab algn="l" pos="5133960"/>
                  <a:tab algn="l" pos="5989680"/>
                  <a:tab algn="l" pos="6845400"/>
                  <a:tab algn="l" pos="7701120"/>
                  <a:tab algn="l" pos="8556480"/>
                  <a:tab algn="l" pos="9412200"/>
                  <a:tab algn="l" pos="102679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C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52000" y="1855800"/>
              <a:ext cx="144684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5720"/>
                  <a:tab algn="l" pos="1711440"/>
                  <a:tab algn="l" pos="2567160"/>
                  <a:tab algn="l" pos="3422520"/>
                  <a:tab algn="l" pos="4278240"/>
                  <a:tab algn="l" pos="5133960"/>
                  <a:tab algn="l" pos="5989680"/>
                  <a:tab algn="l" pos="6845400"/>
                  <a:tab algn="l" pos="7701120"/>
                  <a:tab algn="l" pos="8556480"/>
                  <a:tab algn="l" pos="9412200"/>
                  <a:tab algn="l" pos="1026792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ЗАКАЗЧИ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83000" y="5419800"/>
              <a:ext cx="2055960" cy="590400"/>
            </a:xfrm>
            <a:custGeom>
              <a:avLst/>
              <a:gdLst/>
              <a:ahLst/>
              <a:rect l="l" t="t" r="r" b="b"/>
              <a:pathLst>
                <a:path w="1554" h="397">
                  <a:moveTo>
                    <a:pt x="199" y="0"/>
                  </a:moveTo>
                  <a:lnTo>
                    <a:pt x="0" y="0"/>
                  </a:lnTo>
                  <a:lnTo>
                    <a:pt x="0" y="396"/>
                  </a:lnTo>
                  <a:lnTo>
                    <a:pt x="1553" y="396"/>
                  </a:lnTo>
                  <a:lnTo>
                    <a:pt x="1553" y="0"/>
                  </a:lnTo>
                  <a:lnTo>
                    <a:pt x="1354" y="0"/>
                  </a:lnTo>
                  <a:lnTo>
                    <a:pt x="1354" y="72"/>
                  </a:lnTo>
                  <a:lnTo>
                    <a:pt x="1234" y="72"/>
                  </a:lnTo>
                  <a:lnTo>
                    <a:pt x="1234" y="0"/>
                  </a:lnTo>
                  <a:lnTo>
                    <a:pt x="836" y="0"/>
                  </a:lnTo>
                  <a:lnTo>
                    <a:pt x="836" y="72"/>
                  </a:lnTo>
                  <a:lnTo>
                    <a:pt x="717" y="72"/>
                  </a:lnTo>
                  <a:lnTo>
                    <a:pt x="717" y="0"/>
                  </a:lnTo>
                  <a:lnTo>
                    <a:pt x="319" y="0"/>
                  </a:lnTo>
                  <a:lnTo>
                    <a:pt x="319" y="72"/>
                  </a:lnTo>
                  <a:lnTo>
                    <a:pt x="199" y="72"/>
                  </a:lnTo>
                  <a:lnTo>
                    <a:pt x="199" y="0"/>
                  </a:lnTo>
                </a:path>
              </a:pathLst>
            </a:custGeom>
            <a:solidFill>
              <a:srgbClr val="b2b2b2"/>
            </a:solidFill>
            <a:ln cap="rnd" w="255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83000" y="3457800"/>
              <a:ext cx="817560" cy="2089080"/>
            </a:xfrm>
            <a:custGeom>
              <a:avLst/>
              <a:gdLst/>
              <a:ahLst/>
              <a:rect l="l" t="t" r="r" b="b"/>
              <a:pathLst>
                <a:path w="617" h="1403">
                  <a:moveTo>
                    <a:pt x="0" y="72"/>
                  </a:moveTo>
                  <a:lnTo>
                    <a:pt x="0" y="1330"/>
                  </a:lnTo>
                  <a:lnTo>
                    <a:pt x="205" y="1330"/>
                  </a:lnTo>
                  <a:lnTo>
                    <a:pt x="205" y="1402"/>
                  </a:lnTo>
                  <a:lnTo>
                    <a:pt x="329" y="1402"/>
                  </a:lnTo>
                  <a:lnTo>
                    <a:pt x="329" y="1330"/>
                  </a:lnTo>
                  <a:lnTo>
                    <a:pt x="534" y="1330"/>
                  </a:lnTo>
                  <a:lnTo>
                    <a:pt x="534" y="1078"/>
                  </a:lnTo>
                  <a:lnTo>
                    <a:pt x="616" y="1078"/>
                  </a:lnTo>
                  <a:lnTo>
                    <a:pt x="616" y="971"/>
                  </a:lnTo>
                  <a:lnTo>
                    <a:pt x="534" y="971"/>
                  </a:lnTo>
                  <a:lnTo>
                    <a:pt x="534" y="791"/>
                  </a:lnTo>
                  <a:lnTo>
                    <a:pt x="534" y="755"/>
                  </a:lnTo>
                  <a:lnTo>
                    <a:pt x="452" y="755"/>
                  </a:lnTo>
                  <a:lnTo>
                    <a:pt x="452" y="647"/>
                  </a:lnTo>
                  <a:lnTo>
                    <a:pt x="534" y="647"/>
                  </a:lnTo>
                  <a:lnTo>
                    <a:pt x="534" y="395"/>
                  </a:lnTo>
                  <a:lnTo>
                    <a:pt x="616" y="395"/>
                  </a:lnTo>
                  <a:lnTo>
                    <a:pt x="616" y="288"/>
                  </a:lnTo>
                  <a:lnTo>
                    <a:pt x="534" y="288"/>
                  </a:lnTo>
                  <a:lnTo>
                    <a:pt x="534" y="72"/>
                  </a:lnTo>
                  <a:lnTo>
                    <a:pt x="370" y="72"/>
                  </a:lnTo>
                  <a:lnTo>
                    <a:pt x="370" y="0"/>
                  </a:lnTo>
                  <a:lnTo>
                    <a:pt x="246" y="0"/>
                  </a:lnTo>
                  <a:lnTo>
                    <a:pt x="246" y="72"/>
                  </a:lnTo>
                  <a:lnTo>
                    <a:pt x="0" y="72"/>
                  </a:lnTo>
                </a:path>
              </a:pathLst>
            </a:custGeom>
            <a:solidFill>
              <a:srgbClr val="b2b2b2"/>
            </a:solidFill>
            <a:ln cap="rnd" w="255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29320" y="3457800"/>
              <a:ext cx="816120" cy="2089080"/>
            </a:xfrm>
            <a:custGeom>
              <a:avLst/>
              <a:gdLst/>
              <a:ahLst/>
              <a:rect l="l" t="t" r="r" b="b"/>
              <a:pathLst>
                <a:path w="617" h="1403">
                  <a:moveTo>
                    <a:pt x="616" y="72"/>
                  </a:moveTo>
                  <a:lnTo>
                    <a:pt x="616" y="1330"/>
                  </a:lnTo>
                  <a:lnTo>
                    <a:pt x="411" y="1330"/>
                  </a:lnTo>
                  <a:lnTo>
                    <a:pt x="411" y="1402"/>
                  </a:lnTo>
                  <a:lnTo>
                    <a:pt x="287" y="1402"/>
                  </a:lnTo>
                  <a:lnTo>
                    <a:pt x="287" y="1330"/>
                  </a:lnTo>
                  <a:lnTo>
                    <a:pt x="82" y="1330"/>
                  </a:lnTo>
                  <a:lnTo>
                    <a:pt x="82" y="1078"/>
                  </a:lnTo>
                  <a:lnTo>
                    <a:pt x="0" y="1078"/>
                  </a:lnTo>
                  <a:lnTo>
                    <a:pt x="0" y="971"/>
                  </a:lnTo>
                  <a:lnTo>
                    <a:pt x="82" y="971"/>
                  </a:lnTo>
                  <a:lnTo>
                    <a:pt x="82" y="791"/>
                  </a:lnTo>
                  <a:lnTo>
                    <a:pt x="82" y="755"/>
                  </a:lnTo>
                  <a:lnTo>
                    <a:pt x="164" y="755"/>
                  </a:lnTo>
                  <a:lnTo>
                    <a:pt x="164" y="647"/>
                  </a:lnTo>
                  <a:lnTo>
                    <a:pt x="82" y="647"/>
                  </a:lnTo>
                  <a:lnTo>
                    <a:pt x="82" y="395"/>
                  </a:lnTo>
                  <a:lnTo>
                    <a:pt x="0" y="395"/>
                  </a:lnTo>
                  <a:lnTo>
                    <a:pt x="0" y="288"/>
                  </a:lnTo>
                  <a:lnTo>
                    <a:pt x="82" y="288"/>
                  </a:lnTo>
                  <a:lnTo>
                    <a:pt x="82" y="72"/>
                  </a:lnTo>
                  <a:lnTo>
                    <a:pt x="246" y="72"/>
                  </a:lnTo>
                  <a:lnTo>
                    <a:pt x="246" y="0"/>
                  </a:lnTo>
                  <a:lnTo>
                    <a:pt x="370" y="0"/>
                  </a:lnTo>
                  <a:lnTo>
                    <a:pt x="370" y="72"/>
                  </a:lnTo>
                  <a:lnTo>
                    <a:pt x="616" y="72"/>
                  </a:lnTo>
                </a:path>
              </a:pathLst>
            </a:custGeom>
            <a:solidFill>
              <a:srgbClr val="b2b2b2"/>
            </a:solidFill>
            <a:ln cap="rnd" w="255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43520" y="3457800"/>
              <a:ext cx="923760" cy="2089080"/>
            </a:xfrm>
            <a:custGeom>
              <a:avLst/>
              <a:gdLst/>
              <a:ahLst/>
              <a:rect l="l" t="t" r="r" b="b"/>
              <a:pathLst>
                <a:path w="699" h="1403">
                  <a:moveTo>
                    <a:pt x="616" y="72"/>
                  </a:moveTo>
                  <a:lnTo>
                    <a:pt x="411" y="72"/>
                  </a:lnTo>
                  <a:lnTo>
                    <a:pt x="411" y="0"/>
                  </a:lnTo>
                  <a:lnTo>
                    <a:pt x="287" y="0"/>
                  </a:lnTo>
                  <a:lnTo>
                    <a:pt x="287" y="72"/>
                  </a:lnTo>
                  <a:lnTo>
                    <a:pt x="82" y="72"/>
                  </a:lnTo>
                  <a:lnTo>
                    <a:pt x="82" y="288"/>
                  </a:lnTo>
                  <a:lnTo>
                    <a:pt x="164" y="288"/>
                  </a:lnTo>
                  <a:lnTo>
                    <a:pt x="164" y="395"/>
                  </a:lnTo>
                  <a:lnTo>
                    <a:pt x="82" y="395"/>
                  </a:lnTo>
                  <a:lnTo>
                    <a:pt x="82" y="647"/>
                  </a:lnTo>
                  <a:lnTo>
                    <a:pt x="0" y="647"/>
                  </a:lnTo>
                  <a:lnTo>
                    <a:pt x="0" y="755"/>
                  </a:lnTo>
                  <a:lnTo>
                    <a:pt x="82" y="755"/>
                  </a:lnTo>
                  <a:lnTo>
                    <a:pt x="82" y="971"/>
                  </a:lnTo>
                  <a:lnTo>
                    <a:pt x="164" y="971"/>
                  </a:lnTo>
                  <a:lnTo>
                    <a:pt x="164" y="1078"/>
                  </a:lnTo>
                  <a:lnTo>
                    <a:pt x="82" y="1078"/>
                  </a:lnTo>
                  <a:lnTo>
                    <a:pt x="82" y="1330"/>
                  </a:lnTo>
                  <a:lnTo>
                    <a:pt x="287" y="1330"/>
                  </a:lnTo>
                  <a:lnTo>
                    <a:pt x="287" y="1402"/>
                  </a:lnTo>
                  <a:lnTo>
                    <a:pt x="411" y="1402"/>
                  </a:lnTo>
                  <a:lnTo>
                    <a:pt x="411" y="1330"/>
                  </a:lnTo>
                  <a:lnTo>
                    <a:pt x="616" y="1330"/>
                  </a:lnTo>
                  <a:lnTo>
                    <a:pt x="616" y="1078"/>
                  </a:lnTo>
                  <a:lnTo>
                    <a:pt x="534" y="1078"/>
                  </a:lnTo>
                  <a:lnTo>
                    <a:pt x="534" y="971"/>
                  </a:lnTo>
                  <a:lnTo>
                    <a:pt x="616" y="971"/>
                  </a:lnTo>
                  <a:lnTo>
                    <a:pt x="616" y="755"/>
                  </a:lnTo>
                  <a:lnTo>
                    <a:pt x="698" y="755"/>
                  </a:lnTo>
                  <a:lnTo>
                    <a:pt x="698" y="647"/>
                  </a:lnTo>
                  <a:lnTo>
                    <a:pt x="616" y="647"/>
                  </a:lnTo>
                  <a:lnTo>
                    <a:pt x="616" y="395"/>
                  </a:lnTo>
                  <a:lnTo>
                    <a:pt x="534" y="395"/>
                  </a:lnTo>
                  <a:lnTo>
                    <a:pt x="534" y="288"/>
                  </a:lnTo>
                  <a:lnTo>
                    <a:pt x="616" y="288"/>
                  </a:lnTo>
                  <a:lnTo>
                    <a:pt x="616" y="72"/>
                  </a:lnTo>
                </a:path>
              </a:pathLst>
            </a:custGeom>
            <a:solidFill>
              <a:srgbClr val="b2b2b2"/>
            </a:solidFill>
            <a:ln cap="rnd" w="255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6200000">
              <a:off x="6250680" y="4577760"/>
              <a:ext cx="46692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5720"/>
                  <a:tab algn="l" pos="1711440"/>
                  <a:tab algn="l" pos="2567160"/>
                  <a:tab algn="l" pos="3422520"/>
                  <a:tab algn="l" pos="4278240"/>
                  <a:tab algn="l" pos="5133960"/>
                  <a:tab algn="l" pos="5989680"/>
                  <a:tab algn="l" pos="6845400"/>
                  <a:tab algn="l" pos="7701120"/>
                  <a:tab algn="l" pos="8556480"/>
                  <a:tab algn="l" pos="9412200"/>
                  <a:tab algn="l" pos="102679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P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6607080" y="4341240"/>
              <a:ext cx="121212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5720"/>
                  <a:tab algn="l" pos="1711440"/>
                  <a:tab algn="l" pos="2567160"/>
                  <a:tab algn="l" pos="3422520"/>
                  <a:tab algn="l" pos="4278240"/>
                  <a:tab algn="l" pos="5133960"/>
                  <a:tab algn="l" pos="5989680"/>
                  <a:tab algn="l" pos="6845400"/>
                  <a:tab algn="l" pos="7701120"/>
                  <a:tab algn="l" pos="8556480"/>
                  <a:tab algn="l" pos="9412200"/>
                  <a:tab algn="l" pos="1026792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Рекла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6200000">
              <a:off x="7656840" y="4522320"/>
              <a:ext cx="55692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3200" bIns="43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5720"/>
                  <a:tab algn="l" pos="1711440"/>
                  <a:tab algn="l" pos="2567160"/>
                  <a:tab algn="l" pos="3422520"/>
                  <a:tab algn="l" pos="4278240"/>
                  <a:tab algn="l" pos="5133960"/>
                  <a:tab algn="l" pos="5989680"/>
                  <a:tab algn="l" pos="6845400"/>
                  <a:tab algn="l" pos="7701120"/>
                  <a:tab algn="l" pos="8556480"/>
                  <a:tab algn="l" pos="9412200"/>
                  <a:tab algn="l" pos="102679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51120" y="5634000"/>
              <a:ext cx="121968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3200" bIns="43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5720"/>
                  <a:tab algn="l" pos="1711440"/>
                  <a:tab algn="l" pos="2567160"/>
                  <a:tab algn="l" pos="3422520"/>
                  <a:tab algn="l" pos="4278240"/>
                  <a:tab algn="l" pos="5133960"/>
                  <a:tab algn="l" pos="5989680"/>
                  <a:tab algn="l" pos="6845400"/>
                  <a:tab algn="l" pos="7701120"/>
                  <a:tab algn="l" pos="8556480"/>
                  <a:tab algn="l" pos="9412200"/>
                  <a:tab algn="l" pos="102679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Re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598680" y="260280"/>
            <a:ext cx="72050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 Black"/>
              </a:rPr>
              <a:t>Q&amp;A</a:t>
            </a:r>
            <a:r>
              <a:rPr b="0" lang="ru-RU" sz="3200" spc="-1" strike="noStrike">
                <a:solidFill>
                  <a:srgbClr val="800000"/>
                </a:solidFill>
                <a:latin typeface="Arial Black"/>
              </a:rPr>
              <a:t>: </a:t>
            </a:r>
            <a:r>
              <a:rPr b="0" lang="en-US" sz="3200" spc="-1" strike="noStrike">
                <a:solidFill>
                  <a:srgbClr val="800000"/>
                </a:solidFill>
                <a:latin typeface="Arial Black"/>
              </a:rPr>
              <a:t>3</a:t>
            </a:r>
            <a:r>
              <a:rPr b="0" lang="ru-RU" sz="3200" spc="-1" strike="noStrike">
                <a:solidFill>
                  <a:srgbClr val="800000"/>
                </a:solidFill>
                <a:latin typeface="Arial Black"/>
              </a:rPr>
              <a:t>) Как интегрировать усил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51280" y="3500280"/>
            <a:ext cx="1944720" cy="1657440"/>
          </a:xfrm>
          <a:custGeom>
            <a:avLst/>
            <a:gdLst>
              <a:gd name="textAreaLeft" fmla="*/ 303840 w 1944720"/>
              <a:gd name="textAreaRight" fmla="*/ 1701720 w 1944720"/>
              <a:gd name="textAreaTop" fmla="*/ 414360 h 1657440"/>
              <a:gd name="textAreaBottom" fmla="*/ 1243080 h 165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 Black"/>
              </a:rPr>
              <a:t>СТРАТЕГИЯ ИНТЕГРАЦИИ</a:t>
            </a:r>
            <a:br>
              <a:rPr sz="2800"/>
            </a:br>
            <a:r>
              <a:rPr b="0" lang="en-US" sz="2800" spc="-1" strike="noStrike">
                <a:solidFill>
                  <a:srgbClr val="800000"/>
                </a:solidFill>
                <a:latin typeface="Arial Black"/>
              </a:rPr>
              <a:t>Research </a:t>
            </a:r>
            <a:r>
              <a:rPr b="0" lang="ru-RU" sz="2800" spc="-1" strike="noStrike">
                <a:solidFill>
                  <a:srgbClr val="800000"/>
                </a:solidFill>
                <a:latin typeface="Arial Black"/>
              </a:rPr>
              <a:t>*</a:t>
            </a:r>
            <a:r>
              <a:rPr b="0" lang="en-US" sz="2800" spc="-1" strike="noStrike">
                <a:solidFill>
                  <a:srgbClr val="800000"/>
                </a:solidFill>
                <a:latin typeface="Arial Black"/>
              </a:rPr>
              <a:t> PR * ATL * BTL </a:t>
            </a:r>
            <a:r>
              <a:rPr b="0" lang="ru-RU" sz="2800" spc="-1" strike="noStrike">
                <a:solidFill>
                  <a:srgbClr val="800000"/>
                </a:solidFill>
                <a:latin typeface="Arial Black"/>
              </a:rPr>
              <a:t>*</a:t>
            </a:r>
            <a:r>
              <a:rPr b="0" lang="en-US" sz="2800" spc="-1" strike="noStrike">
                <a:solidFill>
                  <a:srgbClr val="800000"/>
                </a:solidFill>
                <a:latin typeface="Arial Black"/>
              </a:rPr>
              <a:t> CRM</a:t>
            </a:r>
            <a:endParaRPr b="0" lang="en-US" sz="28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2124000" y="2809800"/>
            <a:ext cx="1656000" cy="459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Креативные» сцена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24000" y="3648240"/>
            <a:ext cx="1656000" cy="2764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мо-иде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67280" y="2900520"/>
            <a:ext cx="1296720" cy="2764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с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613480" y="2900520"/>
            <a:ext cx="1046160" cy="2764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L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067280" y="3648240"/>
            <a:ext cx="1296720" cy="2764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с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613480" y="3648240"/>
            <a:ext cx="1046160" cy="2764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TL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08160" y="2852640"/>
            <a:ext cx="555480" cy="106056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сследова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028000" y="2540160"/>
            <a:ext cx="865080" cy="167616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лика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версии,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020000" y="2540160"/>
            <a:ext cx="747720" cy="167616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клама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М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0"/>
            <a:endCxn id="246" idx="3"/>
          </p:cNvCxnSpPr>
          <p:nvPr/>
        </p:nvCxnSpPr>
        <p:spPr>
          <a:xfrm flipV="1" rot="16200000">
            <a:off x="7302600" y="1361880"/>
            <a:ext cx="823320" cy="1494720"/>
          </a:xfrm>
          <a:prstGeom prst="bentConnector2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47" name=""/>
          <p:cNvCxnSpPr>
            <a:stCxn id="241" idx="3"/>
            <a:endCxn id="244" idx="1"/>
          </p:cNvCxnSpPr>
          <p:nvPr/>
        </p:nvCxnSpPr>
        <p:spPr>
          <a:xfrm flipV="1">
            <a:off x="6678360" y="3377880"/>
            <a:ext cx="322920" cy="42768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48" name=""/>
          <p:cNvCxnSpPr>
            <a:stCxn id="239" idx="3"/>
            <a:endCxn id="244" idx="1"/>
          </p:cNvCxnSpPr>
          <p:nvPr/>
        </p:nvCxnSpPr>
        <p:spPr>
          <a:xfrm>
            <a:off x="6678360" y="3057120"/>
            <a:ext cx="322920" cy="32148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36" idx="3"/>
            <a:endCxn id="238" idx="1"/>
          </p:cNvCxnSpPr>
          <p:nvPr/>
        </p:nvCxnSpPr>
        <p:spPr>
          <a:xfrm>
            <a:off x="3798360" y="3057120"/>
            <a:ext cx="250200" cy="1080"/>
          </a:xfrm>
          <a:prstGeom prst="bentConnector2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37" idx="3"/>
            <a:endCxn id="240" idx="1"/>
          </p:cNvCxnSpPr>
          <p:nvPr/>
        </p:nvCxnSpPr>
        <p:spPr>
          <a:xfrm>
            <a:off x="3798360" y="3804840"/>
            <a:ext cx="250200" cy="1080"/>
          </a:xfrm>
          <a:prstGeom prst="bentConnector2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38" idx="3"/>
            <a:endCxn id="239" idx="1"/>
          </p:cNvCxnSpPr>
          <p:nvPr/>
        </p:nvCxnSpPr>
        <p:spPr>
          <a:xfrm>
            <a:off x="5382720" y="3057120"/>
            <a:ext cx="212040" cy="108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0" idx="3"/>
            <a:endCxn id="241" idx="1"/>
          </p:cNvCxnSpPr>
          <p:nvPr/>
        </p:nvCxnSpPr>
        <p:spPr>
          <a:xfrm>
            <a:off x="5382720" y="3804840"/>
            <a:ext cx="212040" cy="108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42" idx="3"/>
            <a:endCxn id="237" idx="1"/>
          </p:cNvCxnSpPr>
          <p:nvPr/>
        </p:nvCxnSpPr>
        <p:spPr>
          <a:xfrm>
            <a:off x="1782360" y="3382560"/>
            <a:ext cx="322920" cy="42300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42" idx="3"/>
            <a:endCxn id="236" idx="1"/>
          </p:cNvCxnSpPr>
          <p:nvPr/>
        </p:nvCxnSpPr>
        <p:spPr>
          <a:xfrm flipV="1">
            <a:off x="1782360" y="3057120"/>
            <a:ext cx="322920" cy="32616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37" idx="0"/>
            <a:endCxn id="236" idx="2"/>
          </p:cNvCxnSpPr>
          <p:nvPr/>
        </p:nvCxnSpPr>
        <p:spPr>
          <a:xfrm flipV="1">
            <a:off x="2952360" y="3323520"/>
            <a:ext cx="1080" cy="30564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6" name=""/>
          <p:cNvCxnSpPr>
            <a:stCxn id="240" idx="0"/>
            <a:endCxn id="238" idx="2"/>
          </p:cNvCxnSpPr>
          <p:nvPr/>
        </p:nvCxnSpPr>
        <p:spPr>
          <a:xfrm flipV="1">
            <a:off x="4716000" y="3231360"/>
            <a:ext cx="1080" cy="39780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0" y="5877000"/>
            <a:ext cx="8928000" cy="3070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за знаний о клиентах, партнерах, конкурентах, «реальная картина мир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57080" y="4149720"/>
            <a:ext cx="1511280" cy="5767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Опросы и анкетирова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ine / off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71640" y="1916280"/>
            <a:ext cx="1092240" cy="77976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Открытая интернет-статистика</a:t>
            </a:r>
            <a:br>
              <a:rPr sz="900"/>
            </a:b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(поиск / счетчики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8" idx="0"/>
            <a:endCxn id="242" idx="2"/>
          </p:cNvCxnSpPr>
          <p:nvPr/>
        </p:nvCxnSpPr>
        <p:spPr>
          <a:xfrm flipH="1" flipV="1">
            <a:off x="1485720" y="3931560"/>
            <a:ext cx="27360" cy="19908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42" idx="0"/>
            <a:endCxn id="259" idx="2"/>
          </p:cNvCxnSpPr>
          <p:nvPr/>
        </p:nvCxnSpPr>
        <p:spPr>
          <a:xfrm flipV="1">
            <a:off x="1486080" y="2747520"/>
            <a:ext cx="32400" cy="8640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med" type="triangle" w="med"/>
          </a:ln>
        </p:spPr>
      </p:cxnSp>
      <p:cxnSp>
        <p:nvCxnSpPr>
          <p:cNvPr id="262" name=""/>
          <p:cNvCxnSpPr>
            <a:stCxn id="241" idx="0"/>
            <a:endCxn id="239" idx="2"/>
          </p:cNvCxnSpPr>
          <p:nvPr/>
        </p:nvCxnSpPr>
        <p:spPr>
          <a:xfrm flipV="1">
            <a:off x="6136920" y="3231360"/>
            <a:ext cx="1080" cy="39780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2411280" y="1557360"/>
            <a:ext cx="4537080" cy="2462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ПТИМИЗА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508640"/>
            <a:ext cx="3946680" cy="24624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«Коммьюнити» (программа лояльности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44" idx="3"/>
            <a:endCxn id="243" idx="1"/>
          </p:cNvCxnSpPr>
          <p:nvPr/>
        </p:nvCxnSpPr>
        <p:spPr>
          <a:xfrm>
            <a:off x="7786440" y="3377880"/>
            <a:ext cx="222840" cy="108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4284720" y="5300640"/>
            <a:ext cx="0" cy="5047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861080" y="5300640"/>
            <a:ext cx="0" cy="5047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148360" y="5300640"/>
            <a:ext cx="0" cy="5047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22920" y="5300640"/>
            <a:ext cx="0" cy="5047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116000" y="5300640"/>
            <a:ext cx="0" cy="5047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405080" y="5300640"/>
            <a:ext cx="0" cy="5047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92360" y="5300640"/>
            <a:ext cx="0" cy="5047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56360" y="5300640"/>
            <a:ext cx="0" cy="5047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708360" y="5300640"/>
            <a:ext cx="0" cy="5047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589800" y="5300640"/>
            <a:ext cx="0" cy="5047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165800" y="5300640"/>
            <a:ext cx="0" cy="5047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453440" y="5300640"/>
            <a:ext cx="0" cy="5047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740720" y="5300640"/>
            <a:ext cx="0" cy="5047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029440" y="5300640"/>
            <a:ext cx="0" cy="5047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317080" y="5300640"/>
            <a:ext cx="0" cy="5047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893080" y="5300640"/>
            <a:ext cx="0" cy="5047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0" y="5300640"/>
            <a:ext cx="0" cy="5047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987640" y="5300640"/>
            <a:ext cx="0" cy="50472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"/>
          <p:cNvCxnSpPr>
            <a:stCxn id="238" idx="0"/>
            <a:endCxn id="246" idx="2"/>
          </p:cNvCxnSpPr>
          <p:nvPr/>
        </p:nvCxnSpPr>
        <p:spPr>
          <a:xfrm flipH="1" flipV="1">
            <a:off x="4679280" y="1858680"/>
            <a:ext cx="37080" cy="102312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"/>
          <p:cNvCxnSpPr>
            <a:stCxn id="239" idx="0"/>
            <a:endCxn id="246" idx="2"/>
          </p:cNvCxnSpPr>
          <p:nvPr/>
        </p:nvCxnSpPr>
        <p:spPr>
          <a:xfrm flipH="1" flipV="1">
            <a:off x="4679640" y="1858680"/>
            <a:ext cx="1458000" cy="102312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5" name=""/>
          <p:cNvCxnSpPr>
            <a:stCxn id="263" idx="0"/>
            <a:endCxn id="240" idx="2"/>
          </p:cNvCxnSpPr>
          <p:nvPr/>
        </p:nvCxnSpPr>
        <p:spPr>
          <a:xfrm flipV="1">
            <a:off x="4600440" y="3979440"/>
            <a:ext cx="116640" cy="51048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6" name=""/>
          <p:cNvCxnSpPr>
            <a:stCxn id="241" idx="2"/>
            <a:endCxn id="263" idx="0"/>
          </p:cNvCxnSpPr>
          <p:nvPr/>
        </p:nvCxnSpPr>
        <p:spPr>
          <a:xfrm flipH="1">
            <a:off x="4599720" y="3979800"/>
            <a:ext cx="1537560" cy="51048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7" name=""/>
          <p:cNvCxnSpPr>
            <a:stCxn id="236" idx="0"/>
            <a:endCxn id="246" idx="2"/>
          </p:cNvCxnSpPr>
          <p:nvPr/>
        </p:nvCxnSpPr>
        <p:spPr>
          <a:xfrm flipV="1">
            <a:off x="2952720" y="1858680"/>
            <a:ext cx="1728000" cy="93240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8" name=""/>
          <p:cNvCxnSpPr>
            <a:stCxn id="263" idx="0"/>
            <a:endCxn id="237" idx="2"/>
          </p:cNvCxnSpPr>
          <p:nvPr/>
        </p:nvCxnSpPr>
        <p:spPr>
          <a:xfrm flipH="1" flipV="1">
            <a:off x="2952000" y="3979440"/>
            <a:ext cx="1648440" cy="51048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9" name=""/>
          <p:cNvCxnSpPr>
            <a:stCxn id="246" idx="1"/>
            <a:endCxn id="259" idx="0"/>
          </p:cNvCxnSpPr>
          <p:nvPr/>
        </p:nvCxnSpPr>
        <p:spPr>
          <a:xfrm flipV="1" rot="10800000">
            <a:off x="1517040" y="1698120"/>
            <a:ext cx="875160" cy="199440"/>
          </a:xfrm>
          <a:prstGeom prst="bentConnector2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8172360" y="189000"/>
            <a:ext cx="851040" cy="8506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755640" y="4941720"/>
            <a:ext cx="8137440" cy="3070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дажи, статистика обращений, регистрационные данные, мнения и отзывы, идеи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259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 Black"/>
              </a:rPr>
              <a:t>Исследуйте и анализируйте!</a:t>
            </a:r>
            <a:endParaRPr b="0" lang="en-US" sz="32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Интернет-статистика поможет сформировать понимание проблем и гипотезы относительно путей их решения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Чего хотят потенциальные покупатели? (анализ поисковых запросов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Что они находят и покупают? (анализ продаж, траффика, конкурентов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очему, как (где) они покупают (Опрос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-house | offline | on-lin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ортрет целевой аудитории (Анкетирование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-house | offline | on-lin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нтересы / Симпатии / Антипатии (Опрос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География / Демография / Психография (анкетировани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едиа-предпочтения и практика поиска информации (Опрос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тношение к компании, ее продукции и уровню сервиса (Опрос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rcRect l="4316" t="0" r="0" b="0"/>
          <a:stretch/>
        </p:blipFill>
        <p:spPr>
          <a:xfrm>
            <a:off x="324000" y="5084640"/>
            <a:ext cx="1760400" cy="10731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5292720" y="5084640"/>
            <a:ext cx="1239840" cy="10796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2987640" y="5084640"/>
            <a:ext cx="1062000" cy="10810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7740720" y="5084640"/>
            <a:ext cx="7430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8T18:07:05Z</dcterms:created>
  <dc:creator>Кирилл Чистов</dc:creator>
  <dc:description/>
  <cp:keywords>e-mail marketing retention loyalty acquisition drive sales</cp:keywords>
  <dc:language>en-US</dc:language>
  <cp:lastModifiedBy>Kirill Chistov</cp:lastModifiedBy>
  <dcterms:modified xsi:type="dcterms:W3CDTF">2005-09-16T04:36:21Z</dcterms:modified>
  <cp:revision>174</cp:revision>
  <dc:subject>Информационные каналы в борьбе за клиентуру</dc:subject>
  <dc:title>InfoChannels and Customer Retention</dc:title>
</cp:coreProperties>
</file>